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A40-E660-424E-AD1F-B1052B38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C423-6D3F-4E8B-AA84-EA9DB051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5253-EA3F-47BB-8EF6-2E51990A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6445-30E9-47F5-8EE7-C6868348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5D81-0F08-4E86-926F-E45E2CE7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32DE-E1FC-4E46-946F-FD4590EC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B277-84CB-4AE8-A45D-A1D510B2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E3F5-1823-4A17-91BB-989FFBCF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DAA4-F20A-46F6-8586-3E785B40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CFD8-3456-4057-9B73-4053E45D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B21B-D4E1-4E5A-967E-63579B16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3580-1E8C-4D14-AC14-3A91DBF3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DB7D-1DF3-456A-84C3-F6FC864D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28CF-FDB1-48C4-8516-E5D77864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3B5B-CE85-4880-A423-D37F1A0C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2117-93A3-401F-BBC4-B5752B37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E8DB-E585-440F-9B2B-1A2C6200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AE42-4DF4-4AB4-9F57-04FEE837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7FE-F38D-4BDD-B4DA-AF0E28FA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7AF6-3A2A-4CF4-B843-4D94C905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7B2-1EE2-4439-A498-35CDA669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498-6841-4E1D-9FA4-1DB576A0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62C3-D4EC-4909-B399-9ED5B855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2D1E-1B5C-467F-9A14-7A9652E5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276E-1CD1-46B8-9680-4BB5CC3F32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93A8-4771-46C4-B333-E69270327C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rm-up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4 x 2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/3 x 3 3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5/6 x 2 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2120" y="1554120"/>
            <a:ext cx="152640" cy="509760"/>
          </a:xfrm>
          <a:custGeom>
            <a:avLst/>
            <a:gdLst/>
            <a:ahLst/>
            <a:rect l="l" t="t" r="r" b="b"/>
            <a:pathLst>
              <a:path w="423" h="1415">
                <a:moveTo>
                  <a:pt x="10567" y="4316"/>
                </a:moveTo>
                <a:cubicBezTo>
                  <a:pt x="10586" y="4464"/>
                  <a:pt x="10602" y="4614"/>
                  <a:pt x="10616" y="4762"/>
                </a:cubicBezTo>
                <a:cubicBezTo>
                  <a:pt x="10616" y="4779"/>
                  <a:pt x="10616" y="4795"/>
                  <a:pt x="10616" y="4812"/>
                </a:cubicBezTo>
              </a:path>
              <a:path w="423" h="1415">
                <a:moveTo>
                  <a:pt x="10368" y="5035"/>
                </a:moveTo>
                <a:cubicBezTo>
                  <a:pt x="10491" y="5031"/>
                  <a:pt x="10744" y="4968"/>
                  <a:pt x="10790" y="5060"/>
                </a:cubicBezTo>
              </a:path>
              <a:path w="423" h="1415">
                <a:moveTo>
                  <a:pt x="10468" y="5308"/>
                </a:moveTo>
                <a:cubicBezTo>
                  <a:pt x="10450" y="5444"/>
                  <a:pt x="10440" y="5544"/>
                  <a:pt x="10616" y="5531"/>
                </a:cubicBezTo>
                <a:cubicBezTo>
                  <a:pt x="10717" y="5511"/>
                  <a:pt x="10737" y="5514"/>
                  <a:pt x="10790" y="5482"/>
                </a:cubicBezTo>
              </a:path>
              <a:path w="423" h="1415">
                <a:moveTo>
                  <a:pt x="10740" y="5283"/>
                </a:moveTo>
                <a:cubicBezTo>
                  <a:pt x="10719" y="5392"/>
                  <a:pt x="10665" y="5625"/>
                  <a:pt x="10716" y="5730"/>
                </a:cubicBezTo>
                <a:cubicBezTo>
                  <a:pt x="10724" y="5722"/>
                  <a:pt x="10732" y="5713"/>
                  <a:pt x="10740" y="57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44960" y="1544760"/>
            <a:ext cx="1697040" cy="563400"/>
          </a:xfrm>
          <a:custGeom>
            <a:avLst/>
            <a:gdLst/>
            <a:ahLst/>
            <a:rect l="l" t="t" r="r" b="b"/>
            <a:pathLst>
              <a:path w="4713" h="1564">
                <a:moveTo>
                  <a:pt x="11237" y="4911"/>
                </a:moveTo>
                <a:cubicBezTo>
                  <a:pt x="11280" y="5012"/>
                  <a:pt x="11360" y="5302"/>
                  <a:pt x="11485" y="5333"/>
                </a:cubicBezTo>
                <a:cubicBezTo>
                  <a:pt x="11493" y="5325"/>
                  <a:pt x="11501" y="5316"/>
                  <a:pt x="11509" y="5308"/>
                </a:cubicBezTo>
              </a:path>
              <a:path w="4713" h="1564">
                <a:moveTo>
                  <a:pt x="11559" y="4936"/>
                </a:moveTo>
                <a:cubicBezTo>
                  <a:pt x="11490" y="5055"/>
                  <a:pt x="11335" y="5306"/>
                  <a:pt x="11336" y="5383"/>
                </a:cubicBezTo>
              </a:path>
              <a:path w="4713" h="1564">
                <a:moveTo>
                  <a:pt x="11931" y="4465"/>
                </a:moveTo>
                <a:cubicBezTo>
                  <a:pt x="12051" y="4384"/>
                  <a:pt x="12231" y="4366"/>
                  <a:pt x="12303" y="4539"/>
                </a:cubicBezTo>
                <a:cubicBezTo>
                  <a:pt x="12426" y="4832"/>
                  <a:pt x="12109" y="4912"/>
                  <a:pt x="11931" y="4887"/>
                </a:cubicBezTo>
                <a:cubicBezTo>
                  <a:pt x="12016" y="4730"/>
                  <a:pt x="12204" y="4730"/>
                  <a:pt x="12402" y="4787"/>
                </a:cubicBezTo>
                <a:cubicBezTo>
                  <a:pt x="12410" y="4795"/>
                  <a:pt x="12419" y="4804"/>
                  <a:pt x="12427" y="4812"/>
                </a:cubicBezTo>
              </a:path>
              <a:path w="4713" h="1564">
                <a:moveTo>
                  <a:pt x="12055" y="5085"/>
                </a:moveTo>
                <a:cubicBezTo>
                  <a:pt x="12223" y="5043"/>
                  <a:pt x="12381" y="5003"/>
                  <a:pt x="12551" y="4986"/>
                </a:cubicBezTo>
              </a:path>
              <a:path w="4713" h="1564">
                <a:moveTo>
                  <a:pt x="12378" y="5184"/>
                </a:moveTo>
                <a:cubicBezTo>
                  <a:pt x="12273" y="5172"/>
                  <a:pt x="12051" y="5141"/>
                  <a:pt x="11981" y="5259"/>
                </a:cubicBezTo>
                <a:cubicBezTo>
                  <a:pt x="11962" y="5291"/>
                  <a:pt x="11981" y="5393"/>
                  <a:pt x="11981" y="5432"/>
                </a:cubicBezTo>
                <a:cubicBezTo>
                  <a:pt x="12119" y="5401"/>
                  <a:pt x="12380" y="5310"/>
                  <a:pt x="12502" y="5432"/>
                </a:cubicBezTo>
                <a:cubicBezTo>
                  <a:pt x="12502" y="5457"/>
                  <a:pt x="12502" y="5482"/>
                  <a:pt x="12502" y="5507"/>
                </a:cubicBezTo>
                <a:cubicBezTo>
                  <a:pt x="12323" y="5615"/>
                  <a:pt x="12203" y="5690"/>
                  <a:pt x="12055" y="5556"/>
                </a:cubicBezTo>
              </a:path>
              <a:path w="4713" h="1564">
                <a:moveTo>
                  <a:pt x="12824" y="4936"/>
                </a:moveTo>
                <a:cubicBezTo>
                  <a:pt x="12890" y="4903"/>
                  <a:pt x="12970" y="4884"/>
                  <a:pt x="13047" y="4862"/>
                </a:cubicBezTo>
              </a:path>
              <a:path w="4713" h="1564">
                <a:moveTo>
                  <a:pt x="12824" y="5085"/>
                </a:moveTo>
                <a:cubicBezTo>
                  <a:pt x="12998" y="5027"/>
                  <a:pt x="13072" y="5002"/>
                  <a:pt x="13196" y="4961"/>
                </a:cubicBezTo>
              </a:path>
              <a:path w="4713" h="1564">
                <a:moveTo>
                  <a:pt x="13196" y="4961"/>
                </a:moveTo>
                <a:lnTo>
                  <a:pt x="13196" y="4961"/>
                </a:lnTo>
              </a:path>
              <a:path w="4713" h="1564">
                <a:moveTo>
                  <a:pt x="13791" y="4465"/>
                </a:moveTo>
                <a:cubicBezTo>
                  <a:pt x="13802" y="4433"/>
                  <a:pt x="13825" y="4425"/>
                  <a:pt x="13866" y="4415"/>
                </a:cubicBezTo>
                <a:cubicBezTo>
                  <a:pt x="14017" y="4377"/>
                  <a:pt x="14047" y="4406"/>
                  <a:pt x="14163" y="4490"/>
                </a:cubicBezTo>
                <a:cubicBezTo>
                  <a:pt x="14109" y="4719"/>
                  <a:pt x="13995" y="4818"/>
                  <a:pt x="13742" y="4812"/>
                </a:cubicBezTo>
                <a:cubicBezTo>
                  <a:pt x="13717" y="4804"/>
                  <a:pt x="13692" y="4795"/>
                  <a:pt x="13667" y="4787"/>
                </a:cubicBezTo>
                <a:cubicBezTo>
                  <a:pt x="13789" y="4666"/>
                  <a:pt x="13945" y="4677"/>
                  <a:pt x="14114" y="4738"/>
                </a:cubicBezTo>
                <a:cubicBezTo>
                  <a:pt x="14139" y="4754"/>
                  <a:pt x="14163" y="4771"/>
                  <a:pt x="14188" y="4787"/>
                </a:cubicBezTo>
              </a:path>
              <a:path w="4713" h="1564">
                <a:moveTo>
                  <a:pt x="13618" y="5035"/>
                </a:moveTo>
                <a:cubicBezTo>
                  <a:pt x="13866" y="5000"/>
                  <a:pt x="14114" y="4970"/>
                  <a:pt x="14362" y="4936"/>
                </a:cubicBezTo>
                <a:cubicBezTo>
                  <a:pt x="14370" y="4936"/>
                  <a:pt x="14379" y="4936"/>
                  <a:pt x="14387" y="4936"/>
                </a:cubicBezTo>
              </a:path>
              <a:path w="4713" h="1564">
                <a:moveTo>
                  <a:pt x="13568" y="5333"/>
                </a:moveTo>
                <a:cubicBezTo>
                  <a:pt x="13709" y="5333"/>
                  <a:pt x="13889" y="5346"/>
                  <a:pt x="13816" y="5556"/>
                </a:cubicBezTo>
                <a:cubicBezTo>
                  <a:pt x="13762" y="5713"/>
                  <a:pt x="13625" y="5712"/>
                  <a:pt x="13494" y="5730"/>
                </a:cubicBezTo>
                <a:cubicBezTo>
                  <a:pt x="13542" y="5537"/>
                  <a:pt x="13620" y="5573"/>
                  <a:pt x="13791" y="5631"/>
                </a:cubicBezTo>
                <a:cubicBezTo>
                  <a:pt x="13864" y="5655"/>
                  <a:pt x="13888" y="5663"/>
                  <a:pt x="13940" y="5655"/>
                </a:cubicBezTo>
              </a:path>
              <a:path w="4713" h="1564">
                <a:moveTo>
                  <a:pt x="14188" y="5283"/>
                </a:moveTo>
                <a:cubicBezTo>
                  <a:pt x="14111" y="5456"/>
                  <a:pt x="14048" y="5646"/>
                  <a:pt x="14337" y="5606"/>
                </a:cubicBezTo>
                <a:cubicBezTo>
                  <a:pt x="14611" y="5568"/>
                  <a:pt x="14593" y="5379"/>
                  <a:pt x="14387" y="5283"/>
                </a:cubicBezTo>
                <a:cubicBezTo>
                  <a:pt x="14329" y="5264"/>
                  <a:pt x="14286" y="5256"/>
                  <a:pt x="14337" y="5259"/>
                </a:cubicBezTo>
              </a:path>
              <a:path w="4713" h="1564">
                <a:moveTo>
                  <a:pt x="14461" y="4663"/>
                </a:moveTo>
                <a:cubicBezTo>
                  <a:pt x="14537" y="4650"/>
                  <a:pt x="14540" y="4641"/>
                  <a:pt x="14585" y="4589"/>
                </a:cubicBezTo>
              </a:path>
              <a:path w="4713" h="1564">
                <a:moveTo>
                  <a:pt x="14511" y="4291"/>
                </a:moveTo>
                <a:cubicBezTo>
                  <a:pt x="14511" y="4350"/>
                  <a:pt x="14518" y="4391"/>
                  <a:pt x="14536" y="4440"/>
                </a:cubicBezTo>
              </a:path>
              <a:path w="4713" h="1564">
                <a:moveTo>
                  <a:pt x="14560" y="4812"/>
                </a:moveTo>
                <a:lnTo>
                  <a:pt x="14560" y="4812"/>
                </a:lnTo>
                <a:lnTo>
                  <a:pt x="14560" y="4812"/>
                </a:lnTo>
              </a:path>
              <a:path w="4713" h="1564">
                <a:moveTo>
                  <a:pt x="14560" y="4812"/>
                </a:moveTo>
                <a:lnTo>
                  <a:pt x="14560" y="4812"/>
                </a:lnTo>
              </a:path>
              <a:path w="4713" h="1564">
                <a:moveTo>
                  <a:pt x="14833" y="4341"/>
                </a:moveTo>
                <a:cubicBezTo>
                  <a:pt x="14899" y="4333"/>
                  <a:pt x="14965" y="4322"/>
                  <a:pt x="15032" y="4316"/>
                </a:cubicBezTo>
                <a:cubicBezTo>
                  <a:pt x="14985" y="4433"/>
                  <a:pt x="14935" y="4517"/>
                  <a:pt x="14858" y="4614"/>
                </a:cubicBezTo>
                <a:cubicBezTo>
                  <a:pt x="14962" y="4602"/>
                  <a:pt x="15055" y="4557"/>
                  <a:pt x="15156" y="4539"/>
                </a:cubicBezTo>
              </a:path>
              <a:path w="4713" h="1564">
                <a:moveTo>
                  <a:pt x="14759" y="5606"/>
                </a:moveTo>
                <a:cubicBezTo>
                  <a:pt x="14833" y="5606"/>
                  <a:pt x="14908" y="5606"/>
                  <a:pt x="14982" y="5606"/>
                </a:cubicBezTo>
              </a:path>
              <a:path w="4713" h="1564">
                <a:moveTo>
                  <a:pt x="14883" y="5333"/>
                </a:moveTo>
                <a:cubicBezTo>
                  <a:pt x="14883" y="5374"/>
                  <a:pt x="14883" y="5399"/>
                  <a:pt x="14883" y="5432"/>
                </a:cubicBezTo>
              </a:path>
              <a:path w="4713" h="1564">
                <a:moveTo>
                  <a:pt x="15230" y="5507"/>
                </a:moveTo>
                <a:cubicBezTo>
                  <a:pt x="15290" y="5507"/>
                  <a:pt x="15324" y="5513"/>
                  <a:pt x="15379" y="5531"/>
                </a:cubicBezTo>
                <a:cubicBezTo>
                  <a:pt x="15352" y="5647"/>
                  <a:pt x="15306" y="5703"/>
                  <a:pt x="15230" y="5804"/>
                </a:cubicBezTo>
                <a:cubicBezTo>
                  <a:pt x="15364" y="5864"/>
                  <a:pt x="15411" y="5863"/>
                  <a:pt x="15528" y="5779"/>
                </a:cubicBezTo>
              </a:path>
              <a:path w="4713" h="1564">
                <a:moveTo>
                  <a:pt x="14784" y="5829"/>
                </a:moveTo>
                <a:cubicBezTo>
                  <a:pt x="14792" y="5829"/>
                  <a:pt x="14800" y="5829"/>
                  <a:pt x="14808" y="5829"/>
                </a:cubicBezTo>
              </a:path>
              <a:path w="4713" h="1564">
                <a:moveTo>
                  <a:pt x="15602" y="4936"/>
                </a:moveTo>
                <a:cubicBezTo>
                  <a:pt x="15719" y="4925"/>
                  <a:pt x="15830" y="4911"/>
                  <a:pt x="15949" y="4911"/>
                </a:cubicBezTo>
              </a:path>
              <a:path w="4713" h="1564">
                <a:moveTo>
                  <a:pt x="15602" y="5159"/>
                </a:moveTo>
                <a:cubicBezTo>
                  <a:pt x="15743" y="5159"/>
                  <a:pt x="15802" y="5157"/>
                  <a:pt x="15900" y="51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00840" y="1544760"/>
            <a:ext cx="303120" cy="474480"/>
          </a:xfrm>
          <a:custGeom>
            <a:avLst/>
            <a:gdLst/>
            <a:ahLst/>
            <a:rect l="l" t="t" r="r" b="b"/>
            <a:pathLst>
              <a:path w="844" h="1316">
                <a:moveTo>
                  <a:pt x="16917" y="4291"/>
                </a:moveTo>
                <a:cubicBezTo>
                  <a:pt x="16989" y="4484"/>
                  <a:pt x="17050" y="4660"/>
                  <a:pt x="17090" y="4862"/>
                </a:cubicBezTo>
              </a:path>
              <a:path w="844" h="1316">
                <a:moveTo>
                  <a:pt x="16669" y="4986"/>
                </a:moveTo>
                <a:cubicBezTo>
                  <a:pt x="16902" y="4971"/>
                  <a:pt x="17135" y="4909"/>
                  <a:pt x="17363" y="4936"/>
                </a:cubicBezTo>
              </a:path>
              <a:path w="844" h="1316">
                <a:moveTo>
                  <a:pt x="16842" y="5234"/>
                </a:moveTo>
                <a:cubicBezTo>
                  <a:pt x="16823" y="5337"/>
                  <a:pt x="16741" y="5472"/>
                  <a:pt x="16768" y="5581"/>
                </a:cubicBezTo>
                <a:cubicBezTo>
                  <a:pt x="16776" y="5589"/>
                  <a:pt x="16785" y="5598"/>
                  <a:pt x="16793" y="5606"/>
                </a:cubicBezTo>
              </a:path>
              <a:path w="844" h="1316">
                <a:moveTo>
                  <a:pt x="17264" y="5209"/>
                </a:moveTo>
                <a:cubicBezTo>
                  <a:pt x="17170" y="5337"/>
                  <a:pt x="17155" y="5396"/>
                  <a:pt x="17140" y="5556"/>
                </a:cubicBezTo>
                <a:cubicBezTo>
                  <a:pt x="17257" y="5591"/>
                  <a:pt x="17562" y="5625"/>
                  <a:pt x="17512" y="5383"/>
                </a:cubicBezTo>
                <a:cubicBezTo>
                  <a:pt x="17491" y="5280"/>
                  <a:pt x="17337" y="5270"/>
                  <a:pt x="17264" y="52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62760" y="2411280"/>
            <a:ext cx="519120" cy="384480"/>
          </a:xfrm>
          <a:custGeom>
            <a:avLst/>
            <a:gdLst/>
            <a:ahLst/>
            <a:rect l="l" t="t" r="r" b="b"/>
            <a:pathLst>
              <a:path w="1440" h="1068">
                <a:moveTo>
                  <a:pt x="17785" y="7417"/>
                </a:moveTo>
                <a:cubicBezTo>
                  <a:pt x="17851" y="7417"/>
                  <a:pt x="17883" y="7431"/>
                  <a:pt x="17909" y="7392"/>
                </a:cubicBezTo>
              </a:path>
              <a:path w="1440" h="1068">
                <a:moveTo>
                  <a:pt x="17735" y="7218"/>
                </a:moveTo>
                <a:cubicBezTo>
                  <a:pt x="17743" y="7243"/>
                  <a:pt x="17752" y="7268"/>
                  <a:pt x="17760" y="7293"/>
                </a:cubicBezTo>
              </a:path>
              <a:path w="1440" h="1068">
                <a:moveTo>
                  <a:pt x="17810" y="7541"/>
                </a:moveTo>
                <a:cubicBezTo>
                  <a:pt x="17810" y="7549"/>
                  <a:pt x="17810" y="7557"/>
                  <a:pt x="17810" y="7565"/>
                </a:cubicBezTo>
              </a:path>
              <a:path w="1440" h="1068">
                <a:moveTo>
                  <a:pt x="17810" y="7565"/>
                </a:moveTo>
                <a:lnTo>
                  <a:pt x="17810" y="7565"/>
                </a:lnTo>
              </a:path>
              <a:path w="1440" h="1068">
                <a:moveTo>
                  <a:pt x="17983" y="7243"/>
                </a:moveTo>
                <a:cubicBezTo>
                  <a:pt x="18062" y="7220"/>
                  <a:pt x="18086" y="7211"/>
                  <a:pt x="18157" y="7218"/>
                </a:cubicBezTo>
                <a:cubicBezTo>
                  <a:pt x="18166" y="7244"/>
                  <a:pt x="18101" y="7302"/>
                  <a:pt x="18132" y="7317"/>
                </a:cubicBezTo>
                <a:cubicBezTo>
                  <a:pt x="18201" y="7351"/>
                  <a:pt x="18237" y="7382"/>
                  <a:pt x="18281" y="7441"/>
                </a:cubicBezTo>
                <a:cubicBezTo>
                  <a:pt x="18155" y="7504"/>
                  <a:pt x="18093" y="7525"/>
                  <a:pt x="17983" y="7516"/>
                </a:cubicBezTo>
              </a:path>
              <a:path w="1440" h="1068">
                <a:moveTo>
                  <a:pt x="16842" y="7764"/>
                </a:moveTo>
                <a:cubicBezTo>
                  <a:pt x="17211" y="7603"/>
                  <a:pt x="17592" y="7416"/>
                  <a:pt x="17983" y="7317"/>
                </a:cubicBezTo>
                <a:cubicBezTo>
                  <a:pt x="18157" y="7298"/>
                  <a:pt x="18181" y="7290"/>
                  <a:pt x="18281" y="7293"/>
                </a:cubicBezTo>
              </a:path>
              <a:path w="1440" h="1068">
                <a:moveTo>
                  <a:pt x="17190" y="6796"/>
                </a:moveTo>
                <a:cubicBezTo>
                  <a:pt x="17124" y="6884"/>
                  <a:pt x="17298" y="6888"/>
                  <a:pt x="17363" y="6921"/>
                </a:cubicBezTo>
                <a:cubicBezTo>
                  <a:pt x="17518" y="7000"/>
                  <a:pt x="17379" y="7186"/>
                  <a:pt x="17239" y="7144"/>
                </a:cubicBezTo>
                <a:cubicBezTo>
                  <a:pt x="17198" y="7119"/>
                  <a:pt x="17156" y="7094"/>
                  <a:pt x="17115" y="7069"/>
                </a:cubicBezTo>
              </a:path>
              <a:path w="1440" h="1068">
                <a:moveTo>
                  <a:pt x="17289" y="6796"/>
                </a:moveTo>
                <a:cubicBezTo>
                  <a:pt x="17387" y="6737"/>
                  <a:pt x="17402" y="6726"/>
                  <a:pt x="17462" y="66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43760" y="3009960"/>
            <a:ext cx="517320" cy="125280"/>
          </a:xfrm>
          <a:custGeom>
            <a:avLst/>
            <a:gdLst/>
            <a:ahLst/>
            <a:rect l="l" t="t" r="r" b="b"/>
            <a:pathLst>
              <a:path w="1439" h="348">
                <a:moveTo>
                  <a:pt x="17835" y="8508"/>
                </a:moveTo>
                <a:cubicBezTo>
                  <a:pt x="17900" y="8486"/>
                  <a:pt x="17915" y="8478"/>
                  <a:pt x="17959" y="8483"/>
                </a:cubicBezTo>
              </a:path>
              <a:path w="1439" h="348">
                <a:moveTo>
                  <a:pt x="17810" y="8359"/>
                </a:moveTo>
                <a:lnTo>
                  <a:pt x="17810" y="8359"/>
                </a:lnTo>
              </a:path>
              <a:path w="1439" h="348">
                <a:moveTo>
                  <a:pt x="17835" y="8632"/>
                </a:moveTo>
                <a:lnTo>
                  <a:pt x="17835" y="8632"/>
                </a:lnTo>
              </a:path>
              <a:path w="1439" h="348">
                <a:moveTo>
                  <a:pt x="17835" y="8632"/>
                </a:moveTo>
                <a:lnTo>
                  <a:pt x="17835" y="8632"/>
                </a:lnTo>
              </a:path>
              <a:path w="1439" h="348">
                <a:moveTo>
                  <a:pt x="18157" y="8458"/>
                </a:moveTo>
                <a:cubicBezTo>
                  <a:pt x="18246" y="8444"/>
                  <a:pt x="18254" y="8432"/>
                  <a:pt x="18331" y="8483"/>
                </a:cubicBezTo>
                <a:cubicBezTo>
                  <a:pt x="18296" y="8566"/>
                  <a:pt x="18267" y="8614"/>
                  <a:pt x="18207" y="8682"/>
                </a:cubicBezTo>
                <a:cubicBezTo>
                  <a:pt x="18339" y="8696"/>
                  <a:pt x="18391" y="8699"/>
                  <a:pt x="18504" y="8632"/>
                </a:cubicBezTo>
              </a:path>
              <a:path w="1439" h="348">
                <a:moveTo>
                  <a:pt x="17066" y="8384"/>
                </a:moveTo>
                <a:cubicBezTo>
                  <a:pt x="17451" y="8410"/>
                  <a:pt x="17830" y="8474"/>
                  <a:pt x="18207" y="8558"/>
                </a:cubicBezTo>
                <a:cubicBezTo>
                  <a:pt x="18350" y="8593"/>
                  <a:pt x="18377" y="8570"/>
                  <a:pt x="18430" y="86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92880" y="3276720"/>
            <a:ext cx="125280" cy="117360"/>
          </a:xfrm>
          <a:custGeom>
            <a:avLst/>
            <a:gdLst/>
            <a:ahLst/>
            <a:rect l="l" t="t" r="r" b="b"/>
            <a:pathLst>
              <a:path w="348" h="324">
                <a:moveTo>
                  <a:pt x="17785" y="9128"/>
                </a:moveTo>
                <a:cubicBezTo>
                  <a:pt x="17885" y="9113"/>
                  <a:pt x="17956" y="9103"/>
                  <a:pt x="18058" y="9103"/>
                </a:cubicBezTo>
                <a:cubicBezTo>
                  <a:pt x="17980" y="9248"/>
                  <a:pt x="17856" y="9279"/>
                  <a:pt x="17760" y="9401"/>
                </a:cubicBezTo>
                <a:cubicBezTo>
                  <a:pt x="17717" y="9456"/>
                  <a:pt x="18077" y="9386"/>
                  <a:pt x="18107" y="93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14840" y="2813040"/>
            <a:ext cx="492120" cy="492120"/>
          </a:xfrm>
          <a:custGeom>
            <a:avLst/>
            <a:gdLst/>
            <a:ahLst/>
            <a:rect l="l" t="t" r="r" b="b"/>
            <a:pathLst>
              <a:path w="1365" h="1366">
                <a:moveTo>
                  <a:pt x="10319" y="7888"/>
                </a:moveTo>
                <a:cubicBezTo>
                  <a:pt x="10473" y="7833"/>
                  <a:pt x="10833" y="7740"/>
                  <a:pt x="10765" y="8062"/>
                </a:cubicBezTo>
                <a:cubicBezTo>
                  <a:pt x="10730" y="8230"/>
                  <a:pt x="10512" y="8428"/>
                  <a:pt x="10393" y="8359"/>
                </a:cubicBezTo>
                <a:cubicBezTo>
                  <a:pt x="10543" y="8260"/>
                  <a:pt x="10613" y="8246"/>
                  <a:pt x="10790" y="8310"/>
                </a:cubicBezTo>
              </a:path>
              <a:path w="1365" h="1366">
                <a:moveTo>
                  <a:pt x="10368" y="8607"/>
                </a:moveTo>
                <a:cubicBezTo>
                  <a:pt x="10596" y="8540"/>
                  <a:pt x="10783" y="8483"/>
                  <a:pt x="11013" y="8483"/>
                </a:cubicBezTo>
              </a:path>
              <a:path w="1365" h="1366">
                <a:moveTo>
                  <a:pt x="10468" y="8806"/>
                </a:moveTo>
                <a:cubicBezTo>
                  <a:pt x="10537" y="8789"/>
                  <a:pt x="10907" y="8682"/>
                  <a:pt x="10765" y="8880"/>
                </a:cubicBezTo>
                <a:cubicBezTo>
                  <a:pt x="10669" y="8951"/>
                  <a:pt x="10640" y="8974"/>
                  <a:pt x="10567" y="9004"/>
                </a:cubicBezTo>
                <a:cubicBezTo>
                  <a:pt x="10675" y="8986"/>
                  <a:pt x="10756" y="8977"/>
                  <a:pt x="10864" y="9004"/>
                </a:cubicBezTo>
                <a:cubicBezTo>
                  <a:pt x="10720" y="9168"/>
                  <a:pt x="10627" y="9243"/>
                  <a:pt x="10443" y="9103"/>
                </a:cubicBezTo>
              </a:path>
              <a:path w="1365" h="1366">
                <a:moveTo>
                  <a:pt x="11336" y="8384"/>
                </a:moveTo>
                <a:cubicBezTo>
                  <a:pt x="11460" y="8457"/>
                  <a:pt x="11573" y="8538"/>
                  <a:pt x="11683" y="8632"/>
                </a:cubicBezTo>
              </a:path>
              <a:path w="1365" h="1366">
                <a:moveTo>
                  <a:pt x="11658" y="8210"/>
                </a:moveTo>
                <a:cubicBezTo>
                  <a:pt x="11618" y="8327"/>
                  <a:pt x="11507" y="8631"/>
                  <a:pt x="11559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75080" y="2714760"/>
            <a:ext cx="500040" cy="428400"/>
          </a:xfrm>
          <a:custGeom>
            <a:avLst/>
            <a:gdLst/>
            <a:ahLst/>
            <a:rect l="l" t="t" r="r" b="b"/>
            <a:pathLst>
              <a:path w="1390" h="1191">
                <a:moveTo>
                  <a:pt x="12254" y="8012"/>
                </a:moveTo>
                <a:cubicBezTo>
                  <a:pt x="12285" y="7948"/>
                  <a:pt x="12507" y="7888"/>
                  <a:pt x="12576" y="7938"/>
                </a:cubicBezTo>
                <a:cubicBezTo>
                  <a:pt x="12722" y="8044"/>
                  <a:pt x="12418" y="8221"/>
                  <a:pt x="12353" y="8260"/>
                </a:cubicBezTo>
                <a:cubicBezTo>
                  <a:pt x="12505" y="8171"/>
                  <a:pt x="12747" y="8140"/>
                  <a:pt x="12700" y="8409"/>
                </a:cubicBezTo>
                <a:cubicBezTo>
                  <a:pt x="12646" y="8718"/>
                  <a:pt x="12345" y="8668"/>
                  <a:pt x="12154" y="8582"/>
                </a:cubicBezTo>
              </a:path>
              <a:path w="1390" h="1191">
                <a:moveTo>
                  <a:pt x="12948" y="7615"/>
                </a:moveTo>
                <a:cubicBezTo>
                  <a:pt x="12990" y="7594"/>
                  <a:pt x="13264" y="7481"/>
                  <a:pt x="13196" y="7590"/>
                </a:cubicBezTo>
                <a:cubicBezTo>
                  <a:pt x="13136" y="7671"/>
                  <a:pt x="13131" y="7694"/>
                  <a:pt x="13072" y="7714"/>
                </a:cubicBezTo>
                <a:cubicBezTo>
                  <a:pt x="13180" y="7692"/>
                  <a:pt x="13223" y="7685"/>
                  <a:pt x="13320" y="7739"/>
                </a:cubicBezTo>
                <a:cubicBezTo>
                  <a:pt x="13218" y="7850"/>
                  <a:pt x="13149" y="7919"/>
                  <a:pt x="12998" y="7888"/>
                </a:cubicBezTo>
              </a:path>
              <a:path w="1390" h="1191">
                <a:moveTo>
                  <a:pt x="13047" y="8210"/>
                </a:moveTo>
                <a:cubicBezTo>
                  <a:pt x="13217" y="8152"/>
                  <a:pt x="13365" y="8117"/>
                  <a:pt x="13543" y="8086"/>
                </a:cubicBezTo>
              </a:path>
              <a:path w="1390" h="1191">
                <a:moveTo>
                  <a:pt x="13146" y="8334"/>
                </a:moveTo>
                <a:cubicBezTo>
                  <a:pt x="13100" y="8446"/>
                  <a:pt x="13095" y="8595"/>
                  <a:pt x="13271" y="8582"/>
                </a:cubicBezTo>
                <a:cubicBezTo>
                  <a:pt x="13312" y="8566"/>
                  <a:pt x="13354" y="8549"/>
                  <a:pt x="13395" y="8533"/>
                </a:cubicBezTo>
              </a:path>
              <a:path w="1390" h="1191">
                <a:moveTo>
                  <a:pt x="13419" y="8310"/>
                </a:moveTo>
                <a:cubicBezTo>
                  <a:pt x="13412" y="8347"/>
                  <a:pt x="13362" y="8724"/>
                  <a:pt x="13395" y="8731"/>
                </a:cubicBezTo>
                <a:cubicBezTo>
                  <a:pt x="13403" y="8715"/>
                  <a:pt x="13411" y="8698"/>
                  <a:pt x="13419" y="86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06960" y="2955960"/>
            <a:ext cx="135000" cy="71280"/>
          </a:xfrm>
          <a:custGeom>
            <a:avLst/>
            <a:gdLst/>
            <a:ahLst/>
            <a:rect l="l" t="t" r="r" b="b"/>
            <a:pathLst>
              <a:path w="373" h="200">
                <a:moveTo>
                  <a:pt x="14213" y="8260"/>
                </a:moveTo>
                <a:cubicBezTo>
                  <a:pt x="14310" y="8230"/>
                  <a:pt x="14359" y="8210"/>
                  <a:pt x="14461" y="8210"/>
                </a:cubicBezTo>
              </a:path>
              <a:path w="373" h="200">
                <a:moveTo>
                  <a:pt x="14188" y="8409"/>
                </a:moveTo>
                <a:cubicBezTo>
                  <a:pt x="14372" y="8356"/>
                  <a:pt x="14439" y="8336"/>
                  <a:pt x="14560" y="8285"/>
                </a:cubicBezTo>
              </a:path>
              <a:path w="373" h="200">
                <a:moveTo>
                  <a:pt x="14560" y="8285"/>
                </a:moveTo>
                <a:lnTo>
                  <a:pt x="14560" y="828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3160" y="2633760"/>
            <a:ext cx="884160" cy="501480"/>
          </a:xfrm>
          <a:custGeom>
            <a:avLst/>
            <a:gdLst/>
            <a:ahLst/>
            <a:rect l="l" t="t" r="r" b="b"/>
            <a:pathLst>
              <a:path w="2457" h="1390">
                <a:moveTo>
                  <a:pt x="15255" y="7441"/>
                </a:moveTo>
                <a:cubicBezTo>
                  <a:pt x="15435" y="7430"/>
                  <a:pt x="15650" y="7525"/>
                  <a:pt x="15528" y="7764"/>
                </a:cubicBezTo>
                <a:cubicBezTo>
                  <a:pt x="15449" y="7919"/>
                  <a:pt x="15354" y="7828"/>
                  <a:pt x="15304" y="7764"/>
                </a:cubicBezTo>
                <a:cubicBezTo>
                  <a:pt x="15418" y="7621"/>
                  <a:pt x="15499" y="7680"/>
                  <a:pt x="15677" y="7739"/>
                </a:cubicBezTo>
              </a:path>
              <a:path w="2457" h="1390">
                <a:moveTo>
                  <a:pt x="15230" y="8062"/>
                </a:moveTo>
                <a:cubicBezTo>
                  <a:pt x="15486" y="8031"/>
                  <a:pt x="15815" y="7932"/>
                  <a:pt x="16024" y="8037"/>
                </a:cubicBezTo>
              </a:path>
              <a:path w="2457" h="1390">
                <a:moveTo>
                  <a:pt x="15453" y="8334"/>
                </a:moveTo>
                <a:cubicBezTo>
                  <a:pt x="15493" y="8329"/>
                  <a:pt x="15905" y="8263"/>
                  <a:pt x="15701" y="8409"/>
                </a:cubicBezTo>
                <a:cubicBezTo>
                  <a:pt x="15579" y="8470"/>
                  <a:pt x="15557" y="8486"/>
                  <a:pt x="15478" y="8508"/>
                </a:cubicBezTo>
                <a:cubicBezTo>
                  <a:pt x="15617" y="8508"/>
                  <a:pt x="15732" y="8523"/>
                  <a:pt x="15850" y="8582"/>
                </a:cubicBezTo>
                <a:cubicBezTo>
                  <a:pt x="15677" y="8725"/>
                  <a:pt x="15620" y="8727"/>
                  <a:pt x="15429" y="8632"/>
                </a:cubicBezTo>
              </a:path>
              <a:path w="2457" h="1390">
                <a:moveTo>
                  <a:pt x="16371" y="7962"/>
                </a:moveTo>
                <a:cubicBezTo>
                  <a:pt x="16468" y="8018"/>
                  <a:pt x="16558" y="8125"/>
                  <a:pt x="16644" y="8210"/>
                </a:cubicBezTo>
              </a:path>
              <a:path w="2457" h="1390">
                <a:moveTo>
                  <a:pt x="16545" y="7888"/>
                </a:moveTo>
                <a:cubicBezTo>
                  <a:pt x="16486" y="8029"/>
                  <a:pt x="16456" y="8108"/>
                  <a:pt x="16446" y="8260"/>
                </a:cubicBezTo>
              </a:path>
              <a:path w="2457" h="1390">
                <a:moveTo>
                  <a:pt x="16991" y="7441"/>
                </a:moveTo>
                <a:cubicBezTo>
                  <a:pt x="16999" y="7556"/>
                  <a:pt x="16999" y="7692"/>
                  <a:pt x="17041" y="7789"/>
                </a:cubicBezTo>
              </a:path>
              <a:path w="2457" h="1390">
                <a:moveTo>
                  <a:pt x="17239" y="7417"/>
                </a:moveTo>
                <a:cubicBezTo>
                  <a:pt x="17211" y="7525"/>
                  <a:pt x="17310" y="7472"/>
                  <a:pt x="17413" y="7516"/>
                </a:cubicBezTo>
                <a:cubicBezTo>
                  <a:pt x="17625" y="7605"/>
                  <a:pt x="17373" y="7665"/>
                  <a:pt x="17289" y="7665"/>
                </a:cubicBezTo>
              </a:path>
              <a:path w="2457" h="1390">
                <a:moveTo>
                  <a:pt x="17314" y="7367"/>
                </a:moveTo>
                <a:cubicBezTo>
                  <a:pt x="17471" y="7337"/>
                  <a:pt x="17539" y="7326"/>
                  <a:pt x="17686" y="7367"/>
                </a:cubicBezTo>
              </a:path>
              <a:path w="2457" h="1390">
                <a:moveTo>
                  <a:pt x="17016" y="8062"/>
                </a:moveTo>
                <a:cubicBezTo>
                  <a:pt x="17190" y="8034"/>
                  <a:pt x="17396" y="7970"/>
                  <a:pt x="17562" y="8012"/>
                </a:cubicBezTo>
                <a:cubicBezTo>
                  <a:pt x="17554" y="8012"/>
                  <a:pt x="17545" y="8012"/>
                  <a:pt x="17537" y="8012"/>
                </a:cubicBezTo>
              </a:path>
              <a:path w="2457" h="1390">
                <a:moveTo>
                  <a:pt x="17314" y="8111"/>
                </a:moveTo>
                <a:cubicBezTo>
                  <a:pt x="17266" y="8195"/>
                  <a:pt x="17203" y="8337"/>
                  <a:pt x="17338" y="8384"/>
                </a:cubicBezTo>
                <a:cubicBezTo>
                  <a:pt x="17423" y="8384"/>
                  <a:pt x="17443" y="8391"/>
                  <a:pt x="17487" y="8359"/>
                </a:cubicBezTo>
              </a:path>
              <a:path w="2457" h="1390">
                <a:moveTo>
                  <a:pt x="17413" y="8086"/>
                </a:moveTo>
                <a:cubicBezTo>
                  <a:pt x="17405" y="8253"/>
                  <a:pt x="17439" y="8448"/>
                  <a:pt x="17413" y="8607"/>
                </a:cubicBezTo>
                <a:cubicBezTo>
                  <a:pt x="17405" y="8624"/>
                  <a:pt x="17396" y="8640"/>
                  <a:pt x="17388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80160" y="2509920"/>
            <a:ext cx="1374840" cy="490320"/>
          </a:xfrm>
          <a:custGeom>
            <a:avLst/>
            <a:gdLst/>
            <a:ahLst/>
            <a:rect l="l" t="t" r="r" b="b"/>
            <a:pathLst>
              <a:path w="3821" h="1365">
                <a:moveTo>
                  <a:pt x="18554" y="7590"/>
                </a:moveTo>
                <a:cubicBezTo>
                  <a:pt x="18681" y="7574"/>
                  <a:pt x="18777" y="7548"/>
                  <a:pt x="18901" y="7565"/>
                </a:cubicBezTo>
              </a:path>
              <a:path w="3821" h="1365">
                <a:moveTo>
                  <a:pt x="18653" y="7789"/>
                </a:moveTo>
                <a:cubicBezTo>
                  <a:pt x="18848" y="7764"/>
                  <a:pt x="18911" y="7758"/>
                  <a:pt x="19025" y="7689"/>
                </a:cubicBezTo>
              </a:path>
              <a:path w="3821" h="1365">
                <a:moveTo>
                  <a:pt x="19645" y="7045"/>
                </a:moveTo>
                <a:cubicBezTo>
                  <a:pt x="19544" y="7040"/>
                  <a:pt x="19356" y="6980"/>
                  <a:pt x="19348" y="7144"/>
                </a:cubicBezTo>
                <a:cubicBezTo>
                  <a:pt x="19348" y="7169"/>
                  <a:pt x="19348" y="7193"/>
                  <a:pt x="19348" y="7218"/>
                </a:cubicBezTo>
                <a:cubicBezTo>
                  <a:pt x="19394" y="7288"/>
                  <a:pt x="19576" y="7214"/>
                  <a:pt x="19670" y="7268"/>
                </a:cubicBezTo>
                <a:cubicBezTo>
                  <a:pt x="19687" y="7293"/>
                  <a:pt x="19703" y="7317"/>
                  <a:pt x="19720" y="7342"/>
                </a:cubicBezTo>
                <a:cubicBezTo>
                  <a:pt x="19589" y="7486"/>
                  <a:pt x="19492" y="7487"/>
                  <a:pt x="19298" y="7466"/>
                </a:cubicBezTo>
              </a:path>
              <a:path w="3821" h="1365">
                <a:moveTo>
                  <a:pt x="19372" y="7764"/>
                </a:moveTo>
                <a:cubicBezTo>
                  <a:pt x="19515" y="7735"/>
                  <a:pt x="19651" y="7704"/>
                  <a:pt x="19794" y="7689"/>
                </a:cubicBezTo>
              </a:path>
              <a:path w="3821" h="1365">
                <a:moveTo>
                  <a:pt x="19372" y="7987"/>
                </a:moveTo>
                <a:cubicBezTo>
                  <a:pt x="19491" y="7971"/>
                  <a:pt x="19565" y="7947"/>
                  <a:pt x="19670" y="7987"/>
                </a:cubicBezTo>
                <a:cubicBezTo>
                  <a:pt x="19629" y="8168"/>
                  <a:pt x="19517" y="8198"/>
                  <a:pt x="19372" y="8310"/>
                </a:cubicBezTo>
                <a:cubicBezTo>
                  <a:pt x="19364" y="8318"/>
                  <a:pt x="19356" y="8326"/>
                  <a:pt x="19348" y="8334"/>
                </a:cubicBezTo>
                <a:cubicBezTo>
                  <a:pt x="19476" y="8334"/>
                  <a:pt x="19594" y="8325"/>
                  <a:pt x="19720" y="8310"/>
                </a:cubicBezTo>
              </a:path>
              <a:path w="3821" h="1365">
                <a:moveTo>
                  <a:pt x="20042" y="7615"/>
                </a:moveTo>
                <a:cubicBezTo>
                  <a:pt x="20158" y="7615"/>
                  <a:pt x="20273" y="7615"/>
                  <a:pt x="20389" y="7615"/>
                </a:cubicBezTo>
              </a:path>
              <a:path w="3821" h="1365">
                <a:moveTo>
                  <a:pt x="20141" y="7789"/>
                </a:moveTo>
                <a:cubicBezTo>
                  <a:pt x="20324" y="7763"/>
                  <a:pt x="20392" y="7752"/>
                  <a:pt x="20513" y="7714"/>
                </a:cubicBezTo>
              </a:path>
              <a:path w="3821" h="1365">
                <a:moveTo>
                  <a:pt x="20960" y="7441"/>
                </a:moveTo>
                <a:cubicBezTo>
                  <a:pt x="21123" y="7421"/>
                  <a:pt x="21205" y="7432"/>
                  <a:pt x="21357" y="7491"/>
                </a:cubicBezTo>
                <a:cubicBezTo>
                  <a:pt x="21259" y="7729"/>
                  <a:pt x="21100" y="7858"/>
                  <a:pt x="20910" y="8037"/>
                </a:cubicBezTo>
                <a:cubicBezTo>
                  <a:pt x="21088" y="8012"/>
                  <a:pt x="21282" y="8006"/>
                  <a:pt x="21456" y="7962"/>
                </a:cubicBezTo>
                <a:cubicBezTo>
                  <a:pt x="21448" y="7962"/>
                  <a:pt x="21439" y="7962"/>
                  <a:pt x="21431" y="7962"/>
                </a:cubicBezTo>
              </a:path>
              <a:path w="3821" h="1365">
                <a:moveTo>
                  <a:pt x="21977" y="6970"/>
                </a:moveTo>
                <a:cubicBezTo>
                  <a:pt x="21992" y="7103"/>
                  <a:pt x="22018" y="7233"/>
                  <a:pt x="22027" y="7367"/>
                </a:cubicBezTo>
              </a:path>
              <a:path w="3821" h="1365">
                <a:moveTo>
                  <a:pt x="21828" y="7491"/>
                </a:moveTo>
                <a:cubicBezTo>
                  <a:pt x="22022" y="7475"/>
                  <a:pt x="22183" y="7463"/>
                  <a:pt x="22374" y="7491"/>
                </a:cubicBezTo>
              </a:path>
              <a:path w="3821" h="1365">
                <a:moveTo>
                  <a:pt x="21853" y="7764"/>
                </a:moveTo>
                <a:cubicBezTo>
                  <a:pt x="21956" y="7739"/>
                  <a:pt x="22028" y="7721"/>
                  <a:pt x="22126" y="7739"/>
                </a:cubicBezTo>
                <a:cubicBezTo>
                  <a:pt x="22100" y="7904"/>
                  <a:pt x="22023" y="8015"/>
                  <a:pt x="21878" y="8111"/>
                </a:cubicBezTo>
                <a:cubicBezTo>
                  <a:pt x="21870" y="8111"/>
                  <a:pt x="21861" y="8111"/>
                  <a:pt x="21853" y="8111"/>
                </a:cubicBezTo>
                <a:cubicBezTo>
                  <a:pt x="21996" y="8095"/>
                  <a:pt x="22153" y="8040"/>
                  <a:pt x="22299" y="8062"/>
                </a:cubicBezTo>
                <a:cubicBezTo>
                  <a:pt x="22307" y="8070"/>
                  <a:pt x="22316" y="8078"/>
                  <a:pt x="22324" y="80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83160" y="3036960"/>
            <a:ext cx="473040" cy="357120"/>
          </a:xfrm>
          <a:custGeom>
            <a:avLst/>
            <a:gdLst/>
            <a:ahLst/>
            <a:rect l="l" t="t" r="r" b="b"/>
            <a:pathLst>
              <a:path w="1316" h="993">
                <a:moveTo>
                  <a:pt x="15304" y="8483"/>
                </a:moveTo>
                <a:cubicBezTo>
                  <a:pt x="15304" y="8475"/>
                  <a:pt x="15304" y="8466"/>
                  <a:pt x="15304" y="8458"/>
                </a:cubicBezTo>
              </a:path>
              <a:path w="1316" h="993">
                <a:moveTo>
                  <a:pt x="16073" y="8607"/>
                </a:moveTo>
                <a:cubicBezTo>
                  <a:pt x="16123" y="8614"/>
                  <a:pt x="16172" y="8625"/>
                  <a:pt x="16222" y="8632"/>
                </a:cubicBezTo>
              </a:path>
              <a:path w="1316" h="993">
                <a:moveTo>
                  <a:pt x="16073" y="8434"/>
                </a:moveTo>
                <a:cubicBezTo>
                  <a:pt x="16073" y="8442"/>
                  <a:pt x="16073" y="8450"/>
                  <a:pt x="16073" y="8458"/>
                </a:cubicBezTo>
              </a:path>
              <a:path w="1316" h="993">
                <a:moveTo>
                  <a:pt x="16446" y="8607"/>
                </a:moveTo>
                <a:cubicBezTo>
                  <a:pt x="16542" y="8668"/>
                  <a:pt x="16518" y="8691"/>
                  <a:pt x="16396" y="8731"/>
                </a:cubicBezTo>
                <a:cubicBezTo>
                  <a:pt x="16450" y="8761"/>
                  <a:pt x="16497" y="8791"/>
                  <a:pt x="16545" y="8830"/>
                </a:cubicBezTo>
                <a:cubicBezTo>
                  <a:pt x="16390" y="8973"/>
                  <a:pt x="16435" y="8950"/>
                  <a:pt x="16247" y="8830"/>
                </a:cubicBezTo>
              </a:path>
              <a:path w="1316" h="993">
                <a:moveTo>
                  <a:pt x="15230" y="8558"/>
                </a:moveTo>
                <a:cubicBezTo>
                  <a:pt x="15525" y="8631"/>
                  <a:pt x="15824" y="8686"/>
                  <a:pt x="16123" y="8756"/>
                </a:cubicBezTo>
                <a:cubicBezTo>
                  <a:pt x="16280" y="8796"/>
                  <a:pt x="16307" y="8800"/>
                  <a:pt x="16396" y="8830"/>
                </a:cubicBezTo>
              </a:path>
              <a:path w="1316" h="993">
                <a:moveTo>
                  <a:pt x="15528" y="9128"/>
                </a:moveTo>
                <a:cubicBezTo>
                  <a:pt x="15544" y="9220"/>
                  <a:pt x="15553" y="9304"/>
                  <a:pt x="15553" y="9401"/>
                </a:cubicBezTo>
                <a:cubicBezTo>
                  <a:pt x="15553" y="9444"/>
                  <a:pt x="15558" y="9435"/>
                  <a:pt x="15577" y="93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86240" y="2598840"/>
            <a:ext cx="563760" cy="231840"/>
          </a:xfrm>
          <a:custGeom>
            <a:avLst/>
            <a:gdLst/>
            <a:ahLst/>
            <a:rect l="l" t="t" r="r" b="b"/>
            <a:pathLst>
              <a:path w="1564" h="646">
                <a:moveTo>
                  <a:pt x="15528" y="7441"/>
                </a:moveTo>
                <a:cubicBezTo>
                  <a:pt x="15629" y="7397"/>
                  <a:pt x="15718" y="7369"/>
                  <a:pt x="15825" y="7342"/>
                </a:cubicBezTo>
              </a:path>
              <a:path w="1564" h="646">
                <a:moveTo>
                  <a:pt x="15553" y="7317"/>
                </a:moveTo>
                <a:cubicBezTo>
                  <a:pt x="15561" y="7334"/>
                  <a:pt x="15569" y="7350"/>
                  <a:pt x="15577" y="7367"/>
                </a:cubicBezTo>
              </a:path>
              <a:path w="1564" h="646">
                <a:moveTo>
                  <a:pt x="15776" y="7590"/>
                </a:moveTo>
                <a:lnTo>
                  <a:pt x="15776" y="7590"/>
                </a:lnTo>
                <a:lnTo>
                  <a:pt x="15776" y="7590"/>
                </a:lnTo>
              </a:path>
              <a:path w="1564" h="646">
                <a:moveTo>
                  <a:pt x="15776" y="7590"/>
                </a:moveTo>
                <a:lnTo>
                  <a:pt x="15776" y="7590"/>
                </a:lnTo>
              </a:path>
              <a:path w="1564" h="646">
                <a:moveTo>
                  <a:pt x="15900" y="7317"/>
                </a:moveTo>
                <a:cubicBezTo>
                  <a:pt x="15954" y="7291"/>
                  <a:pt x="16008" y="7276"/>
                  <a:pt x="16073" y="7268"/>
                </a:cubicBezTo>
                <a:cubicBezTo>
                  <a:pt x="16055" y="7349"/>
                  <a:pt x="16002" y="7396"/>
                  <a:pt x="15974" y="7466"/>
                </a:cubicBezTo>
                <a:cubicBezTo>
                  <a:pt x="16085" y="7458"/>
                  <a:pt x="16149" y="7441"/>
                  <a:pt x="16247" y="7392"/>
                </a:cubicBezTo>
              </a:path>
              <a:path w="1564" h="646">
                <a:moveTo>
                  <a:pt x="16049" y="7342"/>
                </a:moveTo>
                <a:cubicBezTo>
                  <a:pt x="15789" y="7530"/>
                  <a:pt x="15538" y="7710"/>
                  <a:pt x="15255" y="7863"/>
                </a:cubicBezTo>
              </a:path>
              <a:path w="1564" h="646">
                <a:moveTo>
                  <a:pt x="14684" y="7218"/>
                </a:moveTo>
                <a:cubicBezTo>
                  <a:pt x="14738" y="7365"/>
                  <a:pt x="14760" y="7533"/>
                  <a:pt x="14808" y="76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52360" y="4268880"/>
            <a:ext cx="642960" cy="1035000"/>
          </a:xfrm>
          <a:custGeom>
            <a:avLst/>
            <a:gdLst/>
            <a:ahLst/>
            <a:rect l="l" t="t" r="r" b="b"/>
            <a:pathLst>
              <a:path w="1787" h="2878">
                <a:moveTo>
                  <a:pt x="3820" y="12502"/>
                </a:moveTo>
                <a:cubicBezTo>
                  <a:pt x="3911" y="12471"/>
                  <a:pt x="4098" y="12591"/>
                  <a:pt x="4043" y="12725"/>
                </a:cubicBezTo>
                <a:cubicBezTo>
                  <a:pt x="3959" y="12930"/>
                  <a:pt x="3704" y="12977"/>
                  <a:pt x="3547" y="12898"/>
                </a:cubicBezTo>
                <a:cubicBezTo>
                  <a:pt x="3712" y="12830"/>
                  <a:pt x="3790" y="12801"/>
                  <a:pt x="3944" y="12898"/>
                </a:cubicBezTo>
              </a:path>
              <a:path w="1787" h="2878">
                <a:moveTo>
                  <a:pt x="4316" y="12502"/>
                </a:moveTo>
                <a:cubicBezTo>
                  <a:pt x="4184" y="12532"/>
                  <a:pt x="4133" y="12558"/>
                  <a:pt x="4093" y="12700"/>
                </a:cubicBezTo>
                <a:cubicBezTo>
                  <a:pt x="4190" y="12688"/>
                  <a:pt x="4320" y="12692"/>
                  <a:pt x="4366" y="12601"/>
                </a:cubicBezTo>
                <a:cubicBezTo>
                  <a:pt x="4400" y="12763"/>
                  <a:pt x="4389" y="12839"/>
                  <a:pt x="4291" y="12973"/>
                </a:cubicBezTo>
              </a:path>
              <a:path w="1787" h="2878">
                <a:moveTo>
                  <a:pt x="4390" y="13097"/>
                </a:moveTo>
                <a:cubicBezTo>
                  <a:pt x="4322" y="13118"/>
                  <a:pt x="4219" y="13127"/>
                  <a:pt x="4192" y="13171"/>
                </a:cubicBezTo>
                <a:cubicBezTo>
                  <a:pt x="4154" y="13228"/>
                  <a:pt x="4137" y="13231"/>
                  <a:pt x="4142" y="13271"/>
                </a:cubicBezTo>
                <a:cubicBezTo>
                  <a:pt x="4285" y="13271"/>
                  <a:pt x="4386" y="13285"/>
                  <a:pt x="4514" y="13345"/>
                </a:cubicBezTo>
                <a:cubicBezTo>
                  <a:pt x="4453" y="13527"/>
                  <a:pt x="4307" y="13553"/>
                  <a:pt x="4118" y="13469"/>
                </a:cubicBezTo>
                <a:cubicBezTo>
                  <a:pt x="4101" y="13452"/>
                  <a:pt x="4085" y="13436"/>
                  <a:pt x="4068" y="13419"/>
                </a:cubicBezTo>
              </a:path>
              <a:path w="1787" h="2878">
                <a:moveTo>
                  <a:pt x="3249" y="13940"/>
                </a:moveTo>
                <a:cubicBezTo>
                  <a:pt x="3789" y="13912"/>
                  <a:pt x="4346" y="13864"/>
                  <a:pt x="4887" y="13891"/>
                </a:cubicBezTo>
                <a:cubicBezTo>
                  <a:pt x="4982" y="13896"/>
                  <a:pt x="4907" y="13935"/>
                  <a:pt x="4812" y="13940"/>
                </a:cubicBezTo>
              </a:path>
              <a:path w="1787" h="2878">
                <a:moveTo>
                  <a:pt x="3274" y="13370"/>
                </a:moveTo>
                <a:cubicBezTo>
                  <a:pt x="3361" y="13445"/>
                  <a:pt x="3413" y="13494"/>
                  <a:pt x="3473" y="13593"/>
                </a:cubicBezTo>
              </a:path>
              <a:path w="1787" h="2878">
                <a:moveTo>
                  <a:pt x="3448" y="13419"/>
                </a:moveTo>
                <a:cubicBezTo>
                  <a:pt x="3380" y="13576"/>
                  <a:pt x="3362" y="13616"/>
                  <a:pt x="3324" y="13717"/>
                </a:cubicBezTo>
              </a:path>
              <a:path w="1787" h="2878">
                <a:moveTo>
                  <a:pt x="4465" y="14188"/>
                </a:moveTo>
                <a:cubicBezTo>
                  <a:pt x="4416" y="14192"/>
                  <a:pt x="4323" y="14184"/>
                  <a:pt x="4316" y="14238"/>
                </a:cubicBezTo>
                <a:cubicBezTo>
                  <a:pt x="4312" y="14273"/>
                  <a:pt x="4298" y="14303"/>
                  <a:pt x="4291" y="14337"/>
                </a:cubicBezTo>
                <a:cubicBezTo>
                  <a:pt x="4435" y="14298"/>
                  <a:pt x="4551" y="14308"/>
                  <a:pt x="4663" y="14387"/>
                </a:cubicBezTo>
                <a:cubicBezTo>
                  <a:pt x="4512" y="14638"/>
                  <a:pt x="4394" y="14572"/>
                  <a:pt x="4167" y="14436"/>
                </a:cubicBezTo>
              </a:path>
              <a:path w="1787" h="2878">
                <a:moveTo>
                  <a:pt x="3621" y="12005"/>
                </a:moveTo>
                <a:cubicBezTo>
                  <a:pt x="3597" y="12055"/>
                  <a:pt x="3589" y="12072"/>
                  <a:pt x="3572" y="12105"/>
                </a:cubicBezTo>
                <a:cubicBezTo>
                  <a:pt x="3641" y="12155"/>
                  <a:pt x="3715" y="12123"/>
                  <a:pt x="3795" y="12105"/>
                </a:cubicBezTo>
              </a:path>
              <a:path w="1787" h="2878">
                <a:moveTo>
                  <a:pt x="3795" y="11857"/>
                </a:moveTo>
                <a:cubicBezTo>
                  <a:pt x="3786" y="12027"/>
                  <a:pt x="3774" y="12192"/>
                  <a:pt x="3721" y="12353"/>
                </a:cubicBezTo>
              </a:path>
              <a:path w="1787" h="2878">
                <a:moveTo>
                  <a:pt x="3200" y="14188"/>
                </a:moveTo>
                <a:cubicBezTo>
                  <a:pt x="3244" y="14366"/>
                  <a:pt x="3271" y="14521"/>
                  <a:pt x="3225" y="14709"/>
                </a:cubicBezTo>
                <a:cubicBezTo>
                  <a:pt x="3190" y="14744"/>
                  <a:pt x="3186" y="14739"/>
                  <a:pt x="3225" y="14660"/>
                </a:cubicBezTo>
              </a:path>
              <a:path w="1787" h="2878">
                <a:moveTo>
                  <a:pt x="3547" y="14263"/>
                </a:moveTo>
                <a:cubicBezTo>
                  <a:pt x="3532" y="14334"/>
                  <a:pt x="3522" y="14369"/>
                  <a:pt x="3522" y="14436"/>
                </a:cubicBezTo>
                <a:cubicBezTo>
                  <a:pt x="3656" y="14436"/>
                  <a:pt x="3751" y="14426"/>
                  <a:pt x="3870" y="14387"/>
                </a:cubicBezTo>
              </a:path>
              <a:path w="1787" h="2878">
                <a:moveTo>
                  <a:pt x="3795" y="14114"/>
                </a:moveTo>
                <a:cubicBezTo>
                  <a:pt x="3795" y="14307"/>
                  <a:pt x="3788" y="14493"/>
                  <a:pt x="3770" y="14684"/>
                </a:cubicBezTo>
                <a:cubicBezTo>
                  <a:pt x="3770" y="14735"/>
                  <a:pt x="3776" y="14718"/>
                  <a:pt x="3795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62120" y="4357800"/>
            <a:ext cx="706680" cy="446040"/>
          </a:xfrm>
          <a:custGeom>
            <a:avLst/>
            <a:gdLst/>
            <a:ahLst/>
            <a:rect l="l" t="t" r="r" b="b"/>
            <a:pathLst>
              <a:path w="1961" h="1241">
                <a:moveTo>
                  <a:pt x="7193" y="12477"/>
                </a:moveTo>
                <a:cubicBezTo>
                  <a:pt x="7172" y="12606"/>
                  <a:pt x="7176" y="12638"/>
                  <a:pt x="7119" y="12700"/>
                </a:cubicBezTo>
                <a:cubicBezTo>
                  <a:pt x="7257" y="12700"/>
                  <a:pt x="7376" y="12657"/>
                  <a:pt x="7516" y="12650"/>
                </a:cubicBezTo>
                <a:cubicBezTo>
                  <a:pt x="7541" y="12650"/>
                  <a:pt x="7565" y="12650"/>
                  <a:pt x="7590" y="12650"/>
                </a:cubicBezTo>
              </a:path>
              <a:path w="1961" h="1241">
                <a:moveTo>
                  <a:pt x="7541" y="12328"/>
                </a:moveTo>
                <a:cubicBezTo>
                  <a:pt x="7535" y="12541"/>
                  <a:pt x="7517" y="12738"/>
                  <a:pt x="7491" y="12948"/>
                </a:cubicBezTo>
              </a:path>
              <a:path w="1961" h="1241">
                <a:moveTo>
                  <a:pt x="7987" y="12105"/>
                </a:moveTo>
                <a:cubicBezTo>
                  <a:pt x="7898" y="12154"/>
                  <a:pt x="7904" y="12184"/>
                  <a:pt x="7888" y="12303"/>
                </a:cubicBezTo>
                <a:cubicBezTo>
                  <a:pt x="7888" y="12320"/>
                  <a:pt x="7888" y="12336"/>
                  <a:pt x="7888" y="12353"/>
                </a:cubicBezTo>
                <a:cubicBezTo>
                  <a:pt x="8069" y="12338"/>
                  <a:pt x="8188" y="12323"/>
                  <a:pt x="8359" y="12378"/>
                </a:cubicBezTo>
                <a:cubicBezTo>
                  <a:pt x="8220" y="12606"/>
                  <a:pt x="8135" y="12616"/>
                  <a:pt x="7888" y="12526"/>
                </a:cubicBezTo>
              </a:path>
              <a:path w="1961" h="1241">
                <a:moveTo>
                  <a:pt x="7863" y="12650"/>
                </a:moveTo>
                <a:cubicBezTo>
                  <a:pt x="8116" y="12624"/>
                  <a:pt x="8343" y="12594"/>
                  <a:pt x="8558" y="12700"/>
                </a:cubicBezTo>
              </a:path>
              <a:path w="1961" h="1241">
                <a:moveTo>
                  <a:pt x="7987" y="12973"/>
                </a:moveTo>
                <a:cubicBezTo>
                  <a:pt x="7987" y="13077"/>
                  <a:pt x="8000" y="13207"/>
                  <a:pt x="8062" y="13295"/>
                </a:cubicBezTo>
                <a:cubicBezTo>
                  <a:pt x="8198" y="13488"/>
                  <a:pt x="8369" y="13211"/>
                  <a:pt x="8409" y="13122"/>
                </a:cubicBezTo>
                <a:cubicBezTo>
                  <a:pt x="8348" y="13129"/>
                  <a:pt x="8007" y="13207"/>
                  <a:pt x="8136" y="13345"/>
                </a:cubicBezTo>
                <a:cubicBezTo>
                  <a:pt x="8276" y="13345"/>
                  <a:pt x="8346" y="13327"/>
                  <a:pt x="8434" y="13246"/>
                </a:cubicBezTo>
              </a:path>
              <a:path w="1961" h="1241">
                <a:moveTo>
                  <a:pt x="8855" y="12650"/>
                </a:moveTo>
                <a:cubicBezTo>
                  <a:pt x="8931" y="12757"/>
                  <a:pt x="9003" y="12866"/>
                  <a:pt x="9079" y="12973"/>
                </a:cubicBezTo>
              </a:path>
              <a:path w="1961" h="1241">
                <a:moveTo>
                  <a:pt x="9004" y="12675"/>
                </a:moveTo>
                <a:cubicBezTo>
                  <a:pt x="8950" y="12834"/>
                  <a:pt x="8883" y="12909"/>
                  <a:pt x="8954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83000" y="4321080"/>
            <a:ext cx="509400" cy="376200"/>
          </a:xfrm>
          <a:custGeom>
            <a:avLst/>
            <a:gdLst/>
            <a:ahLst/>
            <a:rect l="l" t="t" r="r" b="b"/>
            <a:pathLst>
              <a:path w="1415" h="1043">
                <a:moveTo>
                  <a:pt x="9699" y="12328"/>
                </a:moveTo>
                <a:cubicBezTo>
                  <a:pt x="9905" y="12363"/>
                  <a:pt x="10129" y="12442"/>
                  <a:pt x="10120" y="12700"/>
                </a:cubicBezTo>
                <a:cubicBezTo>
                  <a:pt x="10112" y="12934"/>
                  <a:pt x="9852" y="12924"/>
                  <a:pt x="9699" y="12948"/>
                </a:cubicBezTo>
                <a:cubicBezTo>
                  <a:pt x="9747" y="12740"/>
                  <a:pt x="9939" y="12730"/>
                  <a:pt x="10170" y="12799"/>
                </a:cubicBezTo>
                <a:cubicBezTo>
                  <a:pt x="10178" y="12807"/>
                  <a:pt x="10187" y="12816"/>
                  <a:pt x="10195" y="12824"/>
                </a:cubicBezTo>
              </a:path>
              <a:path w="1415" h="1043">
                <a:moveTo>
                  <a:pt x="10740" y="12005"/>
                </a:moveTo>
                <a:cubicBezTo>
                  <a:pt x="10764" y="12114"/>
                  <a:pt x="10796" y="12221"/>
                  <a:pt x="10815" y="12328"/>
                </a:cubicBezTo>
              </a:path>
              <a:path w="1415" h="1043">
                <a:moveTo>
                  <a:pt x="10641" y="12402"/>
                </a:moveTo>
                <a:cubicBezTo>
                  <a:pt x="10813" y="12367"/>
                  <a:pt x="10915" y="12347"/>
                  <a:pt x="11088" y="12378"/>
                </a:cubicBezTo>
              </a:path>
              <a:path w="1415" h="1043">
                <a:moveTo>
                  <a:pt x="10616" y="12626"/>
                </a:moveTo>
                <a:cubicBezTo>
                  <a:pt x="10749" y="12615"/>
                  <a:pt x="11193" y="12583"/>
                  <a:pt x="11013" y="12874"/>
                </a:cubicBezTo>
                <a:cubicBezTo>
                  <a:pt x="10920" y="13025"/>
                  <a:pt x="10782" y="13032"/>
                  <a:pt x="10641" y="13022"/>
                </a:cubicBezTo>
                <a:cubicBezTo>
                  <a:pt x="10743" y="12883"/>
                  <a:pt x="10852" y="12761"/>
                  <a:pt x="10988" y="12948"/>
                </a:cubicBezTo>
                <a:cubicBezTo>
                  <a:pt x="10988" y="12956"/>
                  <a:pt x="10988" y="12965"/>
                  <a:pt x="10988" y="129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94160" y="4429080"/>
            <a:ext cx="187200" cy="98640"/>
          </a:xfrm>
          <a:custGeom>
            <a:avLst/>
            <a:gdLst/>
            <a:ahLst/>
            <a:rect l="l" t="t" r="r" b="b"/>
            <a:pathLst>
              <a:path w="522" h="274">
                <a:moveTo>
                  <a:pt x="12204" y="12328"/>
                </a:moveTo>
                <a:cubicBezTo>
                  <a:pt x="12329" y="12318"/>
                  <a:pt x="12450" y="12308"/>
                  <a:pt x="12576" y="12303"/>
                </a:cubicBezTo>
              </a:path>
              <a:path w="522" h="274">
                <a:moveTo>
                  <a:pt x="12229" y="12576"/>
                </a:moveTo>
                <a:cubicBezTo>
                  <a:pt x="12470" y="12522"/>
                  <a:pt x="12561" y="12501"/>
                  <a:pt x="12725" y="124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94200" y="4232160"/>
            <a:ext cx="1793880" cy="617760"/>
          </a:xfrm>
          <a:custGeom>
            <a:avLst/>
            <a:gdLst/>
            <a:ahLst/>
            <a:rect l="l" t="t" r="r" b="b"/>
            <a:pathLst>
              <a:path w="4987" h="1713">
                <a:moveTo>
                  <a:pt x="13717" y="12080"/>
                </a:moveTo>
                <a:cubicBezTo>
                  <a:pt x="13816" y="12080"/>
                  <a:pt x="14083" y="12094"/>
                  <a:pt x="14039" y="12278"/>
                </a:cubicBezTo>
                <a:cubicBezTo>
                  <a:pt x="13998" y="12451"/>
                  <a:pt x="13720" y="12436"/>
                  <a:pt x="13593" y="12452"/>
                </a:cubicBezTo>
                <a:cubicBezTo>
                  <a:pt x="13662" y="12335"/>
                  <a:pt x="13811" y="12224"/>
                  <a:pt x="13965" y="12353"/>
                </a:cubicBezTo>
                <a:cubicBezTo>
                  <a:pt x="13985" y="12393"/>
                  <a:pt x="13984" y="12409"/>
                  <a:pt x="14015" y="12402"/>
                </a:cubicBezTo>
              </a:path>
              <a:path w="4987" h="1713">
                <a:moveTo>
                  <a:pt x="14536" y="12055"/>
                </a:moveTo>
                <a:cubicBezTo>
                  <a:pt x="14536" y="11977"/>
                  <a:pt x="14442" y="11917"/>
                  <a:pt x="14362" y="11931"/>
                </a:cubicBezTo>
                <a:cubicBezTo>
                  <a:pt x="14278" y="11988"/>
                  <a:pt x="14247" y="12013"/>
                  <a:pt x="14213" y="12080"/>
                </a:cubicBezTo>
                <a:cubicBezTo>
                  <a:pt x="14375" y="12183"/>
                  <a:pt x="14435" y="12179"/>
                  <a:pt x="14536" y="12005"/>
                </a:cubicBezTo>
                <a:cubicBezTo>
                  <a:pt x="14566" y="12142"/>
                  <a:pt x="14609" y="12275"/>
                  <a:pt x="14560" y="12402"/>
                </a:cubicBezTo>
              </a:path>
              <a:path w="4987" h="1713">
                <a:moveTo>
                  <a:pt x="13767" y="12650"/>
                </a:moveTo>
                <a:cubicBezTo>
                  <a:pt x="14084" y="12616"/>
                  <a:pt x="14390" y="12576"/>
                  <a:pt x="14709" y="12576"/>
                </a:cubicBezTo>
              </a:path>
              <a:path w="4987" h="1713">
                <a:moveTo>
                  <a:pt x="14188" y="12774"/>
                </a:moveTo>
                <a:cubicBezTo>
                  <a:pt x="14176" y="12904"/>
                  <a:pt x="14099" y="13072"/>
                  <a:pt x="14163" y="13196"/>
                </a:cubicBezTo>
                <a:cubicBezTo>
                  <a:pt x="14245" y="13355"/>
                  <a:pt x="14488" y="13306"/>
                  <a:pt x="14585" y="13196"/>
                </a:cubicBezTo>
                <a:cubicBezTo>
                  <a:pt x="14593" y="13171"/>
                  <a:pt x="14602" y="13147"/>
                  <a:pt x="14610" y="13122"/>
                </a:cubicBezTo>
                <a:cubicBezTo>
                  <a:pt x="14498" y="13074"/>
                  <a:pt x="14375" y="13094"/>
                  <a:pt x="14362" y="13246"/>
                </a:cubicBezTo>
                <a:cubicBezTo>
                  <a:pt x="14394" y="13309"/>
                  <a:pt x="14418" y="13322"/>
                  <a:pt x="14486" y="13271"/>
                </a:cubicBezTo>
              </a:path>
              <a:path w="4987" h="1713">
                <a:moveTo>
                  <a:pt x="15032" y="12477"/>
                </a:moveTo>
                <a:cubicBezTo>
                  <a:pt x="15070" y="12519"/>
                  <a:pt x="15373" y="12883"/>
                  <a:pt x="15429" y="12849"/>
                </a:cubicBezTo>
                <a:cubicBezTo>
                  <a:pt x="15421" y="12832"/>
                  <a:pt x="15412" y="12816"/>
                  <a:pt x="15404" y="12799"/>
                </a:cubicBezTo>
              </a:path>
              <a:path w="4987" h="1713">
                <a:moveTo>
                  <a:pt x="15379" y="12427"/>
                </a:moveTo>
                <a:cubicBezTo>
                  <a:pt x="15273" y="12581"/>
                  <a:pt x="15160" y="12723"/>
                  <a:pt x="15106" y="12898"/>
                </a:cubicBezTo>
              </a:path>
              <a:path w="4987" h="1713">
                <a:moveTo>
                  <a:pt x="15925" y="12055"/>
                </a:moveTo>
                <a:cubicBezTo>
                  <a:pt x="15837" y="12022"/>
                  <a:pt x="15800" y="12012"/>
                  <a:pt x="15776" y="12105"/>
                </a:cubicBezTo>
                <a:cubicBezTo>
                  <a:pt x="15758" y="12176"/>
                  <a:pt x="15751" y="12211"/>
                  <a:pt x="15751" y="12278"/>
                </a:cubicBezTo>
                <a:cubicBezTo>
                  <a:pt x="15878" y="12237"/>
                  <a:pt x="16001" y="12171"/>
                  <a:pt x="16098" y="12303"/>
                </a:cubicBezTo>
                <a:cubicBezTo>
                  <a:pt x="16205" y="12450"/>
                  <a:pt x="15820" y="12360"/>
                  <a:pt x="15801" y="12353"/>
                </a:cubicBezTo>
              </a:path>
              <a:path w="4987" h="1713">
                <a:moveTo>
                  <a:pt x="15801" y="12601"/>
                </a:moveTo>
                <a:cubicBezTo>
                  <a:pt x="15984" y="12595"/>
                  <a:pt x="16164" y="12584"/>
                  <a:pt x="16346" y="12576"/>
                </a:cubicBezTo>
              </a:path>
              <a:path w="4987" h="1713">
                <a:moveTo>
                  <a:pt x="15900" y="12824"/>
                </a:moveTo>
                <a:cubicBezTo>
                  <a:pt x="16025" y="12860"/>
                  <a:pt x="16223" y="12934"/>
                  <a:pt x="16272" y="13072"/>
                </a:cubicBezTo>
                <a:cubicBezTo>
                  <a:pt x="16264" y="13097"/>
                  <a:pt x="16255" y="13121"/>
                  <a:pt x="16247" y="13146"/>
                </a:cubicBezTo>
                <a:cubicBezTo>
                  <a:pt x="16076" y="13210"/>
                  <a:pt x="15989" y="13249"/>
                  <a:pt x="15825" y="13146"/>
                </a:cubicBezTo>
                <a:cubicBezTo>
                  <a:pt x="15934" y="13108"/>
                  <a:pt x="16091" y="13046"/>
                  <a:pt x="16197" y="13146"/>
                </a:cubicBezTo>
                <a:cubicBezTo>
                  <a:pt x="16205" y="13163"/>
                  <a:pt x="16214" y="13179"/>
                  <a:pt x="16222" y="13196"/>
                </a:cubicBezTo>
              </a:path>
              <a:path w="4987" h="1713">
                <a:moveTo>
                  <a:pt x="15776" y="12030"/>
                </a:moveTo>
                <a:cubicBezTo>
                  <a:pt x="15837" y="12010"/>
                  <a:pt x="15961" y="11958"/>
                  <a:pt x="16049" y="11931"/>
                </a:cubicBezTo>
                <a:cubicBezTo>
                  <a:pt x="16099" y="11916"/>
                  <a:pt x="16205" y="11856"/>
                  <a:pt x="16222" y="11906"/>
                </a:cubicBezTo>
              </a:path>
              <a:path w="4987" h="1713">
                <a:moveTo>
                  <a:pt x="16718" y="12452"/>
                </a:moveTo>
                <a:cubicBezTo>
                  <a:pt x="16791" y="12437"/>
                  <a:pt x="16953" y="12370"/>
                  <a:pt x="16991" y="12427"/>
                </a:cubicBezTo>
              </a:path>
              <a:path w="4987" h="1713">
                <a:moveTo>
                  <a:pt x="16743" y="12650"/>
                </a:moveTo>
                <a:cubicBezTo>
                  <a:pt x="16859" y="12673"/>
                  <a:pt x="16892" y="12684"/>
                  <a:pt x="16966" y="12650"/>
                </a:cubicBezTo>
              </a:path>
              <a:path w="4987" h="1713">
                <a:moveTo>
                  <a:pt x="17735" y="12973"/>
                </a:moveTo>
                <a:cubicBezTo>
                  <a:pt x="17800" y="13142"/>
                  <a:pt x="17837" y="13287"/>
                  <a:pt x="17859" y="13469"/>
                </a:cubicBezTo>
              </a:path>
              <a:path w="4987" h="1713">
                <a:moveTo>
                  <a:pt x="18058" y="12998"/>
                </a:moveTo>
                <a:cubicBezTo>
                  <a:pt x="18182" y="12976"/>
                  <a:pt x="18256" y="12976"/>
                  <a:pt x="18380" y="12998"/>
                </a:cubicBezTo>
                <a:cubicBezTo>
                  <a:pt x="18335" y="13155"/>
                  <a:pt x="18214" y="13252"/>
                  <a:pt x="18132" y="13395"/>
                </a:cubicBezTo>
                <a:cubicBezTo>
                  <a:pt x="18229" y="13383"/>
                  <a:pt x="18430" y="13369"/>
                  <a:pt x="18504" y="13320"/>
                </a:cubicBezTo>
                <a:cubicBezTo>
                  <a:pt x="18488" y="13320"/>
                  <a:pt x="18471" y="13320"/>
                  <a:pt x="18455" y="13320"/>
                </a:cubicBezTo>
              </a:path>
              <a:path w="4987" h="1713">
                <a:moveTo>
                  <a:pt x="17562" y="12874"/>
                </a:moveTo>
                <a:cubicBezTo>
                  <a:pt x="17756" y="12818"/>
                  <a:pt x="17952" y="12759"/>
                  <a:pt x="18157" y="12725"/>
                </a:cubicBezTo>
                <a:cubicBezTo>
                  <a:pt x="18306" y="12706"/>
                  <a:pt x="18322" y="12698"/>
                  <a:pt x="18405" y="12700"/>
                </a:cubicBezTo>
              </a:path>
              <a:path w="4987" h="1713">
                <a:moveTo>
                  <a:pt x="17562" y="11956"/>
                </a:moveTo>
                <a:cubicBezTo>
                  <a:pt x="17562" y="12090"/>
                  <a:pt x="17543" y="12220"/>
                  <a:pt x="17537" y="12353"/>
                </a:cubicBezTo>
                <a:cubicBezTo>
                  <a:pt x="17537" y="12361"/>
                  <a:pt x="17537" y="12370"/>
                  <a:pt x="17537" y="12378"/>
                </a:cubicBezTo>
              </a:path>
              <a:path w="4987" h="1713">
                <a:moveTo>
                  <a:pt x="17760" y="11881"/>
                </a:moveTo>
                <a:cubicBezTo>
                  <a:pt x="17771" y="11958"/>
                  <a:pt x="17785" y="12026"/>
                  <a:pt x="17785" y="12105"/>
                </a:cubicBezTo>
                <a:cubicBezTo>
                  <a:pt x="17898" y="12105"/>
                  <a:pt x="17998" y="12096"/>
                  <a:pt x="18107" y="12080"/>
                </a:cubicBezTo>
              </a:path>
              <a:path w="4987" h="1713">
                <a:moveTo>
                  <a:pt x="18083" y="11807"/>
                </a:moveTo>
                <a:cubicBezTo>
                  <a:pt x="18045" y="11982"/>
                  <a:pt x="17833" y="12454"/>
                  <a:pt x="17959" y="12328"/>
                </a:cubicBezTo>
                <a:cubicBezTo>
                  <a:pt x="17967" y="12303"/>
                  <a:pt x="17975" y="12279"/>
                  <a:pt x="17983" y="12254"/>
                </a:cubicBezTo>
              </a:path>
              <a:path w="4987" h="1713">
                <a:moveTo>
                  <a:pt x="18380" y="11782"/>
                </a:moveTo>
                <a:cubicBezTo>
                  <a:pt x="18311" y="11770"/>
                  <a:pt x="18259" y="11730"/>
                  <a:pt x="18231" y="11807"/>
                </a:cubicBezTo>
                <a:cubicBezTo>
                  <a:pt x="18207" y="11880"/>
                  <a:pt x="18199" y="11904"/>
                  <a:pt x="18207" y="11956"/>
                </a:cubicBezTo>
                <a:cubicBezTo>
                  <a:pt x="18321" y="11956"/>
                  <a:pt x="18517" y="11903"/>
                  <a:pt x="18579" y="12030"/>
                </a:cubicBezTo>
                <a:cubicBezTo>
                  <a:pt x="18688" y="12255"/>
                  <a:pt x="18292" y="12274"/>
                  <a:pt x="18182" y="12204"/>
                </a:cubicBezTo>
                <a:cubicBezTo>
                  <a:pt x="18157" y="12171"/>
                  <a:pt x="18132" y="12138"/>
                  <a:pt x="18107" y="121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16680" y="5054760"/>
            <a:ext cx="1206360" cy="687240"/>
          </a:xfrm>
          <a:custGeom>
            <a:avLst/>
            <a:gdLst/>
            <a:ahLst/>
            <a:rect l="l" t="t" r="r" b="b"/>
            <a:pathLst>
              <a:path w="3350" h="1911">
                <a:moveTo>
                  <a:pt x="15131" y="14784"/>
                </a:moveTo>
                <a:cubicBezTo>
                  <a:pt x="15096" y="14983"/>
                  <a:pt x="15067" y="15181"/>
                  <a:pt x="15032" y="15379"/>
                </a:cubicBezTo>
              </a:path>
              <a:path w="3350" h="1911">
                <a:moveTo>
                  <a:pt x="15404" y="14784"/>
                </a:moveTo>
                <a:cubicBezTo>
                  <a:pt x="15565" y="14857"/>
                  <a:pt x="15995" y="15024"/>
                  <a:pt x="15776" y="15280"/>
                </a:cubicBezTo>
                <a:cubicBezTo>
                  <a:pt x="15643" y="15436"/>
                  <a:pt x="15456" y="15394"/>
                  <a:pt x="15304" y="15354"/>
                </a:cubicBezTo>
                <a:cubicBezTo>
                  <a:pt x="15405" y="15199"/>
                  <a:pt x="15511" y="15102"/>
                  <a:pt x="15701" y="15255"/>
                </a:cubicBezTo>
                <a:cubicBezTo>
                  <a:pt x="15735" y="15282"/>
                  <a:pt x="15669" y="15286"/>
                  <a:pt x="15726" y="15304"/>
                </a:cubicBezTo>
              </a:path>
              <a:path w="3350" h="1911">
                <a:moveTo>
                  <a:pt x="16148" y="14362"/>
                </a:moveTo>
                <a:cubicBezTo>
                  <a:pt x="16194" y="14491"/>
                  <a:pt x="16230" y="14622"/>
                  <a:pt x="16247" y="14759"/>
                </a:cubicBezTo>
              </a:path>
              <a:path w="3350" h="1911">
                <a:moveTo>
                  <a:pt x="16173" y="14932"/>
                </a:moveTo>
                <a:cubicBezTo>
                  <a:pt x="16370" y="14932"/>
                  <a:pt x="16580" y="14921"/>
                  <a:pt x="16768" y="14957"/>
                </a:cubicBezTo>
              </a:path>
              <a:path w="3350" h="1911">
                <a:moveTo>
                  <a:pt x="16173" y="15180"/>
                </a:moveTo>
                <a:cubicBezTo>
                  <a:pt x="16148" y="15344"/>
                  <a:pt x="16137" y="15461"/>
                  <a:pt x="16148" y="15627"/>
                </a:cubicBezTo>
              </a:path>
              <a:path w="3350" h="1911">
                <a:moveTo>
                  <a:pt x="16495" y="15205"/>
                </a:moveTo>
                <a:cubicBezTo>
                  <a:pt x="16644" y="15292"/>
                  <a:pt x="16885" y="15500"/>
                  <a:pt x="16570" y="15602"/>
                </a:cubicBezTo>
                <a:cubicBezTo>
                  <a:pt x="16447" y="15602"/>
                  <a:pt x="16416" y="15620"/>
                  <a:pt x="16371" y="15553"/>
                </a:cubicBezTo>
                <a:cubicBezTo>
                  <a:pt x="16538" y="15501"/>
                  <a:pt x="16621" y="15503"/>
                  <a:pt x="16743" y="15652"/>
                </a:cubicBezTo>
                <a:cubicBezTo>
                  <a:pt x="16743" y="15660"/>
                  <a:pt x="16743" y="15669"/>
                  <a:pt x="16743" y="15677"/>
                </a:cubicBezTo>
              </a:path>
              <a:path w="3350" h="1911">
                <a:moveTo>
                  <a:pt x="14957" y="15875"/>
                </a:moveTo>
                <a:cubicBezTo>
                  <a:pt x="15546" y="15951"/>
                  <a:pt x="16152" y="16005"/>
                  <a:pt x="16743" y="15900"/>
                </a:cubicBezTo>
                <a:cubicBezTo>
                  <a:pt x="17244" y="15811"/>
                  <a:pt x="17882" y="15411"/>
                  <a:pt x="17413" y="14833"/>
                </a:cubicBezTo>
                <a:cubicBezTo>
                  <a:pt x="16822" y="14105"/>
                  <a:pt x="15744" y="13855"/>
                  <a:pt x="14883" y="14188"/>
                </a:cubicBezTo>
                <a:cubicBezTo>
                  <a:pt x="14425" y="14486"/>
                  <a:pt x="14277" y="14552"/>
                  <a:pt x="14213" y="14932"/>
                </a:cubicBezTo>
                <a:cubicBezTo>
                  <a:pt x="14656" y="15750"/>
                  <a:pt x="14956" y="15662"/>
                  <a:pt x="15875" y="155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05640" y="1320840"/>
            <a:ext cx="866520" cy="849240"/>
          </a:xfrm>
          <a:custGeom>
            <a:avLst/>
            <a:gdLst/>
            <a:ahLst/>
            <a:rect l="l" t="t" r="r" b="b"/>
            <a:pathLst>
              <a:path w="2407" h="2358">
                <a:moveTo>
                  <a:pt x="16495" y="5953"/>
                </a:moveTo>
                <a:cubicBezTo>
                  <a:pt x="17078" y="6031"/>
                  <a:pt x="17532" y="6005"/>
                  <a:pt x="17959" y="5531"/>
                </a:cubicBezTo>
                <a:cubicBezTo>
                  <a:pt x="18288" y="5166"/>
                  <a:pt x="18382" y="4622"/>
                  <a:pt x="17983" y="4266"/>
                </a:cubicBezTo>
                <a:cubicBezTo>
                  <a:pt x="17636" y="3956"/>
                  <a:pt x="16828" y="3471"/>
                  <a:pt x="16346" y="3746"/>
                </a:cubicBezTo>
                <a:cubicBezTo>
                  <a:pt x="15720" y="4102"/>
                  <a:pt x="15652" y="5256"/>
                  <a:pt x="16222" y="5680"/>
                </a:cubicBezTo>
                <a:cubicBezTo>
                  <a:pt x="16387" y="5730"/>
                  <a:pt x="16553" y="5779"/>
                  <a:pt x="16718" y="58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2760" y="2500200"/>
            <a:ext cx="1071360" cy="857520"/>
          </a:xfrm>
          <a:custGeom>
            <a:avLst/>
            <a:gdLst/>
            <a:ahLst/>
            <a:rect l="l" t="t" r="r" b="b"/>
            <a:pathLst>
              <a:path w="2977" h="2383">
                <a:moveTo>
                  <a:pt x="20638" y="9203"/>
                </a:moveTo>
                <a:cubicBezTo>
                  <a:pt x="20902" y="9310"/>
                  <a:pt x="21047" y="9346"/>
                  <a:pt x="21357" y="9302"/>
                </a:cubicBezTo>
                <a:cubicBezTo>
                  <a:pt x="21970" y="9215"/>
                  <a:pt x="22528" y="8828"/>
                  <a:pt x="22895" y="8334"/>
                </a:cubicBezTo>
                <a:cubicBezTo>
                  <a:pt x="23289" y="7803"/>
                  <a:pt x="22972" y="7376"/>
                  <a:pt x="22448" y="7144"/>
                </a:cubicBezTo>
                <a:cubicBezTo>
                  <a:pt x="21946" y="6921"/>
                  <a:pt x="21142" y="6805"/>
                  <a:pt x="20638" y="7094"/>
                </a:cubicBezTo>
                <a:cubicBezTo>
                  <a:pt x="20295" y="7290"/>
                  <a:pt x="19788" y="8236"/>
                  <a:pt x="20216" y="8582"/>
                </a:cubicBezTo>
                <a:cubicBezTo>
                  <a:pt x="20635" y="8666"/>
                  <a:pt x="20807" y="8687"/>
                  <a:pt x="21109" y="86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96120" y="4179960"/>
            <a:ext cx="1035000" cy="1554120"/>
          </a:xfrm>
          <a:custGeom>
            <a:avLst/>
            <a:gdLst/>
            <a:ahLst/>
            <a:rect l="l" t="t" r="r" b="b"/>
            <a:pathLst>
              <a:path w="2879" h="4317">
                <a:moveTo>
                  <a:pt x="21357" y="12626"/>
                </a:moveTo>
                <a:cubicBezTo>
                  <a:pt x="21341" y="12785"/>
                  <a:pt x="21311" y="12946"/>
                  <a:pt x="21258" y="13097"/>
                </a:cubicBezTo>
                <a:cubicBezTo>
                  <a:pt x="21258" y="13089"/>
                  <a:pt x="21258" y="13080"/>
                  <a:pt x="21258" y="13072"/>
                </a:cubicBezTo>
              </a:path>
              <a:path w="2879" h="4317">
                <a:moveTo>
                  <a:pt x="21654" y="12626"/>
                </a:moveTo>
                <a:cubicBezTo>
                  <a:pt x="21649" y="12715"/>
                  <a:pt x="21578" y="12877"/>
                  <a:pt x="21729" y="12874"/>
                </a:cubicBezTo>
                <a:cubicBezTo>
                  <a:pt x="21889" y="12851"/>
                  <a:pt x="21934" y="12848"/>
                  <a:pt x="22027" y="12799"/>
                </a:cubicBezTo>
              </a:path>
              <a:path w="2879" h="4317">
                <a:moveTo>
                  <a:pt x="22027" y="12502"/>
                </a:moveTo>
                <a:cubicBezTo>
                  <a:pt x="21991" y="12699"/>
                  <a:pt x="21952" y="12900"/>
                  <a:pt x="21927" y="13097"/>
                </a:cubicBezTo>
              </a:path>
              <a:path w="2879" h="4317">
                <a:moveTo>
                  <a:pt x="22547" y="12452"/>
                </a:moveTo>
                <a:cubicBezTo>
                  <a:pt x="22497" y="12452"/>
                  <a:pt x="22377" y="12425"/>
                  <a:pt x="22349" y="12477"/>
                </a:cubicBezTo>
                <a:cubicBezTo>
                  <a:pt x="22307" y="12555"/>
                  <a:pt x="22271" y="12666"/>
                  <a:pt x="22250" y="12750"/>
                </a:cubicBezTo>
                <a:cubicBezTo>
                  <a:pt x="22393" y="12737"/>
                  <a:pt x="22592" y="12672"/>
                  <a:pt x="22721" y="12774"/>
                </a:cubicBezTo>
                <a:cubicBezTo>
                  <a:pt x="23044" y="13029"/>
                  <a:pt x="22500" y="13029"/>
                  <a:pt x="22399" y="13022"/>
                </a:cubicBezTo>
              </a:path>
              <a:path w="2879" h="4317">
                <a:moveTo>
                  <a:pt x="20960" y="13171"/>
                </a:moveTo>
                <a:cubicBezTo>
                  <a:pt x="21077" y="13069"/>
                  <a:pt x="21047" y="13009"/>
                  <a:pt x="21084" y="12824"/>
                </a:cubicBezTo>
                <a:cubicBezTo>
                  <a:pt x="21115" y="12667"/>
                  <a:pt x="21144" y="12508"/>
                  <a:pt x="21183" y="12353"/>
                </a:cubicBezTo>
                <a:cubicBezTo>
                  <a:pt x="21506" y="12381"/>
                  <a:pt x="21825" y="12378"/>
                  <a:pt x="22151" y="12378"/>
                </a:cubicBezTo>
                <a:cubicBezTo>
                  <a:pt x="22342" y="12378"/>
                  <a:pt x="23049" y="12299"/>
                  <a:pt x="23118" y="12402"/>
                </a:cubicBezTo>
              </a:path>
              <a:path w="2879" h="4317">
                <a:moveTo>
                  <a:pt x="20365" y="12601"/>
                </a:moveTo>
                <a:cubicBezTo>
                  <a:pt x="20429" y="12756"/>
                  <a:pt x="20323" y="12918"/>
                  <a:pt x="20265" y="13072"/>
                </a:cubicBezTo>
              </a:path>
              <a:path w="2879" h="4317">
                <a:moveTo>
                  <a:pt x="20638" y="12551"/>
                </a:moveTo>
                <a:cubicBezTo>
                  <a:pt x="20783" y="12568"/>
                  <a:pt x="21054" y="12639"/>
                  <a:pt x="20886" y="12849"/>
                </a:cubicBezTo>
                <a:cubicBezTo>
                  <a:pt x="20796" y="12961"/>
                  <a:pt x="20590" y="12949"/>
                  <a:pt x="20513" y="12874"/>
                </a:cubicBezTo>
                <a:cubicBezTo>
                  <a:pt x="20692" y="12861"/>
                  <a:pt x="20796" y="12863"/>
                  <a:pt x="20960" y="12923"/>
                </a:cubicBezTo>
              </a:path>
              <a:path w="2879" h="4317">
                <a:moveTo>
                  <a:pt x="22027" y="11832"/>
                </a:moveTo>
                <a:cubicBezTo>
                  <a:pt x="22027" y="11729"/>
                  <a:pt x="21974" y="11979"/>
                  <a:pt x="21952" y="12080"/>
                </a:cubicBezTo>
                <a:cubicBezTo>
                  <a:pt x="21934" y="12188"/>
                  <a:pt x="21926" y="12195"/>
                  <a:pt x="21927" y="12254"/>
                </a:cubicBezTo>
              </a:path>
              <a:path w="2879" h="4317">
                <a:moveTo>
                  <a:pt x="21382" y="13370"/>
                </a:moveTo>
                <a:cubicBezTo>
                  <a:pt x="21366" y="13466"/>
                  <a:pt x="21317" y="13552"/>
                  <a:pt x="21282" y="13643"/>
                </a:cubicBezTo>
              </a:path>
              <a:path w="2879" h="4317">
                <a:moveTo>
                  <a:pt x="21729" y="13320"/>
                </a:moveTo>
                <a:cubicBezTo>
                  <a:pt x="21853" y="13245"/>
                  <a:pt x="22011" y="13337"/>
                  <a:pt x="22002" y="13519"/>
                </a:cubicBezTo>
                <a:cubicBezTo>
                  <a:pt x="21992" y="13716"/>
                  <a:pt x="21749" y="13669"/>
                  <a:pt x="21654" y="13618"/>
                </a:cubicBezTo>
                <a:cubicBezTo>
                  <a:pt x="21715" y="13532"/>
                  <a:pt x="21815" y="13509"/>
                  <a:pt x="21878" y="13643"/>
                </a:cubicBezTo>
                <a:cubicBezTo>
                  <a:pt x="21878" y="13651"/>
                  <a:pt x="21878" y="13659"/>
                  <a:pt x="21878" y="13667"/>
                </a:cubicBezTo>
              </a:path>
              <a:path w="2879" h="4317">
                <a:moveTo>
                  <a:pt x="20811" y="13543"/>
                </a:moveTo>
                <a:cubicBezTo>
                  <a:pt x="20960" y="13519"/>
                  <a:pt x="21010" y="13511"/>
                  <a:pt x="21109" y="13494"/>
                </a:cubicBezTo>
              </a:path>
              <a:path w="2879" h="4317">
                <a:moveTo>
                  <a:pt x="21109" y="13891"/>
                </a:moveTo>
                <a:cubicBezTo>
                  <a:pt x="21446" y="13867"/>
                  <a:pt x="21765" y="13847"/>
                  <a:pt x="22101" y="13866"/>
                </a:cubicBezTo>
              </a:path>
              <a:path w="2879" h="4317">
                <a:moveTo>
                  <a:pt x="21729" y="14039"/>
                </a:moveTo>
                <a:cubicBezTo>
                  <a:pt x="21894" y="14063"/>
                  <a:pt x="21952" y="14096"/>
                  <a:pt x="22051" y="14213"/>
                </a:cubicBezTo>
                <a:cubicBezTo>
                  <a:pt x="21928" y="14399"/>
                  <a:pt x="21854" y="14411"/>
                  <a:pt x="21630" y="14387"/>
                </a:cubicBezTo>
                <a:cubicBezTo>
                  <a:pt x="21689" y="14292"/>
                  <a:pt x="21821" y="14247"/>
                  <a:pt x="21952" y="14312"/>
                </a:cubicBezTo>
                <a:cubicBezTo>
                  <a:pt x="21991" y="14331"/>
                  <a:pt x="21930" y="14373"/>
                  <a:pt x="22002" y="14337"/>
                </a:cubicBezTo>
              </a:path>
              <a:path w="2879" h="4317">
                <a:moveTo>
                  <a:pt x="22448" y="13171"/>
                </a:moveTo>
                <a:cubicBezTo>
                  <a:pt x="22448" y="13363"/>
                  <a:pt x="22431" y="13551"/>
                  <a:pt x="22423" y="13742"/>
                </a:cubicBezTo>
              </a:path>
              <a:path w="2879" h="4317">
                <a:moveTo>
                  <a:pt x="22250" y="13618"/>
                </a:moveTo>
                <a:cubicBezTo>
                  <a:pt x="22331" y="13681"/>
                  <a:pt x="22381" y="13761"/>
                  <a:pt x="22448" y="13841"/>
                </a:cubicBezTo>
                <a:cubicBezTo>
                  <a:pt x="22560" y="13748"/>
                  <a:pt x="22636" y="13640"/>
                  <a:pt x="22721" y="13519"/>
                </a:cubicBezTo>
              </a:path>
              <a:path w="2879" h="4317">
                <a:moveTo>
                  <a:pt x="22498" y="13990"/>
                </a:moveTo>
                <a:cubicBezTo>
                  <a:pt x="22432" y="13990"/>
                  <a:pt x="22365" y="13990"/>
                  <a:pt x="22299" y="13990"/>
                </a:cubicBezTo>
                <a:cubicBezTo>
                  <a:pt x="22365" y="14012"/>
                  <a:pt x="22306" y="14131"/>
                  <a:pt x="22299" y="14188"/>
                </a:cubicBezTo>
                <a:cubicBezTo>
                  <a:pt x="22299" y="14205"/>
                  <a:pt x="22299" y="14221"/>
                  <a:pt x="22299" y="14238"/>
                </a:cubicBezTo>
                <a:cubicBezTo>
                  <a:pt x="22392" y="14238"/>
                  <a:pt x="22476" y="14174"/>
                  <a:pt x="22572" y="14188"/>
                </a:cubicBezTo>
                <a:cubicBezTo>
                  <a:pt x="22659" y="14232"/>
                  <a:pt x="22683" y="14239"/>
                  <a:pt x="22721" y="14288"/>
                </a:cubicBezTo>
                <a:cubicBezTo>
                  <a:pt x="22573" y="14421"/>
                  <a:pt x="22485" y="14385"/>
                  <a:pt x="22299" y="14312"/>
                </a:cubicBezTo>
              </a:path>
              <a:path w="2879" h="4317">
                <a:moveTo>
                  <a:pt x="22597" y="11658"/>
                </a:moveTo>
                <a:cubicBezTo>
                  <a:pt x="22550" y="11678"/>
                  <a:pt x="22534" y="11681"/>
                  <a:pt x="22498" y="11708"/>
                </a:cubicBezTo>
                <a:cubicBezTo>
                  <a:pt x="22514" y="11642"/>
                  <a:pt x="22619" y="11563"/>
                  <a:pt x="22696" y="11609"/>
                </a:cubicBezTo>
                <a:cubicBezTo>
                  <a:pt x="22985" y="11782"/>
                  <a:pt x="22572" y="12076"/>
                  <a:pt x="22423" y="12129"/>
                </a:cubicBezTo>
                <a:cubicBezTo>
                  <a:pt x="22407" y="12129"/>
                  <a:pt x="22390" y="12129"/>
                  <a:pt x="22374" y="12129"/>
                </a:cubicBezTo>
                <a:cubicBezTo>
                  <a:pt x="22439" y="11986"/>
                  <a:pt x="22513" y="11954"/>
                  <a:pt x="22647" y="12080"/>
                </a:cubicBezTo>
                <a:cubicBezTo>
                  <a:pt x="22706" y="12159"/>
                  <a:pt x="22731" y="12168"/>
                  <a:pt x="22721" y="12229"/>
                </a:cubicBezTo>
              </a:path>
              <a:path w="2879" h="4317">
                <a:moveTo>
                  <a:pt x="21878" y="14660"/>
                </a:moveTo>
                <a:cubicBezTo>
                  <a:pt x="21940" y="14628"/>
                  <a:pt x="21972" y="14620"/>
                  <a:pt x="22027" y="14635"/>
                </a:cubicBezTo>
                <a:cubicBezTo>
                  <a:pt x="22141" y="14826"/>
                  <a:pt x="22101" y="14945"/>
                  <a:pt x="21853" y="15007"/>
                </a:cubicBezTo>
                <a:cubicBezTo>
                  <a:pt x="21820" y="15007"/>
                  <a:pt x="21787" y="15007"/>
                  <a:pt x="21754" y="15007"/>
                </a:cubicBezTo>
                <a:cubicBezTo>
                  <a:pt x="21843" y="14898"/>
                  <a:pt x="21970" y="14818"/>
                  <a:pt x="22101" y="14957"/>
                </a:cubicBezTo>
                <a:cubicBezTo>
                  <a:pt x="22109" y="14974"/>
                  <a:pt x="22118" y="14990"/>
                  <a:pt x="22126" y="15007"/>
                </a:cubicBezTo>
              </a:path>
              <a:path w="2879" h="4317">
                <a:moveTo>
                  <a:pt x="22423" y="14660"/>
                </a:moveTo>
                <a:cubicBezTo>
                  <a:pt x="22423" y="14735"/>
                  <a:pt x="22403" y="14939"/>
                  <a:pt x="22547" y="14883"/>
                </a:cubicBezTo>
                <a:cubicBezTo>
                  <a:pt x="22580" y="14858"/>
                  <a:pt x="22614" y="14833"/>
                  <a:pt x="22647" y="14808"/>
                </a:cubicBezTo>
              </a:path>
              <a:path w="2879" h="4317">
                <a:moveTo>
                  <a:pt x="22671" y="14560"/>
                </a:moveTo>
                <a:cubicBezTo>
                  <a:pt x="22632" y="14791"/>
                  <a:pt x="22603" y="14991"/>
                  <a:pt x="22473" y="15180"/>
                </a:cubicBezTo>
              </a:path>
              <a:path w="2879" h="4317">
                <a:moveTo>
                  <a:pt x="21481" y="15379"/>
                </a:moveTo>
                <a:cubicBezTo>
                  <a:pt x="21884" y="15370"/>
                  <a:pt x="22271" y="15319"/>
                  <a:pt x="22671" y="15280"/>
                </a:cubicBezTo>
                <a:cubicBezTo>
                  <a:pt x="22713" y="15280"/>
                  <a:pt x="22721" y="15280"/>
                  <a:pt x="22746" y="15280"/>
                </a:cubicBezTo>
              </a:path>
              <a:path w="2879" h="4317">
                <a:moveTo>
                  <a:pt x="21530" y="14883"/>
                </a:moveTo>
                <a:cubicBezTo>
                  <a:pt x="21623" y="14874"/>
                  <a:pt x="21708" y="14863"/>
                  <a:pt x="21803" y="14858"/>
                </a:cubicBezTo>
              </a:path>
              <a:path w="2879" h="4317">
                <a:moveTo>
                  <a:pt x="22622" y="15453"/>
                </a:moveTo>
                <a:cubicBezTo>
                  <a:pt x="22604" y="15594"/>
                  <a:pt x="22565" y="15734"/>
                  <a:pt x="22547" y="15875"/>
                </a:cubicBezTo>
                <a:cubicBezTo>
                  <a:pt x="22547" y="15917"/>
                  <a:pt x="22547" y="15942"/>
                  <a:pt x="22547" y="159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Unit 9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ing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Baskerville Old Face"/>
              </a:rPr>
              <a:t>Objective: To divide fractions &amp; mixed numbers.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Steps: Keep Change F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Keep the first fraction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the division sign to a multiplicatio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ip the second fra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 simpl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if nee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7960" y="919080"/>
            <a:ext cx="1697040" cy="384120"/>
          </a:xfrm>
          <a:custGeom>
            <a:avLst/>
            <a:gdLst/>
            <a:ahLst/>
            <a:rect l="l" t="t" r="r" b="b"/>
            <a:pathLst>
              <a:path w="4714" h="1067">
                <a:moveTo>
                  <a:pt x="7962" y="2629"/>
                </a:moveTo>
                <a:cubicBezTo>
                  <a:pt x="7962" y="2799"/>
                  <a:pt x="7960" y="2983"/>
                  <a:pt x="7938" y="3150"/>
                </a:cubicBezTo>
                <a:cubicBezTo>
                  <a:pt x="7930" y="3175"/>
                  <a:pt x="7921" y="3200"/>
                  <a:pt x="7913" y="3225"/>
                </a:cubicBezTo>
              </a:path>
              <a:path w="4714" h="1067">
                <a:moveTo>
                  <a:pt x="7938" y="2580"/>
                </a:moveTo>
                <a:cubicBezTo>
                  <a:pt x="7974" y="2726"/>
                  <a:pt x="8060" y="2870"/>
                  <a:pt x="8136" y="3001"/>
                </a:cubicBezTo>
                <a:cubicBezTo>
                  <a:pt x="8174" y="3058"/>
                  <a:pt x="8191" y="3061"/>
                  <a:pt x="8186" y="3101"/>
                </a:cubicBezTo>
                <a:cubicBezTo>
                  <a:pt x="8241" y="2952"/>
                  <a:pt x="8320" y="2802"/>
                  <a:pt x="8384" y="2654"/>
                </a:cubicBezTo>
                <a:cubicBezTo>
                  <a:pt x="8392" y="2629"/>
                  <a:pt x="8401" y="2605"/>
                  <a:pt x="8409" y="2580"/>
                </a:cubicBezTo>
                <a:cubicBezTo>
                  <a:pt x="8440" y="2733"/>
                  <a:pt x="8480" y="2893"/>
                  <a:pt x="8508" y="3051"/>
                </a:cubicBezTo>
                <a:cubicBezTo>
                  <a:pt x="8528" y="3150"/>
                  <a:pt x="8536" y="3166"/>
                  <a:pt x="8533" y="3225"/>
                </a:cubicBezTo>
              </a:path>
              <a:path w="4714" h="1067">
                <a:moveTo>
                  <a:pt x="8756" y="2828"/>
                </a:moveTo>
                <a:cubicBezTo>
                  <a:pt x="8738" y="2892"/>
                  <a:pt x="8677" y="3126"/>
                  <a:pt x="8756" y="3175"/>
                </a:cubicBezTo>
                <a:cubicBezTo>
                  <a:pt x="8885" y="3254"/>
                  <a:pt x="8913" y="3004"/>
                  <a:pt x="8930" y="2952"/>
                </a:cubicBezTo>
                <a:cubicBezTo>
                  <a:pt x="8910" y="2932"/>
                  <a:pt x="8902" y="3104"/>
                  <a:pt x="9029" y="3150"/>
                </a:cubicBezTo>
              </a:path>
              <a:path w="4714" h="1067">
                <a:moveTo>
                  <a:pt x="9128" y="2555"/>
                </a:moveTo>
                <a:cubicBezTo>
                  <a:pt x="9189" y="2749"/>
                  <a:pt x="9221" y="2922"/>
                  <a:pt x="9227" y="3125"/>
                </a:cubicBezTo>
                <a:cubicBezTo>
                  <a:pt x="9227" y="3142"/>
                  <a:pt x="9227" y="3158"/>
                  <a:pt x="9227" y="3175"/>
                </a:cubicBezTo>
              </a:path>
              <a:path w="4714" h="1067">
                <a:moveTo>
                  <a:pt x="9475" y="2629"/>
                </a:moveTo>
                <a:cubicBezTo>
                  <a:pt x="9563" y="2762"/>
                  <a:pt x="9578" y="2947"/>
                  <a:pt x="9624" y="3101"/>
                </a:cubicBezTo>
                <a:cubicBezTo>
                  <a:pt x="9643" y="3158"/>
                  <a:pt x="9652" y="3201"/>
                  <a:pt x="9649" y="3150"/>
                </a:cubicBezTo>
              </a:path>
              <a:path w="4714" h="1067">
                <a:moveTo>
                  <a:pt x="9426" y="2803"/>
                </a:moveTo>
                <a:cubicBezTo>
                  <a:pt x="9666" y="2773"/>
                  <a:pt x="9801" y="2753"/>
                  <a:pt x="9922" y="3001"/>
                </a:cubicBezTo>
                <a:cubicBezTo>
                  <a:pt x="9930" y="3034"/>
                  <a:pt x="9939" y="3068"/>
                  <a:pt x="9947" y="3101"/>
                </a:cubicBezTo>
              </a:path>
              <a:path w="4714" h="1067">
                <a:moveTo>
                  <a:pt x="9922" y="2753"/>
                </a:moveTo>
                <a:lnTo>
                  <a:pt x="9922" y="2753"/>
                </a:lnTo>
                <a:lnTo>
                  <a:pt x="9922" y="2753"/>
                </a:lnTo>
              </a:path>
              <a:path w="4714" h="1067">
                <a:moveTo>
                  <a:pt x="9922" y="2753"/>
                </a:moveTo>
                <a:lnTo>
                  <a:pt x="9922" y="2753"/>
                </a:lnTo>
              </a:path>
              <a:path w="4714" h="1067">
                <a:moveTo>
                  <a:pt x="10046" y="2902"/>
                </a:moveTo>
                <a:cubicBezTo>
                  <a:pt x="10150" y="3119"/>
                  <a:pt x="10210" y="3279"/>
                  <a:pt x="10220" y="3522"/>
                </a:cubicBezTo>
                <a:cubicBezTo>
                  <a:pt x="10220" y="3530"/>
                  <a:pt x="10220" y="3539"/>
                  <a:pt x="10220" y="3547"/>
                </a:cubicBezTo>
                <a:cubicBezTo>
                  <a:pt x="10162" y="3338"/>
                  <a:pt x="10057" y="3082"/>
                  <a:pt x="10220" y="2877"/>
                </a:cubicBezTo>
                <a:cubicBezTo>
                  <a:pt x="10269" y="2852"/>
                  <a:pt x="10319" y="2828"/>
                  <a:pt x="10368" y="2803"/>
                </a:cubicBezTo>
                <a:cubicBezTo>
                  <a:pt x="10469" y="2911"/>
                  <a:pt x="10586" y="3130"/>
                  <a:pt x="10319" y="3150"/>
                </a:cubicBezTo>
                <a:cubicBezTo>
                  <a:pt x="10196" y="3125"/>
                  <a:pt x="10154" y="3118"/>
                  <a:pt x="10195" y="3001"/>
                </a:cubicBezTo>
              </a:path>
              <a:path w="4714" h="1067">
                <a:moveTo>
                  <a:pt x="10641" y="2654"/>
                </a:moveTo>
                <a:cubicBezTo>
                  <a:pt x="10692" y="2812"/>
                  <a:pt x="10746" y="2965"/>
                  <a:pt x="10790" y="3125"/>
                </a:cubicBezTo>
              </a:path>
              <a:path w="4714" h="1067">
                <a:moveTo>
                  <a:pt x="10889" y="2877"/>
                </a:moveTo>
                <a:cubicBezTo>
                  <a:pt x="10903" y="2926"/>
                  <a:pt x="10924" y="3160"/>
                  <a:pt x="11013" y="3125"/>
                </a:cubicBezTo>
                <a:cubicBezTo>
                  <a:pt x="11089" y="3095"/>
                  <a:pt x="11114" y="3046"/>
                  <a:pt x="11137" y="2977"/>
                </a:cubicBezTo>
                <a:cubicBezTo>
                  <a:pt x="11197" y="3125"/>
                  <a:pt x="11283" y="3313"/>
                  <a:pt x="11212" y="3473"/>
                </a:cubicBezTo>
                <a:cubicBezTo>
                  <a:pt x="11086" y="3759"/>
                  <a:pt x="10843" y="3608"/>
                  <a:pt x="10815" y="3423"/>
                </a:cubicBezTo>
              </a:path>
              <a:path w="4714" h="1067">
                <a:moveTo>
                  <a:pt x="11559" y="2977"/>
                </a:moveTo>
                <a:cubicBezTo>
                  <a:pt x="11568" y="3040"/>
                  <a:pt x="11542" y="3351"/>
                  <a:pt x="11609" y="3175"/>
                </a:cubicBezTo>
              </a:path>
              <a:path w="4714" h="1067">
                <a:moveTo>
                  <a:pt x="11633" y="2753"/>
                </a:moveTo>
                <a:lnTo>
                  <a:pt x="11633" y="2753"/>
                </a:lnTo>
                <a:lnTo>
                  <a:pt x="11633" y="2753"/>
                </a:lnTo>
              </a:path>
              <a:path w="4714" h="1067">
                <a:moveTo>
                  <a:pt x="11633" y="2753"/>
                </a:moveTo>
                <a:lnTo>
                  <a:pt x="11633" y="2753"/>
                </a:lnTo>
              </a:path>
              <a:path w="4714" h="1067">
                <a:moveTo>
                  <a:pt x="11782" y="2977"/>
                </a:moveTo>
                <a:cubicBezTo>
                  <a:pt x="11821" y="3075"/>
                  <a:pt x="11838" y="3088"/>
                  <a:pt x="11832" y="3150"/>
                </a:cubicBezTo>
                <a:cubicBezTo>
                  <a:pt x="11849" y="3050"/>
                  <a:pt x="11901" y="2881"/>
                  <a:pt x="12030" y="2877"/>
                </a:cubicBezTo>
                <a:cubicBezTo>
                  <a:pt x="12160" y="2873"/>
                  <a:pt x="12194" y="3119"/>
                  <a:pt x="12204" y="3200"/>
                </a:cubicBezTo>
              </a:path>
              <a:path w="4714" h="1067">
                <a:moveTo>
                  <a:pt x="12452" y="2977"/>
                </a:moveTo>
                <a:cubicBezTo>
                  <a:pt x="12413" y="3093"/>
                  <a:pt x="12381" y="3113"/>
                  <a:pt x="12427" y="3175"/>
                </a:cubicBezTo>
                <a:cubicBezTo>
                  <a:pt x="12466" y="3119"/>
                  <a:pt x="12535" y="3010"/>
                  <a:pt x="12576" y="2977"/>
                </a:cubicBezTo>
                <a:cubicBezTo>
                  <a:pt x="12599" y="3139"/>
                  <a:pt x="12732" y="3436"/>
                  <a:pt x="12526" y="3547"/>
                </a:cubicBezTo>
                <a:cubicBezTo>
                  <a:pt x="12306" y="3666"/>
                  <a:pt x="12190" y="3530"/>
                  <a:pt x="12105" y="33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29120" y="884160"/>
            <a:ext cx="366840" cy="393840"/>
          </a:xfrm>
          <a:custGeom>
            <a:avLst/>
            <a:gdLst/>
            <a:ahLst/>
            <a:rect l="l" t="t" r="r" b="b"/>
            <a:pathLst>
              <a:path w="1018" h="1092">
                <a:moveTo>
                  <a:pt x="13692" y="2456"/>
                </a:moveTo>
                <a:cubicBezTo>
                  <a:pt x="13716" y="2654"/>
                  <a:pt x="13745" y="2853"/>
                  <a:pt x="13767" y="3051"/>
                </a:cubicBezTo>
                <a:cubicBezTo>
                  <a:pt x="13753" y="2938"/>
                  <a:pt x="13730" y="2734"/>
                  <a:pt x="13915" y="2729"/>
                </a:cubicBezTo>
                <a:cubicBezTo>
                  <a:pt x="13999" y="2727"/>
                  <a:pt x="14254" y="2874"/>
                  <a:pt x="14114" y="2977"/>
                </a:cubicBezTo>
                <a:cubicBezTo>
                  <a:pt x="14010" y="3028"/>
                  <a:pt x="13972" y="3046"/>
                  <a:pt x="13891" y="3051"/>
                </a:cubicBezTo>
                <a:cubicBezTo>
                  <a:pt x="13819" y="2991"/>
                  <a:pt x="13838" y="3004"/>
                  <a:pt x="13866" y="2902"/>
                </a:cubicBezTo>
              </a:path>
              <a:path w="1018" h="1092">
                <a:moveTo>
                  <a:pt x="14362" y="2729"/>
                </a:moveTo>
                <a:cubicBezTo>
                  <a:pt x="14382" y="2814"/>
                  <a:pt x="14391" y="3070"/>
                  <a:pt x="14536" y="3051"/>
                </a:cubicBezTo>
                <a:cubicBezTo>
                  <a:pt x="14657" y="3035"/>
                  <a:pt x="14658" y="2934"/>
                  <a:pt x="14709" y="2853"/>
                </a:cubicBezTo>
                <a:cubicBezTo>
                  <a:pt x="14709" y="3023"/>
                  <a:pt x="14751" y="3245"/>
                  <a:pt x="14660" y="3398"/>
                </a:cubicBezTo>
                <a:cubicBezTo>
                  <a:pt x="14509" y="3651"/>
                  <a:pt x="14292" y="3545"/>
                  <a:pt x="14238" y="33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99080" y="928800"/>
            <a:ext cx="401760" cy="187200"/>
          </a:xfrm>
          <a:custGeom>
            <a:avLst/>
            <a:gdLst/>
            <a:ahLst/>
            <a:rect l="l" t="t" r="r" b="b"/>
            <a:pathLst>
              <a:path w="1117" h="522">
                <a:moveTo>
                  <a:pt x="15801" y="2580"/>
                </a:moveTo>
                <a:cubicBezTo>
                  <a:pt x="15801" y="2726"/>
                  <a:pt x="15807" y="2859"/>
                  <a:pt x="15825" y="3001"/>
                </a:cubicBezTo>
                <a:cubicBezTo>
                  <a:pt x="15825" y="3036"/>
                  <a:pt x="15816" y="3040"/>
                  <a:pt x="15776" y="3001"/>
                </a:cubicBezTo>
              </a:path>
              <a:path w="1117" h="522">
                <a:moveTo>
                  <a:pt x="15553" y="2729"/>
                </a:moveTo>
                <a:cubicBezTo>
                  <a:pt x="15709" y="2737"/>
                  <a:pt x="15942" y="2805"/>
                  <a:pt x="16073" y="2679"/>
                </a:cubicBezTo>
                <a:cubicBezTo>
                  <a:pt x="16095" y="2613"/>
                  <a:pt x="16103" y="2579"/>
                  <a:pt x="16098" y="2654"/>
                </a:cubicBezTo>
                <a:cubicBezTo>
                  <a:pt x="16120" y="2778"/>
                  <a:pt x="16123" y="2898"/>
                  <a:pt x="16123" y="3026"/>
                </a:cubicBezTo>
                <a:cubicBezTo>
                  <a:pt x="16146" y="2934"/>
                  <a:pt x="16181" y="2830"/>
                  <a:pt x="16247" y="2778"/>
                </a:cubicBezTo>
                <a:cubicBezTo>
                  <a:pt x="16292" y="2851"/>
                  <a:pt x="16358" y="3052"/>
                  <a:pt x="16470" y="3026"/>
                </a:cubicBezTo>
                <a:cubicBezTo>
                  <a:pt x="16601" y="2995"/>
                  <a:pt x="16599" y="2913"/>
                  <a:pt x="16619" y="2803"/>
                </a:cubicBezTo>
                <a:cubicBezTo>
                  <a:pt x="16586" y="2956"/>
                  <a:pt x="16597" y="2965"/>
                  <a:pt x="16669" y="31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03960" y="847800"/>
            <a:ext cx="1706400" cy="322200"/>
          </a:xfrm>
          <a:custGeom>
            <a:avLst/>
            <a:gdLst/>
            <a:ahLst/>
            <a:rect l="l" t="t" r="r" b="b"/>
            <a:pathLst>
              <a:path w="4739" h="894">
                <a:moveTo>
                  <a:pt x="17512" y="2729"/>
                </a:moveTo>
                <a:cubicBezTo>
                  <a:pt x="17550" y="2812"/>
                  <a:pt x="17585" y="2933"/>
                  <a:pt x="17611" y="3026"/>
                </a:cubicBezTo>
                <a:cubicBezTo>
                  <a:pt x="17611" y="2909"/>
                  <a:pt x="17603" y="2813"/>
                  <a:pt x="17735" y="2778"/>
                </a:cubicBezTo>
                <a:cubicBezTo>
                  <a:pt x="17854" y="2746"/>
                  <a:pt x="18023" y="2825"/>
                  <a:pt x="18132" y="2853"/>
                </a:cubicBezTo>
              </a:path>
              <a:path w="4739" h="894">
                <a:moveTo>
                  <a:pt x="18207" y="2828"/>
                </a:moveTo>
                <a:cubicBezTo>
                  <a:pt x="18253" y="2823"/>
                  <a:pt x="18418" y="2810"/>
                  <a:pt x="18355" y="2778"/>
                </a:cubicBezTo>
                <a:cubicBezTo>
                  <a:pt x="18292" y="2803"/>
                  <a:pt x="17992" y="2915"/>
                  <a:pt x="18182" y="3026"/>
                </a:cubicBezTo>
                <a:cubicBezTo>
                  <a:pt x="18347" y="3054"/>
                  <a:pt x="18410" y="3054"/>
                  <a:pt x="18504" y="2952"/>
                </a:cubicBezTo>
              </a:path>
              <a:path w="4739" h="894">
                <a:moveTo>
                  <a:pt x="18752" y="2704"/>
                </a:moveTo>
                <a:cubicBezTo>
                  <a:pt x="18752" y="2760"/>
                  <a:pt x="18737" y="2765"/>
                  <a:pt x="18777" y="2778"/>
                </a:cubicBezTo>
                <a:cubicBezTo>
                  <a:pt x="18659" y="2811"/>
                  <a:pt x="18574" y="2989"/>
                  <a:pt x="18777" y="3026"/>
                </a:cubicBezTo>
                <a:cubicBezTo>
                  <a:pt x="18924" y="3001"/>
                  <a:pt x="18972" y="2994"/>
                  <a:pt x="19050" y="2927"/>
                </a:cubicBezTo>
              </a:path>
              <a:path w="4739" h="894">
                <a:moveTo>
                  <a:pt x="19224" y="2778"/>
                </a:moveTo>
                <a:cubicBezTo>
                  <a:pt x="19233" y="2884"/>
                  <a:pt x="19241" y="3012"/>
                  <a:pt x="19298" y="3026"/>
                </a:cubicBezTo>
              </a:path>
              <a:path w="4739" h="894">
                <a:moveTo>
                  <a:pt x="19298" y="2580"/>
                </a:moveTo>
                <a:cubicBezTo>
                  <a:pt x="19298" y="2588"/>
                  <a:pt x="19298" y="2596"/>
                  <a:pt x="19298" y="2604"/>
                </a:cubicBezTo>
              </a:path>
              <a:path w="4739" h="894">
                <a:moveTo>
                  <a:pt x="19298" y="2604"/>
                </a:moveTo>
                <a:lnTo>
                  <a:pt x="19298" y="2604"/>
                </a:lnTo>
              </a:path>
              <a:path w="4739" h="894">
                <a:moveTo>
                  <a:pt x="19496" y="2902"/>
                </a:moveTo>
                <a:cubicBezTo>
                  <a:pt x="19498" y="2956"/>
                  <a:pt x="19521" y="3260"/>
                  <a:pt x="19521" y="3225"/>
                </a:cubicBezTo>
                <a:cubicBezTo>
                  <a:pt x="19447" y="2948"/>
                  <a:pt x="19400" y="2826"/>
                  <a:pt x="19596" y="2629"/>
                </a:cubicBezTo>
                <a:cubicBezTo>
                  <a:pt x="19697" y="2690"/>
                  <a:pt x="19957" y="2937"/>
                  <a:pt x="19645" y="2977"/>
                </a:cubicBezTo>
                <a:cubicBezTo>
                  <a:pt x="19522" y="2952"/>
                  <a:pt x="19481" y="2945"/>
                  <a:pt x="19447" y="2853"/>
                </a:cubicBezTo>
              </a:path>
              <a:path w="4739" h="894">
                <a:moveTo>
                  <a:pt x="20042" y="2853"/>
                </a:moveTo>
                <a:cubicBezTo>
                  <a:pt x="20050" y="2878"/>
                  <a:pt x="20059" y="2902"/>
                  <a:pt x="20067" y="2927"/>
                </a:cubicBezTo>
                <a:cubicBezTo>
                  <a:pt x="20080" y="2823"/>
                  <a:pt x="20094" y="2772"/>
                  <a:pt x="20191" y="2729"/>
                </a:cubicBezTo>
                <a:cubicBezTo>
                  <a:pt x="20292" y="2685"/>
                  <a:pt x="20406" y="2704"/>
                  <a:pt x="20513" y="2704"/>
                </a:cubicBezTo>
                <a:cubicBezTo>
                  <a:pt x="20485" y="2760"/>
                  <a:pt x="20336" y="2882"/>
                  <a:pt x="20464" y="2927"/>
                </a:cubicBezTo>
                <a:cubicBezTo>
                  <a:pt x="20573" y="2965"/>
                  <a:pt x="20595" y="2871"/>
                  <a:pt x="20638" y="2803"/>
                </a:cubicBezTo>
                <a:cubicBezTo>
                  <a:pt x="20638" y="2691"/>
                  <a:pt x="20724" y="2927"/>
                  <a:pt x="20836" y="2927"/>
                </a:cubicBezTo>
              </a:path>
              <a:path w="4739" h="894">
                <a:moveTo>
                  <a:pt x="21059" y="2729"/>
                </a:moveTo>
                <a:cubicBezTo>
                  <a:pt x="21059" y="2753"/>
                  <a:pt x="21059" y="2761"/>
                  <a:pt x="21084" y="2753"/>
                </a:cubicBezTo>
                <a:cubicBezTo>
                  <a:pt x="21000" y="2720"/>
                  <a:pt x="20909" y="2831"/>
                  <a:pt x="20985" y="2927"/>
                </a:cubicBezTo>
                <a:cubicBezTo>
                  <a:pt x="21092" y="2963"/>
                  <a:pt x="21149" y="2962"/>
                  <a:pt x="21233" y="2902"/>
                </a:cubicBezTo>
              </a:path>
              <a:path w="4739" h="894">
                <a:moveTo>
                  <a:pt x="21456" y="2729"/>
                </a:moveTo>
                <a:cubicBezTo>
                  <a:pt x="21364" y="2769"/>
                  <a:pt x="21261" y="2793"/>
                  <a:pt x="21233" y="2902"/>
                </a:cubicBezTo>
                <a:cubicBezTo>
                  <a:pt x="21366" y="2908"/>
                  <a:pt x="21622" y="2850"/>
                  <a:pt x="21530" y="2753"/>
                </a:cubicBezTo>
                <a:cubicBezTo>
                  <a:pt x="21448" y="2712"/>
                  <a:pt x="21431" y="2704"/>
                  <a:pt x="21382" y="2679"/>
                </a:cubicBezTo>
              </a:path>
              <a:path w="4739" h="894">
                <a:moveTo>
                  <a:pt x="21779" y="2356"/>
                </a:moveTo>
                <a:cubicBezTo>
                  <a:pt x="21811" y="2529"/>
                  <a:pt x="21788" y="2742"/>
                  <a:pt x="21853" y="2902"/>
                </a:cubicBezTo>
                <a:cubicBezTo>
                  <a:pt x="21878" y="2927"/>
                  <a:pt x="21886" y="2935"/>
                  <a:pt x="21903" y="2952"/>
                </a:cubicBezTo>
              </a:path>
              <a:path w="4739" h="894">
                <a:moveTo>
                  <a:pt x="22250" y="2828"/>
                </a:moveTo>
                <a:cubicBezTo>
                  <a:pt x="22250" y="2836"/>
                  <a:pt x="22250" y="2845"/>
                  <a:pt x="22250" y="28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70720" y="1589040"/>
            <a:ext cx="1187280" cy="642960"/>
          </a:xfrm>
          <a:custGeom>
            <a:avLst/>
            <a:gdLst/>
            <a:ahLst/>
            <a:rect l="l" t="t" r="r" b="b"/>
            <a:pathLst>
              <a:path w="3300" h="1787">
                <a:moveTo>
                  <a:pt x="16272" y="4440"/>
                </a:moveTo>
                <a:cubicBezTo>
                  <a:pt x="16272" y="4394"/>
                  <a:pt x="16297" y="4767"/>
                  <a:pt x="16297" y="4787"/>
                </a:cubicBezTo>
                <a:cubicBezTo>
                  <a:pt x="16297" y="4895"/>
                  <a:pt x="16297" y="4920"/>
                  <a:pt x="16297" y="4986"/>
                </a:cubicBezTo>
              </a:path>
              <a:path w="3300" h="1787">
                <a:moveTo>
                  <a:pt x="15751" y="5234"/>
                </a:moveTo>
                <a:cubicBezTo>
                  <a:pt x="16076" y="5200"/>
                  <a:pt x="16392" y="5184"/>
                  <a:pt x="16718" y="5184"/>
                </a:cubicBezTo>
                <a:cubicBezTo>
                  <a:pt x="16735" y="5184"/>
                  <a:pt x="16751" y="5184"/>
                  <a:pt x="16768" y="5184"/>
                </a:cubicBezTo>
              </a:path>
              <a:path w="3300" h="1787">
                <a:moveTo>
                  <a:pt x="16247" y="5482"/>
                </a:moveTo>
                <a:cubicBezTo>
                  <a:pt x="16238" y="5566"/>
                  <a:pt x="16227" y="5645"/>
                  <a:pt x="16222" y="5730"/>
                </a:cubicBezTo>
                <a:cubicBezTo>
                  <a:pt x="16349" y="5741"/>
                  <a:pt x="16444" y="5746"/>
                  <a:pt x="16570" y="5730"/>
                </a:cubicBezTo>
              </a:path>
              <a:path w="3300" h="1787">
                <a:moveTo>
                  <a:pt x="16570" y="5482"/>
                </a:moveTo>
                <a:cubicBezTo>
                  <a:pt x="16496" y="5507"/>
                  <a:pt x="16521" y="5721"/>
                  <a:pt x="16520" y="5779"/>
                </a:cubicBezTo>
                <a:cubicBezTo>
                  <a:pt x="16518" y="5902"/>
                  <a:pt x="16465" y="6133"/>
                  <a:pt x="16594" y="6003"/>
                </a:cubicBezTo>
              </a:path>
              <a:path w="3300" h="1787">
                <a:moveTo>
                  <a:pt x="17363" y="5234"/>
                </a:moveTo>
                <a:cubicBezTo>
                  <a:pt x="17504" y="5222"/>
                  <a:pt x="17643" y="5191"/>
                  <a:pt x="17785" y="5184"/>
                </a:cubicBezTo>
                <a:cubicBezTo>
                  <a:pt x="17793" y="5184"/>
                  <a:pt x="17802" y="5184"/>
                  <a:pt x="17810" y="5184"/>
                </a:cubicBezTo>
              </a:path>
              <a:path w="3300" h="1787">
                <a:moveTo>
                  <a:pt x="17487" y="4812"/>
                </a:moveTo>
                <a:cubicBezTo>
                  <a:pt x="17487" y="4804"/>
                  <a:pt x="17487" y="4795"/>
                  <a:pt x="17487" y="4787"/>
                </a:cubicBezTo>
              </a:path>
              <a:path w="3300" h="1787">
                <a:moveTo>
                  <a:pt x="17587" y="5432"/>
                </a:moveTo>
                <a:cubicBezTo>
                  <a:pt x="17595" y="5432"/>
                  <a:pt x="17603" y="5432"/>
                  <a:pt x="17611" y="5432"/>
                </a:cubicBezTo>
              </a:path>
              <a:path w="3300" h="1787">
                <a:moveTo>
                  <a:pt x="18554" y="4688"/>
                </a:moveTo>
                <a:cubicBezTo>
                  <a:pt x="18687" y="4661"/>
                  <a:pt x="18811" y="4719"/>
                  <a:pt x="18827" y="4887"/>
                </a:cubicBezTo>
                <a:cubicBezTo>
                  <a:pt x="18846" y="5087"/>
                  <a:pt x="18642" y="5210"/>
                  <a:pt x="18479" y="5110"/>
                </a:cubicBezTo>
                <a:cubicBezTo>
                  <a:pt x="18458" y="5066"/>
                  <a:pt x="18445" y="5055"/>
                  <a:pt x="18479" y="5035"/>
                </a:cubicBezTo>
                <a:cubicBezTo>
                  <a:pt x="18611" y="4975"/>
                  <a:pt x="18676" y="4971"/>
                  <a:pt x="18802" y="5060"/>
                </a:cubicBezTo>
                <a:cubicBezTo>
                  <a:pt x="18832" y="5090"/>
                  <a:pt x="18846" y="5101"/>
                  <a:pt x="18876" y="5110"/>
                </a:cubicBezTo>
              </a:path>
              <a:path w="3300" h="1787">
                <a:moveTo>
                  <a:pt x="18231" y="5308"/>
                </a:moveTo>
                <a:cubicBezTo>
                  <a:pt x="18497" y="5308"/>
                  <a:pt x="18766" y="5296"/>
                  <a:pt x="19025" y="5333"/>
                </a:cubicBezTo>
                <a:cubicBezTo>
                  <a:pt x="19066" y="5333"/>
                  <a:pt x="19075" y="5349"/>
                  <a:pt x="19050" y="5407"/>
                </a:cubicBezTo>
              </a:path>
              <a:path w="3300" h="1787">
                <a:moveTo>
                  <a:pt x="18604" y="5705"/>
                </a:moveTo>
                <a:cubicBezTo>
                  <a:pt x="18702" y="5691"/>
                  <a:pt x="18832" y="5640"/>
                  <a:pt x="18926" y="5705"/>
                </a:cubicBezTo>
                <a:cubicBezTo>
                  <a:pt x="19078" y="5810"/>
                  <a:pt x="18761" y="5917"/>
                  <a:pt x="18728" y="5928"/>
                </a:cubicBezTo>
                <a:cubicBezTo>
                  <a:pt x="18711" y="5928"/>
                  <a:pt x="18695" y="5928"/>
                  <a:pt x="18678" y="5928"/>
                </a:cubicBezTo>
                <a:cubicBezTo>
                  <a:pt x="18786" y="5907"/>
                  <a:pt x="18891" y="5860"/>
                  <a:pt x="18976" y="5978"/>
                </a:cubicBezTo>
                <a:cubicBezTo>
                  <a:pt x="19113" y="6169"/>
                  <a:pt x="18742" y="6178"/>
                  <a:pt x="18678" y="6176"/>
                </a:cubicBezTo>
                <a:cubicBezTo>
                  <a:pt x="18620" y="6176"/>
                  <a:pt x="18612" y="6176"/>
                  <a:pt x="18579" y="61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9960" y="1687680"/>
            <a:ext cx="250920" cy="258480"/>
          </a:xfrm>
          <a:custGeom>
            <a:avLst/>
            <a:gdLst/>
            <a:ahLst/>
            <a:rect l="l" t="t" r="r" b="b"/>
            <a:pathLst>
              <a:path w="696" h="720">
                <a:moveTo>
                  <a:pt x="2009" y="4762"/>
                </a:moveTo>
                <a:cubicBezTo>
                  <a:pt x="2064" y="4926"/>
                  <a:pt x="2151" y="5103"/>
                  <a:pt x="2183" y="5283"/>
                </a:cubicBezTo>
                <a:cubicBezTo>
                  <a:pt x="2183" y="5358"/>
                  <a:pt x="2183" y="5366"/>
                  <a:pt x="2183" y="5407"/>
                </a:cubicBezTo>
              </a:path>
              <a:path w="696" h="720">
                <a:moveTo>
                  <a:pt x="1885" y="5283"/>
                </a:moveTo>
                <a:cubicBezTo>
                  <a:pt x="2046" y="5197"/>
                  <a:pt x="2182" y="5095"/>
                  <a:pt x="2356" y="5035"/>
                </a:cubicBezTo>
                <a:cubicBezTo>
                  <a:pt x="2381" y="5035"/>
                  <a:pt x="2389" y="5035"/>
                  <a:pt x="2406" y="5035"/>
                </a:cubicBezTo>
              </a:path>
              <a:path w="696" h="720">
                <a:moveTo>
                  <a:pt x="2183" y="4688"/>
                </a:moveTo>
                <a:cubicBezTo>
                  <a:pt x="2168" y="4901"/>
                  <a:pt x="2135" y="5126"/>
                  <a:pt x="2084" y="5333"/>
                </a:cubicBezTo>
                <a:cubicBezTo>
                  <a:pt x="2072" y="5382"/>
                  <a:pt x="2065" y="5397"/>
                  <a:pt x="2034" y="5407"/>
                </a:cubicBezTo>
              </a:path>
              <a:path w="696" h="720">
                <a:moveTo>
                  <a:pt x="1860" y="5110"/>
                </a:moveTo>
                <a:cubicBezTo>
                  <a:pt x="2069" y="5110"/>
                  <a:pt x="2230" y="5154"/>
                  <a:pt x="2431" y="5209"/>
                </a:cubicBezTo>
                <a:cubicBezTo>
                  <a:pt x="2507" y="5230"/>
                  <a:pt x="2541" y="5261"/>
                  <a:pt x="2555" y="52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08160" y="1982880"/>
            <a:ext cx="554040" cy="106200"/>
          </a:xfrm>
          <a:custGeom>
            <a:avLst/>
            <a:gdLst/>
            <a:ahLst/>
            <a:rect l="l" t="t" r="r" b="b"/>
            <a:pathLst>
              <a:path w="1539" h="298">
                <a:moveTo>
                  <a:pt x="5854" y="5804"/>
                </a:moveTo>
                <a:cubicBezTo>
                  <a:pt x="5913" y="5765"/>
                  <a:pt x="6007" y="5723"/>
                  <a:pt x="6077" y="5705"/>
                </a:cubicBezTo>
                <a:cubicBezTo>
                  <a:pt x="6240" y="5663"/>
                  <a:pt x="6410" y="5653"/>
                  <a:pt x="6573" y="5606"/>
                </a:cubicBezTo>
                <a:cubicBezTo>
                  <a:pt x="6672" y="5577"/>
                  <a:pt x="6772" y="5578"/>
                  <a:pt x="6871" y="5556"/>
                </a:cubicBezTo>
                <a:cubicBezTo>
                  <a:pt x="6969" y="5534"/>
                  <a:pt x="7067" y="5512"/>
                  <a:pt x="7169" y="5507"/>
                </a:cubicBezTo>
                <a:cubicBezTo>
                  <a:pt x="7243" y="5503"/>
                  <a:pt x="7318" y="5507"/>
                  <a:pt x="7392" y="55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71880" y="2000160"/>
            <a:ext cx="911160" cy="108000"/>
          </a:xfrm>
          <a:custGeom>
            <a:avLst/>
            <a:gdLst/>
            <a:ahLst/>
            <a:rect l="l" t="t" r="r" b="b"/>
            <a:pathLst>
              <a:path w="2531" h="299">
                <a:moveTo>
                  <a:pt x="8558" y="5680"/>
                </a:moveTo>
                <a:cubicBezTo>
                  <a:pt x="8543" y="5718"/>
                  <a:pt x="8533" y="5744"/>
                  <a:pt x="8607" y="5804"/>
                </a:cubicBezTo>
                <a:cubicBezTo>
                  <a:pt x="8749" y="5920"/>
                  <a:pt x="8782" y="5776"/>
                  <a:pt x="8830" y="5680"/>
                </a:cubicBezTo>
                <a:cubicBezTo>
                  <a:pt x="8830" y="5688"/>
                  <a:pt x="8830" y="5697"/>
                  <a:pt x="8830" y="5705"/>
                </a:cubicBezTo>
                <a:cubicBezTo>
                  <a:pt x="8928" y="5802"/>
                  <a:pt x="8954" y="5874"/>
                  <a:pt x="9103" y="5779"/>
                </a:cubicBezTo>
                <a:cubicBezTo>
                  <a:pt x="9166" y="5717"/>
                  <a:pt x="9184" y="5707"/>
                  <a:pt x="9203" y="5655"/>
                </a:cubicBezTo>
                <a:cubicBezTo>
                  <a:pt x="9277" y="5741"/>
                  <a:pt x="9294" y="5793"/>
                  <a:pt x="9426" y="5705"/>
                </a:cubicBezTo>
                <a:cubicBezTo>
                  <a:pt x="9489" y="5642"/>
                  <a:pt x="9499" y="5625"/>
                  <a:pt x="9550" y="5606"/>
                </a:cubicBezTo>
                <a:cubicBezTo>
                  <a:pt x="9578" y="5667"/>
                  <a:pt x="9594" y="5770"/>
                  <a:pt x="9699" y="5730"/>
                </a:cubicBezTo>
                <a:cubicBezTo>
                  <a:pt x="9753" y="5675"/>
                  <a:pt x="9772" y="5653"/>
                  <a:pt x="9798" y="5606"/>
                </a:cubicBezTo>
                <a:cubicBezTo>
                  <a:pt x="9812" y="5623"/>
                  <a:pt x="9879" y="5748"/>
                  <a:pt x="9922" y="5755"/>
                </a:cubicBezTo>
                <a:cubicBezTo>
                  <a:pt x="10034" y="5775"/>
                  <a:pt x="10154" y="5615"/>
                  <a:pt x="10220" y="5556"/>
                </a:cubicBezTo>
                <a:cubicBezTo>
                  <a:pt x="10261" y="5632"/>
                  <a:pt x="10218" y="5704"/>
                  <a:pt x="10344" y="5680"/>
                </a:cubicBezTo>
                <a:cubicBezTo>
                  <a:pt x="10414" y="5667"/>
                  <a:pt x="10494" y="5589"/>
                  <a:pt x="10542" y="5556"/>
                </a:cubicBezTo>
                <a:cubicBezTo>
                  <a:pt x="10586" y="5610"/>
                  <a:pt x="10651" y="5722"/>
                  <a:pt x="10740" y="5705"/>
                </a:cubicBezTo>
                <a:cubicBezTo>
                  <a:pt x="10808" y="5692"/>
                  <a:pt x="10867" y="5600"/>
                  <a:pt x="10914" y="5556"/>
                </a:cubicBezTo>
                <a:cubicBezTo>
                  <a:pt x="10957" y="5626"/>
                  <a:pt x="10943" y="5647"/>
                  <a:pt x="11038" y="5581"/>
                </a:cubicBezTo>
                <a:cubicBezTo>
                  <a:pt x="11038" y="5556"/>
                  <a:pt x="11038" y="5548"/>
                  <a:pt x="11063" y="55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02080" y="2035080"/>
            <a:ext cx="142920" cy="171720"/>
          </a:xfrm>
          <a:custGeom>
            <a:avLst/>
            <a:gdLst/>
            <a:ahLst/>
            <a:rect l="l" t="t" r="r" b="b"/>
            <a:pathLst>
              <a:path w="398" h="473">
                <a:moveTo>
                  <a:pt x="12229" y="6052"/>
                </a:moveTo>
                <a:cubicBezTo>
                  <a:pt x="12247" y="5947"/>
                  <a:pt x="12310" y="5877"/>
                  <a:pt x="12353" y="5779"/>
                </a:cubicBezTo>
                <a:cubicBezTo>
                  <a:pt x="12398" y="5675"/>
                  <a:pt x="12424" y="5692"/>
                  <a:pt x="12328" y="5680"/>
                </a:cubicBezTo>
                <a:cubicBezTo>
                  <a:pt x="12387" y="5655"/>
                  <a:pt x="12401" y="5638"/>
                  <a:pt x="12427" y="5680"/>
                </a:cubicBezTo>
                <a:cubicBezTo>
                  <a:pt x="12499" y="5798"/>
                  <a:pt x="12523" y="5936"/>
                  <a:pt x="12601" y="6052"/>
                </a:cubicBezTo>
                <a:cubicBezTo>
                  <a:pt x="12626" y="6089"/>
                  <a:pt x="12626" y="6082"/>
                  <a:pt x="12626" y="61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48200" y="1670040"/>
            <a:ext cx="1787760" cy="1116000"/>
          </a:xfrm>
          <a:custGeom>
            <a:avLst/>
            <a:gdLst/>
            <a:ahLst/>
            <a:rect l="l" t="t" r="r" b="b"/>
            <a:pathLst>
              <a:path w="4962" h="3102">
                <a:moveTo>
                  <a:pt x="16545" y="6573"/>
                </a:moveTo>
                <a:cubicBezTo>
                  <a:pt x="16596" y="6673"/>
                  <a:pt x="16565" y="6810"/>
                  <a:pt x="16594" y="6921"/>
                </a:cubicBezTo>
                <a:cubicBezTo>
                  <a:pt x="16602" y="6929"/>
                  <a:pt x="16611" y="6937"/>
                  <a:pt x="16619" y="6945"/>
                </a:cubicBezTo>
              </a:path>
              <a:path w="4962" h="3102">
                <a:moveTo>
                  <a:pt x="16247" y="7119"/>
                </a:moveTo>
                <a:cubicBezTo>
                  <a:pt x="16487" y="7083"/>
                  <a:pt x="16726" y="7064"/>
                  <a:pt x="16966" y="7045"/>
                </a:cubicBezTo>
                <a:cubicBezTo>
                  <a:pt x="17019" y="7041"/>
                  <a:pt x="17029" y="7033"/>
                  <a:pt x="17041" y="7069"/>
                </a:cubicBezTo>
              </a:path>
              <a:path w="4962" h="3102">
                <a:moveTo>
                  <a:pt x="16594" y="7293"/>
                </a:moveTo>
                <a:cubicBezTo>
                  <a:pt x="16594" y="7351"/>
                  <a:pt x="16594" y="7408"/>
                  <a:pt x="16594" y="7466"/>
                </a:cubicBezTo>
                <a:cubicBezTo>
                  <a:pt x="16704" y="7498"/>
                  <a:pt x="16821" y="7422"/>
                  <a:pt x="16942" y="7392"/>
                </a:cubicBezTo>
                <a:cubicBezTo>
                  <a:pt x="16966" y="7392"/>
                  <a:pt x="16974" y="7392"/>
                  <a:pt x="16966" y="7367"/>
                </a:cubicBezTo>
              </a:path>
              <a:path w="4962" h="3102">
                <a:moveTo>
                  <a:pt x="16867" y="7218"/>
                </a:moveTo>
                <a:cubicBezTo>
                  <a:pt x="16827" y="7396"/>
                  <a:pt x="16818" y="7557"/>
                  <a:pt x="16818" y="7739"/>
                </a:cubicBezTo>
              </a:path>
              <a:path w="4962" h="3102">
                <a:moveTo>
                  <a:pt x="17487" y="6871"/>
                </a:moveTo>
                <a:cubicBezTo>
                  <a:pt x="17531" y="6856"/>
                  <a:pt x="17516" y="6824"/>
                  <a:pt x="17587" y="6871"/>
                </a:cubicBezTo>
                <a:cubicBezTo>
                  <a:pt x="17696" y="6943"/>
                  <a:pt x="17792" y="7027"/>
                  <a:pt x="17884" y="7119"/>
                </a:cubicBezTo>
                <a:cubicBezTo>
                  <a:pt x="17892" y="7127"/>
                  <a:pt x="17901" y="7136"/>
                  <a:pt x="17909" y="7144"/>
                </a:cubicBezTo>
              </a:path>
              <a:path w="4962" h="3102">
                <a:moveTo>
                  <a:pt x="17835" y="6821"/>
                </a:moveTo>
                <a:cubicBezTo>
                  <a:pt x="17843" y="6813"/>
                  <a:pt x="17851" y="6804"/>
                  <a:pt x="17859" y="6796"/>
                </a:cubicBezTo>
                <a:cubicBezTo>
                  <a:pt x="17835" y="6896"/>
                  <a:pt x="17709" y="6953"/>
                  <a:pt x="17636" y="7020"/>
                </a:cubicBezTo>
                <a:cubicBezTo>
                  <a:pt x="17581" y="7070"/>
                  <a:pt x="17513" y="7129"/>
                  <a:pt x="17487" y="7193"/>
                </a:cubicBezTo>
              </a:path>
              <a:path w="4962" h="3102">
                <a:moveTo>
                  <a:pt x="18331" y="6623"/>
                </a:moveTo>
                <a:cubicBezTo>
                  <a:pt x="18426" y="6623"/>
                  <a:pt x="18600" y="6567"/>
                  <a:pt x="18579" y="6697"/>
                </a:cubicBezTo>
                <a:cubicBezTo>
                  <a:pt x="18559" y="6738"/>
                  <a:pt x="18561" y="6754"/>
                  <a:pt x="18529" y="6747"/>
                </a:cubicBezTo>
                <a:cubicBezTo>
                  <a:pt x="18521" y="6747"/>
                  <a:pt x="18512" y="6747"/>
                  <a:pt x="18504" y="6747"/>
                </a:cubicBezTo>
                <a:cubicBezTo>
                  <a:pt x="18554" y="6755"/>
                  <a:pt x="18685" y="6773"/>
                  <a:pt x="18678" y="6846"/>
                </a:cubicBezTo>
                <a:cubicBezTo>
                  <a:pt x="18668" y="6949"/>
                  <a:pt x="18476" y="7055"/>
                  <a:pt x="18380" y="7045"/>
                </a:cubicBezTo>
                <a:cubicBezTo>
                  <a:pt x="18380" y="7037"/>
                  <a:pt x="18380" y="7028"/>
                  <a:pt x="18380" y="7020"/>
                </a:cubicBezTo>
              </a:path>
              <a:path w="4962" h="3102">
                <a:moveTo>
                  <a:pt x="18306" y="7094"/>
                </a:moveTo>
                <a:cubicBezTo>
                  <a:pt x="18459" y="7061"/>
                  <a:pt x="18618" y="7050"/>
                  <a:pt x="18777" y="7045"/>
                </a:cubicBezTo>
                <a:cubicBezTo>
                  <a:pt x="18794" y="7045"/>
                  <a:pt x="18810" y="7045"/>
                  <a:pt x="18827" y="7045"/>
                </a:cubicBezTo>
              </a:path>
              <a:path w="4962" h="3102">
                <a:moveTo>
                  <a:pt x="18455" y="7268"/>
                </a:moveTo>
                <a:cubicBezTo>
                  <a:pt x="18523" y="7237"/>
                  <a:pt x="18652" y="7163"/>
                  <a:pt x="18728" y="7193"/>
                </a:cubicBezTo>
                <a:cubicBezTo>
                  <a:pt x="18728" y="7201"/>
                  <a:pt x="18728" y="7210"/>
                  <a:pt x="18728" y="7218"/>
                </a:cubicBezTo>
                <a:cubicBezTo>
                  <a:pt x="18693" y="7370"/>
                  <a:pt x="18598" y="7459"/>
                  <a:pt x="18455" y="7541"/>
                </a:cubicBezTo>
                <a:cubicBezTo>
                  <a:pt x="18447" y="7541"/>
                  <a:pt x="18438" y="7541"/>
                  <a:pt x="18430" y="7541"/>
                </a:cubicBezTo>
                <a:cubicBezTo>
                  <a:pt x="18498" y="7563"/>
                  <a:pt x="18575" y="7527"/>
                  <a:pt x="18678" y="7516"/>
                </a:cubicBezTo>
                <a:cubicBezTo>
                  <a:pt x="18736" y="7510"/>
                  <a:pt x="18801" y="7593"/>
                  <a:pt x="18827" y="7541"/>
                </a:cubicBezTo>
                <a:cubicBezTo>
                  <a:pt x="18827" y="7533"/>
                  <a:pt x="18827" y="7524"/>
                  <a:pt x="18827" y="7516"/>
                </a:cubicBezTo>
              </a:path>
              <a:path w="4962" h="3102">
                <a:moveTo>
                  <a:pt x="19224" y="7020"/>
                </a:moveTo>
                <a:cubicBezTo>
                  <a:pt x="19315" y="7020"/>
                  <a:pt x="19405" y="7020"/>
                  <a:pt x="19496" y="7020"/>
                </a:cubicBezTo>
              </a:path>
              <a:path w="4962" h="3102">
                <a:moveTo>
                  <a:pt x="19224" y="7193"/>
                </a:moveTo>
                <a:cubicBezTo>
                  <a:pt x="19282" y="7213"/>
                  <a:pt x="19373" y="7193"/>
                  <a:pt x="19422" y="7218"/>
                </a:cubicBezTo>
                <a:cubicBezTo>
                  <a:pt x="19430" y="7226"/>
                  <a:pt x="19439" y="7235"/>
                  <a:pt x="19447" y="7243"/>
                </a:cubicBezTo>
              </a:path>
              <a:path w="4962" h="3102">
                <a:moveTo>
                  <a:pt x="20092" y="6573"/>
                </a:moveTo>
                <a:cubicBezTo>
                  <a:pt x="20133" y="6577"/>
                  <a:pt x="20418" y="6595"/>
                  <a:pt x="20414" y="6648"/>
                </a:cubicBezTo>
                <a:cubicBezTo>
                  <a:pt x="20360" y="6757"/>
                  <a:pt x="20334" y="6796"/>
                  <a:pt x="20241" y="6821"/>
                </a:cubicBezTo>
                <a:cubicBezTo>
                  <a:pt x="20233" y="6829"/>
                  <a:pt x="20224" y="6838"/>
                  <a:pt x="20216" y="6846"/>
                </a:cubicBezTo>
                <a:cubicBezTo>
                  <a:pt x="20245" y="6807"/>
                  <a:pt x="20412" y="6733"/>
                  <a:pt x="20439" y="6846"/>
                </a:cubicBezTo>
                <a:cubicBezTo>
                  <a:pt x="20477" y="7007"/>
                  <a:pt x="20134" y="7058"/>
                  <a:pt x="20042" y="7045"/>
                </a:cubicBezTo>
                <a:cubicBezTo>
                  <a:pt x="20042" y="7037"/>
                  <a:pt x="20042" y="7028"/>
                  <a:pt x="20042" y="7020"/>
                </a:cubicBezTo>
              </a:path>
              <a:path w="4962" h="3102">
                <a:moveTo>
                  <a:pt x="17363" y="6573"/>
                </a:moveTo>
                <a:cubicBezTo>
                  <a:pt x="17278" y="6489"/>
                  <a:pt x="17680" y="6409"/>
                  <a:pt x="17735" y="6400"/>
                </a:cubicBezTo>
                <a:cubicBezTo>
                  <a:pt x="17804" y="6389"/>
                  <a:pt x="17881" y="6386"/>
                  <a:pt x="17934" y="6424"/>
                </a:cubicBezTo>
              </a:path>
              <a:path w="4962" h="3102">
                <a:moveTo>
                  <a:pt x="17810" y="7541"/>
                </a:moveTo>
                <a:cubicBezTo>
                  <a:pt x="17875" y="7648"/>
                  <a:pt x="17995" y="7709"/>
                  <a:pt x="18132" y="7689"/>
                </a:cubicBezTo>
                <a:cubicBezTo>
                  <a:pt x="18248" y="7672"/>
                  <a:pt x="18307" y="7565"/>
                  <a:pt x="18405" y="7541"/>
                </a:cubicBezTo>
              </a:path>
              <a:path w="4962" h="3102">
                <a:moveTo>
                  <a:pt x="19819" y="7144"/>
                </a:moveTo>
                <a:cubicBezTo>
                  <a:pt x="19984" y="7120"/>
                  <a:pt x="20149" y="7120"/>
                  <a:pt x="20315" y="7094"/>
                </a:cubicBezTo>
                <a:cubicBezTo>
                  <a:pt x="20392" y="7074"/>
                  <a:pt x="20410" y="7050"/>
                  <a:pt x="20439" y="7094"/>
                </a:cubicBezTo>
              </a:path>
              <a:path w="4962" h="3102">
                <a:moveTo>
                  <a:pt x="20290" y="7243"/>
                </a:moveTo>
                <a:cubicBezTo>
                  <a:pt x="20169" y="7243"/>
                  <a:pt x="20096" y="7283"/>
                  <a:pt x="19993" y="7342"/>
                </a:cubicBezTo>
                <a:cubicBezTo>
                  <a:pt x="20044" y="7402"/>
                  <a:pt x="20265" y="7473"/>
                  <a:pt x="20265" y="7565"/>
                </a:cubicBezTo>
                <a:cubicBezTo>
                  <a:pt x="20265" y="7701"/>
                  <a:pt x="20107" y="7669"/>
                  <a:pt x="20042" y="7665"/>
                </a:cubicBezTo>
                <a:cubicBezTo>
                  <a:pt x="20014" y="7495"/>
                  <a:pt x="20105" y="7486"/>
                  <a:pt x="20191" y="7342"/>
                </a:cubicBezTo>
                <a:cubicBezTo>
                  <a:pt x="20191" y="7317"/>
                  <a:pt x="20191" y="7309"/>
                  <a:pt x="20191" y="7293"/>
                </a:cubicBezTo>
              </a:path>
              <a:path w="4962" h="3102">
                <a:moveTo>
                  <a:pt x="19546" y="5209"/>
                </a:moveTo>
                <a:cubicBezTo>
                  <a:pt x="19678" y="5209"/>
                  <a:pt x="19811" y="5209"/>
                  <a:pt x="19943" y="5209"/>
                </a:cubicBezTo>
              </a:path>
              <a:path w="4962" h="3102">
                <a:moveTo>
                  <a:pt x="19596" y="5457"/>
                </a:moveTo>
                <a:cubicBezTo>
                  <a:pt x="19793" y="5431"/>
                  <a:pt x="19916" y="5425"/>
                  <a:pt x="20092" y="5333"/>
                </a:cubicBezTo>
              </a:path>
              <a:path w="4962" h="3102">
                <a:moveTo>
                  <a:pt x="20563" y="4713"/>
                </a:moveTo>
                <a:cubicBezTo>
                  <a:pt x="20641" y="4664"/>
                  <a:pt x="20818" y="4558"/>
                  <a:pt x="20886" y="4688"/>
                </a:cubicBezTo>
                <a:cubicBezTo>
                  <a:pt x="20926" y="4764"/>
                  <a:pt x="20828" y="4820"/>
                  <a:pt x="20786" y="4862"/>
                </a:cubicBezTo>
                <a:cubicBezTo>
                  <a:pt x="20852" y="4884"/>
                  <a:pt x="21084" y="4940"/>
                  <a:pt x="20910" y="5060"/>
                </a:cubicBezTo>
                <a:cubicBezTo>
                  <a:pt x="20857" y="5097"/>
                  <a:pt x="20772" y="5085"/>
                  <a:pt x="20712" y="5085"/>
                </a:cubicBezTo>
              </a:path>
              <a:path w="4962" h="3102">
                <a:moveTo>
                  <a:pt x="20613" y="5283"/>
                </a:moveTo>
                <a:cubicBezTo>
                  <a:pt x="20801" y="5226"/>
                  <a:pt x="20985" y="5194"/>
                  <a:pt x="21183" y="5184"/>
                </a:cubicBezTo>
                <a:cubicBezTo>
                  <a:pt x="21191" y="5184"/>
                  <a:pt x="21200" y="5184"/>
                  <a:pt x="21208" y="5184"/>
                </a:cubicBezTo>
              </a:path>
              <a:path w="4962" h="3102">
                <a:moveTo>
                  <a:pt x="21010" y="5507"/>
                </a:moveTo>
                <a:cubicBezTo>
                  <a:pt x="20885" y="5498"/>
                  <a:pt x="20827" y="5520"/>
                  <a:pt x="20712" y="5581"/>
                </a:cubicBezTo>
                <a:cubicBezTo>
                  <a:pt x="20757" y="5715"/>
                  <a:pt x="20960" y="5745"/>
                  <a:pt x="20985" y="5879"/>
                </a:cubicBezTo>
                <a:cubicBezTo>
                  <a:pt x="21011" y="6016"/>
                  <a:pt x="20891" y="5996"/>
                  <a:pt x="20811" y="6003"/>
                </a:cubicBezTo>
                <a:cubicBezTo>
                  <a:pt x="20748" y="5877"/>
                  <a:pt x="20849" y="5772"/>
                  <a:pt x="20910" y="5655"/>
                </a:cubicBezTo>
                <a:cubicBezTo>
                  <a:pt x="20934" y="5609"/>
                  <a:pt x="20969" y="5496"/>
                  <a:pt x="21010" y="54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82840" y="2589120"/>
            <a:ext cx="571320" cy="9720"/>
          </a:xfrm>
          <a:custGeom>
            <a:avLst/>
            <a:gdLst/>
            <a:ahLst/>
            <a:rect l="l" t="t" r="r" b="b"/>
            <a:pathLst>
              <a:path w="1588" h="26">
                <a:moveTo>
                  <a:pt x="4118" y="7218"/>
                </a:moveTo>
                <a:cubicBezTo>
                  <a:pt x="4233" y="7211"/>
                  <a:pt x="4349" y="7181"/>
                  <a:pt x="4465" y="7193"/>
                </a:cubicBezTo>
                <a:cubicBezTo>
                  <a:pt x="4607" y="7207"/>
                  <a:pt x="4741" y="7218"/>
                  <a:pt x="4887" y="7218"/>
                </a:cubicBezTo>
                <a:cubicBezTo>
                  <a:pt x="5023" y="7218"/>
                  <a:pt x="5149" y="7197"/>
                  <a:pt x="5283" y="7193"/>
                </a:cubicBezTo>
                <a:cubicBezTo>
                  <a:pt x="5423" y="7188"/>
                  <a:pt x="5565" y="7193"/>
                  <a:pt x="5705" y="71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43040" y="3606840"/>
            <a:ext cx="527040" cy="19080"/>
          </a:xfrm>
          <a:custGeom>
            <a:avLst/>
            <a:gdLst/>
            <a:ahLst/>
            <a:rect l="l" t="t" r="r" b="b"/>
            <a:pathLst>
              <a:path w="1465" h="51">
                <a:moveTo>
                  <a:pt x="4564" y="10071"/>
                </a:moveTo>
                <a:cubicBezTo>
                  <a:pt x="4717" y="10071"/>
                  <a:pt x="4859" y="10063"/>
                  <a:pt x="5011" y="10046"/>
                </a:cubicBezTo>
                <a:cubicBezTo>
                  <a:pt x="5243" y="10020"/>
                  <a:pt x="5496" y="9996"/>
                  <a:pt x="5730" y="10021"/>
                </a:cubicBezTo>
                <a:cubicBezTo>
                  <a:pt x="5817" y="10030"/>
                  <a:pt x="5891" y="10046"/>
                  <a:pt x="5978" y="10046"/>
                </a:cubicBezTo>
                <a:cubicBezTo>
                  <a:pt x="6003" y="10046"/>
                  <a:pt x="6011" y="10046"/>
                  <a:pt x="6028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33920" y="3054240"/>
            <a:ext cx="457200" cy="61920"/>
          </a:xfrm>
          <a:custGeom>
            <a:avLst/>
            <a:gdLst/>
            <a:ahLst/>
            <a:rect l="l" t="t" r="r" b="b"/>
            <a:pathLst>
              <a:path w="1266" h="175">
                <a:moveTo>
                  <a:pt x="12874" y="8533"/>
                </a:moveTo>
                <a:cubicBezTo>
                  <a:pt x="12874" y="8461"/>
                  <a:pt x="12986" y="8491"/>
                  <a:pt x="13072" y="8508"/>
                </a:cubicBezTo>
                <a:cubicBezTo>
                  <a:pt x="13307" y="8555"/>
                  <a:pt x="13530" y="8579"/>
                  <a:pt x="13767" y="8607"/>
                </a:cubicBezTo>
                <a:cubicBezTo>
                  <a:pt x="13831" y="8615"/>
                  <a:pt x="13999" y="8607"/>
                  <a:pt x="14064" y="8632"/>
                </a:cubicBezTo>
                <a:cubicBezTo>
                  <a:pt x="14103" y="8647"/>
                  <a:pt x="14092" y="8657"/>
                  <a:pt x="14139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To divide fractions &amp; mixed numbers.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et’s try some together: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676520" y="1600200"/>
          <a:ext cx="160020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00200"/>
                    <a:ext cx="16002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676520" y="3886200"/>
          <a:ext cx="1447560" cy="12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886200"/>
                    <a:ext cx="144756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509920" y="2340000"/>
            <a:ext cx="374400" cy="268200"/>
          </a:xfrm>
          <a:custGeom>
            <a:avLst/>
            <a:gdLst/>
            <a:ahLst/>
            <a:rect l="l" t="t" r="r" b="b"/>
            <a:pathLst>
              <a:path w="1043" h="745">
                <a:moveTo>
                  <a:pt x="6970" y="6548"/>
                </a:moveTo>
                <a:cubicBezTo>
                  <a:pt x="7020" y="6536"/>
                  <a:pt x="7035" y="6524"/>
                  <a:pt x="7094" y="6524"/>
                </a:cubicBezTo>
                <a:cubicBezTo>
                  <a:pt x="7233" y="6524"/>
                  <a:pt x="7356" y="6518"/>
                  <a:pt x="7491" y="6524"/>
                </a:cubicBezTo>
                <a:cubicBezTo>
                  <a:pt x="7664" y="6531"/>
                  <a:pt x="7839" y="6524"/>
                  <a:pt x="8012" y="6524"/>
                </a:cubicBezTo>
              </a:path>
              <a:path w="1043" h="745">
                <a:moveTo>
                  <a:pt x="7516" y="6747"/>
                </a:moveTo>
                <a:cubicBezTo>
                  <a:pt x="7516" y="6722"/>
                  <a:pt x="7516" y="6714"/>
                  <a:pt x="7491" y="6722"/>
                </a:cubicBezTo>
                <a:cubicBezTo>
                  <a:pt x="7491" y="6816"/>
                  <a:pt x="7511" y="6902"/>
                  <a:pt x="7516" y="6995"/>
                </a:cubicBezTo>
                <a:cubicBezTo>
                  <a:pt x="7520" y="7073"/>
                  <a:pt x="7512" y="7152"/>
                  <a:pt x="7491" y="7193"/>
                </a:cubicBezTo>
                <a:cubicBezTo>
                  <a:pt x="7491" y="7221"/>
                  <a:pt x="7493" y="7232"/>
                  <a:pt x="7516" y="72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1517760"/>
            <a:ext cx="1465200" cy="1233360"/>
          </a:xfrm>
          <a:custGeom>
            <a:avLst/>
            <a:gdLst/>
            <a:ahLst/>
            <a:rect l="l" t="t" r="r" b="b"/>
            <a:pathLst>
              <a:path w="4069" h="3424">
                <a:moveTo>
                  <a:pt x="10443" y="5184"/>
                </a:moveTo>
                <a:cubicBezTo>
                  <a:pt x="10431" y="5113"/>
                  <a:pt x="10390" y="5019"/>
                  <a:pt x="10344" y="4961"/>
                </a:cubicBezTo>
                <a:cubicBezTo>
                  <a:pt x="10222" y="4807"/>
                  <a:pt x="9995" y="4838"/>
                  <a:pt x="9897" y="5011"/>
                </a:cubicBezTo>
                <a:cubicBezTo>
                  <a:pt x="9874" y="5145"/>
                  <a:pt x="9856" y="5183"/>
                  <a:pt x="9947" y="5234"/>
                </a:cubicBezTo>
                <a:cubicBezTo>
                  <a:pt x="10141" y="5203"/>
                  <a:pt x="10180" y="5150"/>
                  <a:pt x="10294" y="4986"/>
                </a:cubicBezTo>
                <a:cubicBezTo>
                  <a:pt x="10351" y="5202"/>
                  <a:pt x="10344" y="5404"/>
                  <a:pt x="10344" y="5631"/>
                </a:cubicBezTo>
                <a:cubicBezTo>
                  <a:pt x="10344" y="5672"/>
                  <a:pt x="10344" y="5680"/>
                  <a:pt x="10344" y="5705"/>
                </a:cubicBezTo>
              </a:path>
              <a:path w="4069" h="3424">
                <a:moveTo>
                  <a:pt x="9525" y="6028"/>
                </a:moveTo>
                <a:cubicBezTo>
                  <a:pt x="9827" y="5958"/>
                  <a:pt x="10154" y="5847"/>
                  <a:pt x="10468" y="5854"/>
                </a:cubicBezTo>
                <a:cubicBezTo>
                  <a:pt x="10555" y="5856"/>
                  <a:pt x="10575" y="5894"/>
                  <a:pt x="10592" y="5953"/>
                </a:cubicBezTo>
              </a:path>
              <a:path w="4069" h="3424">
                <a:moveTo>
                  <a:pt x="9872" y="6400"/>
                </a:moveTo>
                <a:cubicBezTo>
                  <a:pt x="9872" y="6536"/>
                  <a:pt x="9869" y="6661"/>
                  <a:pt x="9847" y="6796"/>
                </a:cubicBezTo>
                <a:cubicBezTo>
                  <a:pt x="9826" y="6924"/>
                  <a:pt x="9780" y="6951"/>
                  <a:pt x="9897" y="6846"/>
                </a:cubicBezTo>
              </a:path>
              <a:path w="4069" h="3424">
                <a:moveTo>
                  <a:pt x="10418" y="6375"/>
                </a:moveTo>
                <a:cubicBezTo>
                  <a:pt x="10312" y="6533"/>
                  <a:pt x="10285" y="6660"/>
                  <a:pt x="10294" y="6846"/>
                </a:cubicBezTo>
                <a:cubicBezTo>
                  <a:pt x="10473" y="6916"/>
                  <a:pt x="10746" y="6872"/>
                  <a:pt x="10666" y="6573"/>
                </a:cubicBezTo>
                <a:cubicBezTo>
                  <a:pt x="10612" y="6369"/>
                  <a:pt x="10519" y="6401"/>
                  <a:pt x="10393" y="6449"/>
                </a:cubicBezTo>
              </a:path>
              <a:path w="4069" h="3424">
                <a:moveTo>
                  <a:pt x="11187" y="5705"/>
                </a:moveTo>
                <a:cubicBezTo>
                  <a:pt x="11282" y="5885"/>
                  <a:pt x="11396" y="6048"/>
                  <a:pt x="11534" y="6201"/>
                </a:cubicBezTo>
                <a:cubicBezTo>
                  <a:pt x="11563" y="6234"/>
                  <a:pt x="11574" y="6247"/>
                  <a:pt x="11584" y="6276"/>
                </a:cubicBezTo>
              </a:path>
              <a:path w="4069" h="3424">
                <a:moveTo>
                  <a:pt x="11609" y="5680"/>
                </a:moveTo>
                <a:cubicBezTo>
                  <a:pt x="11447" y="5851"/>
                  <a:pt x="11319" y="6057"/>
                  <a:pt x="11162" y="6226"/>
                </a:cubicBezTo>
                <a:cubicBezTo>
                  <a:pt x="11133" y="6258"/>
                  <a:pt x="11050" y="6281"/>
                  <a:pt x="11088" y="6300"/>
                </a:cubicBezTo>
                <a:cubicBezTo>
                  <a:pt x="11096" y="6300"/>
                  <a:pt x="11104" y="6300"/>
                  <a:pt x="11112" y="6300"/>
                </a:cubicBezTo>
              </a:path>
              <a:path w="4069" h="3424">
                <a:moveTo>
                  <a:pt x="12254" y="5060"/>
                </a:moveTo>
                <a:cubicBezTo>
                  <a:pt x="12222" y="5168"/>
                  <a:pt x="12199" y="5382"/>
                  <a:pt x="12229" y="5507"/>
                </a:cubicBezTo>
                <a:cubicBezTo>
                  <a:pt x="12252" y="5529"/>
                  <a:pt x="12260" y="5534"/>
                  <a:pt x="12254" y="5556"/>
                </a:cubicBezTo>
              </a:path>
              <a:path w="4069" h="3424">
                <a:moveTo>
                  <a:pt x="11782" y="5978"/>
                </a:moveTo>
                <a:cubicBezTo>
                  <a:pt x="11997" y="5912"/>
                  <a:pt x="12229" y="5892"/>
                  <a:pt x="12452" y="5854"/>
                </a:cubicBezTo>
                <a:cubicBezTo>
                  <a:pt x="12531" y="5840"/>
                  <a:pt x="12560" y="5829"/>
                  <a:pt x="12626" y="5829"/>
                </a:cubicBezTo>
              </a:path>
              <a:path w="4069" h="3424">
                <a:moveTo>
                  <a:pt x="12105" y="6226"/>
                </a:moveTo>
                <a:cubicBezTo>
                  <a:pt x="12073" y="6338"/>
                  <a:pt x="12000" y="6505"/>
                  <a:pt x="12005" y="6623"/>
                </a:cubicBezTo>
                <a:cubicBezTo>
                  <a:pt x="12009" y="6734"/>
                  <a:pt x="12098" y="6783"/>
                  <a:pt x="12204" y="6796"/>
                </a:cubicBezTo>
                <a:cubicBezTo>
                  <a:pt x="12311" y="6809"/>
                  <a:pt x="12551" y="6794"/>
                  <a:pt x="12626" y="6697"/>
                </a:cubicBezTo>
                <a:cubicBezTo>
                  <a:pt x="12626" y="6638"/>
                  <a:pt x="12629" y="6612"/>
                  <a:pt x="12650" y="6573"/>
                </a:cubicBezTo>
                <a:cubicBezTo>
                  <a:pt x="12528" y="6519"/>
                  <a:pt x="12495" y="6515"/>
                  <a:pt x="12378" y="6573"/>
                </a:cubicBezTo>
                <a:cubicBezTo>
                  <a:pt x="12294" y="6615"/>
                  <a:pt x="12320" y="6667"/>
                  <a:pt x="12328" y="6747"/>
                </a:cubicBezTo>
                <a:cubicBezTo>
                  <a:pt x="12328" y="6763"/>
                  <a:pt x="12328" y="6780"/>
                  <a:pt x="12328" y="6796"/>
                </a:cubicBezTo>
              </a:path>
              <a:path w="4069" h="3424">
                <a:moveTo>
                  <a:pt x="13271" y="5854"/>
                </a:moveTo>
                <a:cubicBezTo>
                  <a:pt x="13243" y="5827"/>
                  <a:pt x="13395" y="5808"/>
                  <a:pt x="13444" y="5804"/>
                </a:cubicBezTo>
                <a:cubicBezTo>
                  <a:pt x="13518" y="5804"/>
                  <a:pt x="13527" y="5804"/>
                  <a:pt x="13568" y="5804"/>
                </a:cubicBezTo>
              </a:path>
              <a:path w="4069" h="3424">
                <a:moveTo>
                  <a:pt x="13295" y="6077"/>
                </a:moveTo>
                <a:cubicBezTo>
                  <a:pt x="13400" y="6070"/>
                  <a:pt x="13496" y="6063"/>
                  <a:pt x="13593" y="6028"/>
                </a:cubicBezTo>
              </a:path>
              <a:path w="4069" h="3424">
                <a:moveTo>
                  <a:pt x="10641" y="5060"/>
                </a:moveTo>
                <a:cubicBezTo>
                  <a:pt x="10691" y="5035"/>
                  <a:pt x="10707" y="5027"/>
                  <a:pt x="10740" y="5011"/>
                </a:cubicBezTo>
              </a:path>
              <a:path w="4069" h="3424">
                <a:moveTo>
                  <a:pt x="10592" y="4911"/>
                </a:moveTo>
                <a:cubicBezTo>
                  <a:pt x="10600" y="4911"/>
                  <a:pt x="10608" y="4911"/>
                  <a:pt x="10616" y="4911"/>
                </a:cubicBezTo>
              </a:path>
              <a:path w="4069" h="3424">
                <a:moveTo>
                  <a:pt x="10716" y="5308"/>
                </a:moveTo>
                <a:lnTo>
                  <a:pt x="10716" y="5308"/>
                </a:lnTo>
              </a:path>
              <a:path w="4069" h="3424">
                <a:moveTo>
                  <a:pt x="10765" y="4887"/>
                </a:moveTo>
                <a:cubicBezTo>
                  <a:pt x="10810" y="4849"/>
                  <a:pt x="10885" y="4764"/>
                  <a:pt x="10914" y="4837"/>
                </a:cubicBezTo>
                <a:cubicBezTo>
                  <a:pt x="10938" y="4909"/>
                  <a:pt x="10948" y="4932"/>
                  <a:pt x="10889" y="4961"/>
                </a:cubicBezTo>
                <a:cubicBezTo>
                  <a:pt x="10889" y="4969"/>
                  <a:pt x="10889" y="4978"/>
                  <a:pt x="10889" y="4986"/>
                </a:cubicBezTo>
                <a:cubicBezTo>
                  <a:pt x="10995" y="4967"/>
                  <a:pt x="11105" y="4994"/>
                  <a:pt x="10988" y="5135"/>
                </a:cubicBezTo>
                <a:cubicBezTo>
                  <a:pt x="10918" y="5181"/>
                  <a:pt x="10898" y="5198"/>
                  <a:pt x="10840" y="5184"/>
                </a:cubicBezTo>
              </a:path>
              <a:path w="4069" h="3424">
                <a:moveTo>
                  <a:pt x="12824" y="6474"/>
                </a:moveTo>
                <a:cubicBezTo>
                  <a:pt x="12863" y="6443"/>
                  <a:pt x="12913" y="6423"/>
                  <a:pt x="12948" y="6400"/>
                </a:cubicBezTo>
                <a:cubicBezTo>
                  <a:pt x="12956" y="6392"/>
                  <a:pt x="12965" y="6383"/>
                  <a:pt x="12973" y="6375"/>
                </a:cubicBezTo>
              </a:path>
              <a:path w="4069" h="3424">
                <a:moveTo>
                  <a:pt x="12824" y="6300"/>
                </a:moveTo>
                <a:cubicBezTo>
                  <a:pt x="12816" y="6300"/>
                  <a:pt x="12807" y="6300"/>
                  <a:pt x="12799" y="6300"/>
                </a:cubicBezTo>
              </a:path>
              <a:path w="4069" h="3424">
                <a:moveTo>
                  <a:pt x="12973" y="6598"/>
                </a:moveTo>
                <a:cubicBezTo>
                  <a:pt x="12996" y="6621"/>
                  <a:pt x="13004" y="6632"/>
                  <a:pt x="12998" y="6598"/>
                </a:cubicBezTo>
              </a:path>
              <a:path w="4069" h="3424">
                <a:moveTo>
                  <a:pt x="13097" y="6350"/>
                </a:moveTo>
                <a:cubicBezTo>
                  <a:pt x="13131" y="6343"/>
                  <a:pt x="13162" y="6332"/>
                  <a:pt x="13196" y="6325"/>
                </a:cubicBezTo>
                <a:cubicBezTo>
                  <a:pt x="13189" y="6387"/>
                  <a:pt x="13181" y="6422"/>
                  <a:pt x="13146" y="6474"/>
                </a:cubicBezTo>
                <a:cubicBezTo>
                  <a:pt x="13225" y="6474"/>
                  <a:pt x="13272" y="6395"/>
                  <a:pt x="13345" y="6449"/>
                </a:cubicBezTo>
                <a:cubicBezTo>
                  <a:pt x="13406" y="6494"/>
                  <a:pt x="13376" y="6579"/>
                  <a:pt x="13320" y="6598"/>
                </a:cubicBezTo>
                <a:cubicBezTo>
                  <a:pt x="13312" y="6598"/>
                  <a:pt x="13303" y="6598"/>
                  <a:pt x="13295" y="6598"/>
                </a:cubicBezTo>
              </a:path>
              <a:path w="4069" h="3424">
                <a:moveTo>
                  <a:pt x="12626" y="7218"/>
                </a:moveTo>
                <a:cubicBezTo>
                  <a:pt x="12693" y="7196"/>
                  <a:pt x="12794" y="7114"/>
                  <a:pt x="12874" y="7119"/>
                </a:cubicBezTo>
                <a:cubicBezTo>
                  <a:pt x="12882" y="7127"/>
                  <a:pt x="12890" y="7136"/>
                  <a:pt x="12898" y="7144"/>
                </a:cubicBezTo>
                <a:cubicBezTo>
                  <a:pt x="12929" y="7299"/>
                  <a:pt x="12839" y="7386"/>
                  <a:pt x="12750" y="7516"/>
                </a:cubicBezTo>
                <a:cubicBezTo>
                  <a:pt x="12711" y="7573"/>
                  <a:pt x="12667" y="7599"/>
                  <a:pt x="12700" y="7615"/>
                </a:cubicBezTo>
                <a:cubicBezTo>
                  <a:pt x="12825" y="7581"/>
                  <a:pt x="12940" y="7501"/>
                  <a:pt x="13072" y="7466"/>
                </a:cubicBezTo>
                <a:cubicBezTo>
                  <a:pt x="13080" y="7466"/>
                  <a:pt x="13089" y="7466"/>
                  <a:pt x="13097" y="7466"/>
                </a:cubicBezTo>
              </a:path>
              <a:path w="4069" h="3424">
                <a:moveTo>
                  <a:pt x="10046" y="4366"/>
                </a:moveTo>
                <a:cubicBezTo>
                  <a:pt x="10030" y="4318"/>
                  <a:pt x="9988" y="4333"/>
                  <a:pt x="10071" y="4266"/>
                </a:cubicBezTo>
                <a:cubicBezTo>
                  <a:pt x="10156" y="4198"/>
                  <a:pt x="10250" y="4204"/>
                  <a:pt x="10244" y="4341"/>
                </a:cubicBezTo>
                <a:cubicBezTo>
                  <a:pt x="10220" y="4390"/>
                  <a:pt x="10211" y="4407"/>
                  <a:pt x="10170" y="4415"/>
                </a:cubicBezTo>
                <a:cubicBezTo>
                  <a:pt x="10239" y="4392"/>
                  <a:pt x="10481" y="4354"/>
                  <a:pt x="10393" y="4539"/>
                </a:cubicBezTo>
                <a:cubicBezTo>
                  <a:pt x="10340" y="4650"/>
                  <a:pt x="10185" y="4661"/>
                  <a:pt x="10096" y="4713"/>
                </a:cubicBezTo>
              </a:path>
              <a:path w="4069" h="3424">
                <a:moveTo>
                  <a:pt x="9971" y="5655"/>
                </a:moveTo>
                <a:cubicBezTo>
                  <a:pt x="10185" y="5498"/>
                  <a:pt x="10417" y="5316"/>
                  <a:pt x="10641" y="5159"/>
                </a:cubicBezTo>
                <a:cubicBezTo>
                  <a:pt x="10725" y="5100"/>
                  <a:pt x="10917" y="4975"/>
                  <a:pt x="10988" y="4911"/>
                </a:cubicBezTo>
                <a:cubicBezTo>
                  <a:pt x="11013" y="4911"/>
                  <a:pt x="11021" y="4911"/>
                  <a:pt x="11013" y="4887"/>
                </a:cubicBezTo>
              </a:path>
              <a:path w="4069" h="3424">
                <a:moveTo>
                  <a:pt x="12080" y="6672"/>
                </a:moveTo>
                <a:cubicBezTo>
                  <a:pt x="12226" y="6714"/>
                  <a:pt x="12556" y="6591"/>
                  <a:pt x="12700" y="6548"/>
                </a:cubicBezTo>
                <a:cubicBezTo>
                  <a:pt x="12843" y="6505"/>
                  <a:pt x="13153" y="6471"/>
                  <a:pt x="13295" y="6400"/>
                </a:cubicBezTo>
                <a:cubicBezTo>
                  <a:pt x="13318" y="6377"/>
                  <a:pt x="13322" y="6369"/>
                  <a:pt x="13345" y="6375"/>
                </a:cubicBezTo>
              </a:path>
              <a:path w="4069" h="3424">
                <a:moveTo>
                  <a:pt x="11013" y="4390"/>
                </a:moveTo>
                <a:cubicBezTo>
                  <a:pt x="10943" y="4390"/>
                  <a:pt x="11186" y="4323"/>
                  <a:pt x="11212" y="4316"/>
                </a:cubicBezTo>
                <a:cubicBezTo>
                  <a:pt x="11364" y="4274"/>
                  <a:pt x="11483" y="4304"/>
                  <a:pt x="11633" y="4341"/>
                </a:cubicBezTo>
                <a:cubicBezTo>
                  <a:pt x="11742" y="4368"/>
                  <a:pt x="11822" y="4388"/>
                  <a:pt x="11906" y="4465"/>
                </a:cubicBezTo>
                <a:cubicBezTo>
                  <a:pt x="11940" y="4496"/>
                  <a:pt x="11937" y="4514"/>
                  <a:pt x="11956" y="4539"/>
                </a:cubicBezTo>
                <a:cubicBezTo>
                  <a:pt x="11987" y="4580"/>
                  <a:pt x="11974" y="4617"/>
                  <a:pt x="12005" y="4638"/>
                </a:cubicBezTo>
              </a:path>
              <a:path w="4069" h="3424">
                <a:moveTo>
                  <a:pt x="10765" y="7169"/>
                </a:moveTo>
                <a:cubicBezTo>
                  <a:pt x="10856" y="7206"/>
                  <a:pt x="10905" y="7263"/>
                  <a:pt x="10988" y="7317"/>
                </a:cubicBezTo>
                <a:cubicBezTo>
                  <a:pt x="11121" y="7404"/>
                  <a:pt x="11238" y="7474"/>
                  <a:pt x="11385" y="7541"/>
                </a:cubicBezTo>
                <a:cubicBezTo>
                  <a:pt x="11540" y="7612"/>
                  <a:pt x="11637" y="7640"/>
                  <a:pt x="11807" y="7640"/>
                </a:cubicBezTo>
                <a:cubicBezTo>
                  <a:pt x="11947" y="7640"/>
                  <a:pt x="12053" y="7591"/>
                  <a:pt x="12179" y="7541"/>
                </a:cubicBezTo>
                <a:cubicBezTo>
                  <a:pt x="12242" y="7516"/>
                  <a:pt x="12227" y="7513"/>
                  <a:pt x="12254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05240" y="1758960"/>
            <a:ext cx="411480" cy="635040"/>
          </a:xfrm>
          <a:custGeom>
            <a:avLst/>
            <a:gdLst/>
            <a:ahLst/>
            <a:rect l="l" t="t" r="r" b="b"/>
            <a:pathLst>
              <a:path w="1142" h="1762">
                <a:moveTo>
                  <a:pt x="14734" y="5011"/>
                </a:moveTo>
                <a:cubicBezTo>
                  <a:pt x="14702" y="5000"/>
                  <a:pt x="14705" y="4955"/>
                  <a:pt x="14734" y="4936"/>
                </a:cubicBezTo>
                <a:cubicBezTo>
                  <a:pt x="14771" y="4911"/>
                  <a:pt x="14883" y="4873"/>
                  <a:pt x="14932" y="4887"/>
                </a:cubicBezTo>
                <a:cubicBezTo>
                  <a:pt x="15039" y="4918"/>
                  <a:pt x="15024" y="5042"/>
                  <a:pt x="14957" y="5110"/>
                </a:cubicBezTo>
                <a:cubicBezTo>
                  <a:pt x="14917" y="5130"/>
                  <a:pt x="14911" y="5139"/>
                  <a:pt x="14883" y="5135"/>
                </a:cubicBezTo>
                <a:cubicBezTo>
                  <a:pt x="14983" y="5125"/>
                  <a:pt x="15147" y="5072"/>
                  <a:pt x="15156" y="5234"/>
                </a:cubicBezTo>
                <a:cubicBezTo>
                  <a:pt x="15167" y="5432"/>
                  <a:pt x="14971" y="5465"/>
                  <a:pt x="14833" y="5457"/>
                </a:cubicBezTo>
                <a:cubicBezTo>
                  <a:pt x="14825" y="5457"/>
                  <a:pt x="14816" y="5457"/>
                  <a:pt x="14808" y="5457"/>
                </a:cubicBezTo>
              </a:path>
              <a:path w="1142" h="1762">
                <a:moveTo>
                  <a:pt x="14461" y="5854"/>
                </a:moveTo>
                <a:cubicBezTo>
                  <a:pt x="14535" y="5798"/>
                  <a:pt x="14672" y="5835"/>
                  <a:pt x="14759" y="5829"/>
                </a:cubicBezTo>
                <a:cubicBezTo>
                  <a:pt x="14969" y="5815"/>
                  <a:pt x="15179" y="5765"/>
                  <a:pt x="15379" y="5730"/>
                </a:cubicBezTo>
                <a:cubicBezTo>
                  <a:pt x="15387" y="5730"/>
                  <a:pt x="15396" y="5730"/>
                  <a:pt x="15404" y="5730"/>
                </a:cubicBezTo>
              </a:path>
              <a:path w="1142" h="1762">
                <a:moveTo>
                  <a:pt x="14635" y="6152"/>
                </a:moveTo>
                <a:cubicBezTo>
                  <a:pt x="14661" y="6021"/>
                  <a:pt x="14795" y="6026"/>
                  <a:pt x="14883" y="6127"/>
                </a:cubicBezTo>
                <a:cubicBezTo>
                  <a:pt x="15052" y="6321"/>
                  <a:pt x="14816" y="6587"/>
                  <a:pt x="14635" y="6648"/>
                </a:cubicBezTo>
                <a:cubicBezTo>
                  <a:pt x="14594" y="6648"/>
                  <a:pt x="14552" y="6648"/>
                  <a:pt x="14511" y="6648"/>
                </a:cubicBezTo>
                <a:cubicBezTo>
                  <a:pt x="14489" y="6526"/>
                  <a:pt x="14532" y="6414"/>
                  <a:pt x="14684" y="6375"/>
                </a:cubicBezTo>
                <a:cubicBezTo>
                  <a:pt x="14819" y="6341"/>
                  <a:pt x="14937" y="6391"/>
                  <a:pt x="15032" y="6474"/>
                </a:cubicBezTo>
              </a:path>
              <a:path w="1142" h="1762">
                <a:moveTo>
                  <a:pt x="15329" y="5953"/>
                </a:moveTo>
                <a:cubicBezTo>
                  <a:pt x="15275" y="5967"/>
                  <a:pt x="15226" y="6049"/>
                  <a:pt x="15205" y="6102"/>
                </a:cubicBezTo>
                <a:cubicBezTo>
                  <a:pt x="15177" y="6173"/>
                  <a:pt x="15111" y="6347"/>
                  <a:pt x="15205" y="6400"/>
                </a:cubicBezTo>
                <a:cubicBezTo>
                  <a:pt x="15328" y="6470"/>
                  <a:pt x="15480" y="6417"/>
                  <a:pt x="15553" y="6300"/>
                </a:cubicBezTo>
                <a:cubicBezTo>
                  <a:pt x="15602" y="6222"/>
                  <a:pt x="15626" y="6076"/>
                  <a:pt x="15553" y="6003"/>
                </a:cubicBezTo>
                <a:cubicBezTo>
                  <a:pt x="15506" y="5956"/>
                  <a:pt x="15399" y="5901"/>
                  <a:pt x="15329" y="5928"/>
                </a:cubicBezTo>
                <a:cubicBezTo>
                  <a:pt x="15321" y="5936"/>
                  <a:pt x="15312" y="5945"/>
                  <a:pt x="15304" y="59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16800" y="1704960"/>
            <a:ext cx="1482480" cy="554040"/>
          </a:xfrm>
          <a:custGeom>
            <a:avLst/>
            <a:gdLst/>
            <a:ahLst/>
            <a:rect l="l" t="t" r="r" b="b"/>
            <a:pathLst>
              <a:path w="4119" h="1539">
                <a:moveTo>
                  <a:pt x="18951" y="4961"/>
                </a:moveTo>
                <a:cubicBezTo>
                  <a:pt x="18999" y="4914"/>
                  <a:pt x="18969" y="4852"/>
                  <a:pt x="18926" y="4787"/>
                </a:cubicBezTo>
                <a:cubicBezTo>
                  <a:pt x="18794" y="4808"/>
                  <a:pt x="18631" y="4883"/>
                  <a:pt x="18653" y="5060"/>
                </a:cubicBezTo>
                <a:cubicBezTo>
                  <a:pt x="18670" y="5085"/>
                  <a:pt x="18686" y="5110"/>
                  <a:pt x="18703" y="5135"/>
                </a:cubicBezTo>
                <a:cubicBezTo>
                  <a:pt x="18848" y="5108"/>
                  <a:pt x="18912" y="5084"/>
                  <a:pt x="18976" y="4936"/>
                </a:cubicBezTo>
                <a:cubicBezTo>
                  <a:pt x="19010" y="5101"/>
                  <a:pt x="19009" y="5290"/>
                  <a:pt x="18951" y="5457"/>
                </a:cubicBezTo>
                <a:cubicBezTo>
                  <a:pt x="18943" y="5465"/>
                  <a:pt x="18934" y="5474"/>
                  <a:pt x="18926" y="5482"/>
                </a:cubicBezTo>
              </a:path>
              <a:path w="4119" h="1539">
                <a:moveTo>
                  <a:pt x="18380" y="5680"/>
                </a:moveTo>
                <a:cubicBezTo>
                  <a:pt x="18574" y="5657"/>
                  <a:pt x="18805" y="5607"/>
                  <a:pt x="19000" y="5631"/>
                </a:cubicBezTo>
                <a:cubicBezTo>
                  <a:pt x="19041" y="5651"/>
                  <a:pt x="19058" y="5648"/>
                  <a:pt x="19050" y="5680"/>
                </a:cubicBezTo>
              </a:path>
              <a:path w="4119" h="1539">
                <a:moveTo>
                  <a:pt x="18554" y="5928"/>
                </a:moveTo>
                <a:cubicBezTo>
                  <a:pt x="18548" y="6052"/>
                  <a:pt x="18536" y="6156"/>
                  <a:pt x="18504" y="6276"/>
                </a:cubicBezTo>
              </a:path>
              <a:path w="4119" h="1539">
                <a:moveTo>
                  <a:pt x="18852" y="5904"/>
                </a:moveTo>
                <a:cubicBezTo>
                  <a:pt x="18831" y="6024"/>
                  <a:pt x="18805" y="6143"/>
                  <a:pt x="18852" y="6251"/>
                </a:cubicBezTo>
                <a:cubicBezTo>
                  <a:pt x="18904" y="6230"/>
                  <a:pt x="19157" y="6116"/>
                  <a:pt x="19050" y="6003"/>
                </a:cubicBezTo>
                <a:cubicBezTo>
                  <a:pt x="18961" y="5958"/>
                  <a:pt x="18931" y="5952"/>
                  <a:pt x="18926" y="5879"/>
                </a:cubicBezTo>
              </a:path>
              <a:path w="4119" h="1539">
                <a:moveTo>
                  <a:pt x="19397" y="5507"/>
                </a:moveTo>
                <a:cubicBezTo>
                  <a:pt x="19440" y="5574"/>
                  <a:pt x="19540" y="5778"/>
                  <a:pt x="19621" y="5804"/>
                </a:cubicBezTo>
                <a:cubicBezTo>
                  <a:pt x="19621" y="5796"/>
                  <a:pt x="19621" y="5787"/>
                  <a:pt x="19621" y="5779"/>
                </a:cubicBezTo>
              </a:path>
              <a:path w="4119" h="1539">
                <a:moveTo>
                  <a:pt x="19720" y="5432"/>
                </a:moveTo>
                <a:cubicBezTo>
                  <a:pt x="19608" y="5570"/>
                  <a:pt x="19224" y="5893"/>
                  <a:pt x="19397" y="5854"/>
                </a:cubicBezTo>
                <a:cubicBezTo>
                  <a:pt x="19422" y="5837"/>
                  <a:pt x="19447" y="5821"/>
                  <a:pt x="19472" y="5804"/>
                </a:cubicBezTo>
              </a:path>
              <a:path w="4119" h="1539">
                <a:moveTo>
                  <a:pt x="20340" y="4961"/>
                </a:moveTo>
                <a:cubicBezTo>
                  <a:pt x="20340" y="5085"/>
                  <a:pt x="20340" y="5209"/>
                  <a:pt x="20340" y="5333"/>
                </a:cubicBezTo>
              </a:path>
              <a:path w="4119" h="1539">
                <a:moveTo>
                  <a:pt x="20117" y="5383"/>
                </a:moveTo>
                <a:cubicBezTo>
                  <a:pt x="20269" y="5383"/>
                  <a:pt x="20413" y="5367"/>
                  <a:pt x="20563" y="5358"/>
                </a:cubicBezTo>
                <a:cubicBezTo>
                  <a:pt x="20571" y="5358"/>
                  <a:pt x="20580" y="5358"/>
                  <a:pt x="20588" y="5358"/>
                </a:cubicBezTo>
              </a:path>
              <a:path w="4119" h="1539">
                <a:moveTo>
                  <a:pt x="20265" y="5581"/>
                </a:moveTo>
                <a:cubicBezTo>
                  <a:pt x="20248" y="5702"/>
                  <a:pt x="20198" y="5810"/>
                  <a:pt x="20166" y="5928"/>
                </a:cubicBezTo>
                <a:cubicBezTo>
                  <a:pt x="20133" y="6051"/>
                  <a:pt x="20150" y="6135"/>
                  <a:pt x="20315" y="6102"/>
                </a:cubicBezTo>
                <a:cubicBezTo>
                  <a:pt x="20435" y="6078"/>
                  <a:pt x="20532" y="5995"/>
                  <a:pt x="20563" y="5879"/>
                </a:cubicBezTo>
                <a:cubicBezTo>
                  <a:pt x="20563" y="5844"/>
                  <a:pt x="20554" y="5831"/>
                  <a:pt x="20513" y="5829"/>
                </a:cubicBezTo>
                <a:cubicBezTo>
                  <a:pt x="20386" y="5872"/>
                  <a:pt x="20344" y="5949"/>
                  <a:pt x="20315" y="6077"/>
                </a:cubicBezTo>
              </a:path>
              <a:path w="4119" h="1539">
                <a:moveTo>
                  <a:pt x="19199" y="4961"/>
                </a:moveTo>
                <a:cubicBezTo>
                  <a:pt x="19149" y="4961"/>
                  <a:pt x="19323" y="4855"/>
                  <a:pt x="19348" y="4837"/>
                </a:cubicBezTo>
                <a:cubicBezTo>
                  <a:pt x="19438" y="4772"/>
                  <a:pt x="19543" y="4733"/>
                  <a:pt x="19645" y="4762"/>
                </a:cubicBezTo>
                <a:cubicBezTo>
                  <a:pt x="19710" y="4781"/>
                  <a:pt x="19824" y="4838"/>
                  <a:pt x="19869" y="4887"/>
                </a:cubicBezTo>
                <a:cubicBezTo>
                  <a:pt x="19886" y="4906"/>
                  <a:pt x="19870" y="4949"/>
                  <a:pt x="19893" y="4961"/>
                </a:cubicBezTo>
                <a:cubicBezTo>
                  <a:pt x="19925" y="4977"/>
                  <a:pt x="19914" y="4972"/>
                  <a:pt x="19943" y="5011"/>
                </a:cubicBezTo>
              </a:path>
              <a:path w="4119" h="1539">
                <a:moveTo>
                  <a:pt x="20935" y="5432"/>
                </a:moveTo>
                <a:cubicBezTo>
                  <a:pt x="21020" y="5418"/>
                  <a:pt x="21094" y="5407"/>
                  <a:pt x="21183" y="5407"/>
                </a:cubicBezTo>
                <a:cubicBezTo>
                  <a:pt x="21191" y="5407"/>
                  <a:pt x="21200" y="5407"/>
                  <a:pt x="21208" y="5407"/>
                </a:cubicBezTo>
              </a:path>
              <a:path w="4119" h="1539">
                <a:moveTo>
                  <a:pt x="20960" y="5581"/>
                </a:moveTo>
                <a:cubicBezTo>
                  <a:pt x="21065" y="5581"/>
                  <a:pt x="21157" y="5567"/>
                  <a:pt x="21258" y="5556"/>
                </a:cubicBezTo>
              </a:path>
              <a:path w="4119" h="1539">
                <a:moveTo>
                  <a:pt x="22225" y="5060"/>
                </a:moveTo>
                <a:cubicBezTo>
                  <a:pt x="22242" y="5051"/>
                  <a:pt x="22227" y="5004"/>
                  <a:pt x="22200" y="4986"/>
                </a:cubicBezTo>
                <a:cubicBezTo>
                  <a:pt x="22189" y="4979"/>
                  <a:pt x="22080" y="4958"/>
                  <a:pt x="22076" y="4961"/>
                </a:cubicBezTo>
                <a:cubicBezTo>
                  <a:pt x="21971" y="5034"/>
                  <a:pt x="21985" y="5122"/>
                  <a:pt x="21977" y="5234"/>
                </a:cubicBezTo>
                <a:cubicBezTo>
                  <a:pt x="22133" y="5257"/>
                  <a:pt x="22218" y="5238"/>
                  <a:pt x="22299" y="5085"/>
                </a:cubicBezTo>
                <a:cubicBezTo>
                  <a:pt x="22299" y="5077"/>
                  <a:pt x="22299" y="5068"/>
                  <a:pt x="22299" y="5060"/>
                </a:cubicBezTo>
                <a:cubicBezTo>
                  <a:pt x="22299" y="5171"/>
                  <a:pt x="22286" y="5273"/>
                  <a:pt x="22275" y="5383"/>
                </a:cubicBezTo>
                <a:cubicBezTo>
                  <a:pt x="22275" y="5399"/>
                  <a:pt x="22275" y="5416"/>
                  <a:pt x="22275" y="5432"/>
                </a:cubicBezTo>
              </a:path>
              <a:path w="4119" h="1539">
                <a:moveTo>
                  <a:pt x="21878" y="5606"/>
                </a:moveTo>
                <a:cubicBezTo>
                  <a:pt x="22086" y="5600"/>
                  <a:pt x="22290" y="5581"/>
                  <a:pt x="22498" y="5581"/>
                </a:cubicBezTo>
                <a:cubicBezTo>
                  <a:pt x="22490" y="5581"/>
                  <a:pt x="22481" y="5581"/>
                  <a:pt x="22473" y="55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49800" y="1643040"/>
            <a:ext cx="3510000" cy="3822840"/>
          </a:xfrm>
          <a:custGeom>
            <a:avLst/>
            <a:gdLst/>
            <a:ahLst/>
            <a:rect l="l" t="t" r="r" b="b"/>
            <a:pathLst>
              <a:path w="9749" h="10617">
                <a:moveTo>
                  <a:pt x="14238" y="6573"/>
                </a:moveTo>
                <a:cubicBezTo>
                  <a:pt x="14318" y="6641"/>
                  <a:pt x="14396" y="6689"/>
                  <a:pt x="14486" y="6747"/>
                </a:cubicBezTo>
                <a:cubicBezTo>
                  <a:pt x="14643" y="6848"/>
                  <a:pt x="14805" y="6825"/>
                  <a:pt x="14982" y="6796"/>
                </a:cubicBezTo>
                <a:cubicBezTo>
                  <a:pt x="15150" y="6768"/>
                  <a:pt x="15321" y="6669"/>
                  <a:pt x="15478" y="6598"/>
                </a:cubicBezTo>
                <a:cubicBezTo>
                  <a:pt x="15649" y="6521"/>
                  <a:pt x="15790" y="6328"/>
                  <a:pt x="15850" y="6152"/>
                </a:cubicBezTo>
                <a:cubicBezTo>
                  <a:pt x="15925" y="5932"/>
                  <a:pt x="15886" y="5704"/>
                  <a:pt x="15850" y="5482"/>
                </a:cubicBezTo>
                <a:cubicBezTo>
                  <a:pt x="15825" y="5327"/>
                  <a:pt x="15795" y="5129"/>
                  <a:pt x="15726" y="4986"/>
                </a:cubicBezTo>
                <a:cubicBezTo>
                  <a:pt x="15672" y="4873"/>
                  <a:pt x="15578" y="4824"/>
                  <a:pt x="15478" y="4762"/>
                </a:cubicBezTo>
                <a:cubicBezTo>
                  <a:pt x="15403" y="4715"/>
                  <a:pt x="15311" y="4613"/>
                  <a:pt x="15230" y="4589"/>
                </a:cubicBezTo>
                <a:cubicBezTo>
                  <a:pt x="15089" y="4548"/>
                  <a:pt x="14900" y="4549"/>
                  <a:pt x="14759" y="4589"/>
                </a:cubicBezTo>
                <a:cubicBezTo>
                  <a:pt x="14568" y="4643"/>
                  <a:pt x="14371" y="4796"/>
                  <a:pt x="14263" y="4961"/>
                </a:cubicBezTo>
                <a:cubicBezTo>
                  <a:pt x="14148" y="5137"/>
                  <a:pt x="14062" y="5425"/>
                  <a:pt x="14039" y="5631"/>
                </a:cubicBezTo>
                <a:cubicBezTo>
                  <a:pt x="14017" y="5824"/>
                  <a:pt x="14013" y="6034"/>
                  <a:pt x="14039" y="6226"/>
                </a:cubicBezTo>
                <a:cubicBezTo>
                  <a:pt x="14059" y="6372"/>
                  <a:pt x="14106" y="6500"/>
                  <a:pt x="14163" y="6623"/>
                </a:cubicBezTo>
                <a:cubicBezTo>
                  <a:pt x="14210" y="6725"/>
                  <a:pt x="14264" y="6798"/>
                  <a:pt x="14387" y="6821"/>
                </a:cubicBezTo>
                <a:cubicBezTo>
                  <a:pt x="14431" y="6829"/>
                  <a:pt x="14441" y="6817"/>
                  <a:pt x="14486" y="6821"/>
                </a:cubicBezTo>
              </a:path>
              <a:path w="9749" h="10617">
                <a:moveTo>
                  <a:pt x="12650" y="11485"/>
                </a:moveTo>
                <a:cubicBezTo>
                  <a:pt x="12519" y="11506"/>
                  <a:pt x="12387" y="11543"/>
                  <a:pt x="12254" y="11559"/>
                </a:cubicBezTo>
                <a:cubicBezTo>
                  <a:pt x="12237" y="11559"/>
                  <a:pt x="12221" y="11559"/>
                  <a:pt x="12204" y="11559"/>
                </a:cubicBezTo>
                <a:cubicBezTo>
                  <a:pt x="12216" y="11693"/>
                  <a:pt x="12229" y="11820"/>
                  <a:pt x="12229" y="11956"/>
                </a:cubicBezTo>
                <a:cubicBezTo>
                  <a:pt x="12372" y="11870"/>
                  <a:pt x="12515" y="11752"/>
                  <a:pt x="12675" y="11906"/>
                </a:cubicBezTo>
                <a:cubicBezTo>
                  <a:pt x="12868" y="12091"/>
                  <a:pt x="12471" y="12219"/>
                  <a:pt x="12378" y="12229"/>
                </a:cubicBezTo>
                <a:cubicBezTo>
                  <a:pt x="12320" y="12229"/>
                  <a:pt x="12295" y="12246"/>
                  <a:pt x="12303" y="12204"/>
                </a:cubicBezTo>
              </a:path>
              <a:path w="9749" h="10617">
                <a:moveTo>
                  <a:pt x="12080" y="12402"/>
                </a:moveTo>
                <a:cubicBezTo>
                  <a:pt x="12308" y="12366"/>
                  <a:pt x="12708" y="12209"/>
                  <a:pt x="12824" y="12402"/>
                </a:cubicBezTo>
              </a:path>
              <a:path w="9749" h="10617">
                <a:moveTo>
                  <a:pt x="12700" y="12774"/>
                </a:moveTo>
                <a:cubicBezTo>
                  <a:pt x="12654" y="12684"/>
                  <a:pt x="12530" y="12545"/>
                  <a:pt x="12402" y="12601"/>
                </a:cubicBezTo>
                <a:cubicBezTo>
                  <a:pt x="12282" y="12653"/>
                  <a:pt x="12147" y="13045"/>
                  <a:pt x="12378" y="12973"/>
                </a:cubicBezTo>
                <a:cubicBezTo>
                  <a:pt x="12535" y="12883"/>
                  <a:pt x="12584" y="12866"/>
                  <a:pt x="12626" y="12750"/>
                </a:cubicBezTo>
                <a:cubicBezTo>
                  <a:pt x="12634" y="12742"/>
                  <a:pt x="12642" y="12733"/>
                  <a:pt x="12650" y="12725"/>
                </a:cubicBezTo>
                <a:cubicBezTo>
                  <a:pt x="12629" y="12900"/>
                  <a:pt x="12626" y="13069"/>
                  <a:pt x="12626" y="13246"/>
                </a:cubicBezTo>
                <a:cubicBezTo>
                  <a:pt x="12626" y="13353"/>
                  <a:pt x="12626" y="13361"/>
                  <a:pt x="12626" y="13419"/>
                </a:cubicBezTo>
              </a:path>
              <a:path w="9749" h="10617">
                <a:moveTo>
                  <a:pt x="13345" y="12278"/>
                </a:moveTo>
                <a:cubicBezTo>
                  <a:pt x="13364" y="12354"/>
                  <a:pt x="13436" y="12332"/>
                  <a:pt x="13494" y="12378"/>
                </a:cubicBezTo>
                <a:cubicBezTo>
                  <a:pt x="13557" y="12428"/>
                  <a:pt x="13668" y="12503"/>
                  <a:pt x="13692" y="12576"/>
                </a:cubicBezTo>
                <a:cubicBezTo>
                  <a:pt x="13692" y="12584"/>
                  <a:pt x="13692" y="12593"/>
                  <a:pt x="13692" y="12601"/>
                </a:cubicBezTo>
              </a:path>
              <a:path w="9749" h="10617">
                <a:moveTo>
                  <a:pt x="13692" y="12204"/>
                </a:moveTo>
                <a:cubicBezTo>
                  <a:pt x="13649" y="12312"/>
                  <a:pt x="13542" y="12428"/>
                  <a:pt x="13469" y="12526"/>
                </a:cubicBezTo>
                <a:cubicBezTo>
                  <a:pt x="13413" y="12602"/>
                  <a:pt x="13410" y="12615"/>
                  <a:pt x="13370" y="12650"/>
                </a:cubicBezTo>
              </a:path>
              <a:path w="9749" h="10617">
                <a:moveTo>
                  <a:pt x="14337" y="11609"/>
                </a:moveTo>
                <a:cubicBezTo>
                  <a:pt x="14509" y="11587"/>
                  <a:pt x="14650" y="11764"/>
                  <a:pt x="14560" y="11956"/>
                </a:cubicBezTo>
                <a:cubicBezTo>
                  <a:pt x="14454" y="12182"/>
                  <a:pt x="14249" y="12294"/>
                  <a:pt x="14039" y="12204"/>
                </a:cubicBezTo>
                <a:cubicBezTo>
                  <a:pt x="14185" y="12032"/>
                  <a:pt x="14302" y="12071"/>
                  <a:pt x="14511" y="12179"/>
                </a:cubicBezTo>
                <a:cubicBezTo>
                  <a:pt x="14536" y="12196"/>
                  <a:pt x="14560" y="12212"/>
                  <a:pt x="14585" y="12229"/>
                </a:cubicBezTo>
              </a:path>
              <a:path w="9749" h="10617">
                <a:moveTo>
                  <a:pt x="14635" y="11559"/>
                </a:moveTo>
                <a:cubicBezTo>
                  <a:pt x="14750" y="11549"/>
                  <a:pt x="14882" y="11532"/>
                  <a:pt x="14982" y="11509"/>
                </a:cubicBezTo>
                <a:cubicBezTo>
                  <a:pt x="14990" y="11509"/>
                  <a:pt x="14999" y="11509"/>
                  <a:pt x="15007" y="11509"/>
                </a:cubicBezTo>
                <a:cubicBezTo>
                  <a:pt x="15041" y="11687"/>
                  <a:pt x="15042" y="11877"/>
                  <a:pt x="14982" y="12055"/>
                </a:cubicBezTo>
                <a:cubicBezTo>
                  <a:pt x="14974" y="12063"/>
                  <a:pt x="14965" y="12072"/>
                  <a:pt x="14957" y="12080"/>
                </a:cubicBezTo>
              </a:path>
              <a:path w="9749" h="10617">
                <a:moveTo>
                  <a:pt x="14139" y="12477"/>
                </a:moveTo>
                <a:cubicBezTo>
                  <a:pt x="14471" y="12407"/>
                  <a:pt x="14766" y="12353"/>
                  <a:pt x="15106" y="12353"/>
                </a:cubicBezTo>
                <a:cubicBezTo>
                  <a:pt x="15114" y="12353"/>
                  <a:pt x="15123" y="12353"/>
                  <a:pt x="15131" y="12353"/>
                </a:cubicBezTo>
              </a:path>
              <a:path w="9749" h="10617">
                <a:moveTo>
                  <a:pt x="14362" y="12774"/>
                </a:moveTo>
                <a:cubicBezTo>
                  <a:pt x="14349" y="12949"/>
                  <a:pt x="14331" y="13122"/>
                  <a:pt x="14312" y="13295"/>
                </a:cubicBezTo>
                <a:cubicBezTo>
                  <a:pt x="14312" y="13341"/>
                  <a:pt x="14324" y="13332"/>
                  <a:pt x="14362" y="13246"/>
                </a:cubicBezTo>
              </a:path>
              <a:path w="9749" h="10617">
                <a:moveTo>
                  <a:pt x="14833" y="12650"/>
                </a:moveTo>
                <a:cubicBezTo>
                  <a:pt x="14752" y="12680"/>
                  <a:pt x="14640" y="12682"/>
                  <a:pt x="14610" y="12750"/>
                </a:cubicBezTo>
                <a:cubicBezTo>
                  <a:pt x="14576" y="12828"/>
                  <a:pt x="14569" y="12904"/>
                  <a:pt x="14610" y="12973"/>
                </a:cubicBezTo>
                <a:cubicBezTo>
                  <a:pt x="14695" y="12902"/>
                  <a:pt x="14819" y="12826"/>
                  <a:pt x="14932" y="12898"/>
                </a:cubicBezTo>
                <a:cubicBezTo>
                  <a:pt x="15087" y="12996"/>
                  <a:pt x="14924" y="13173"/>
                  <a:pt x="14808" y="13196"/>
                </a:cubicBezTo>
                <a:cubicBezTo>
                  <a:pt x="14691" y="13196"/>
                  <a:pt x="14669" y="13210"/>
                  <a:pt x="14610" y="13171"/>
                </a:cubicBezTo>
              </a:path>
              <a:path w="9749" h="10617">
                <a:moveTo>
                  <a:pt x="12774" y="13320"/>
                </a:moveTo>
                <a:cubicBezTo>
                  <a:pt x="12812" y="13343"/>
                  <a:pt x="12826" y="13345"/>
                  <a:pt x="12874" y="13345"/>
                </a:cubicBezTo>
                <a:cubicBezTo>
                  <a:pt x="12885" y="13381"/>
                  <a:pt x="12887" y="13381"/>
                  <a:pt x="12898" y="13345"/>
                </a:cubicBezTo>
                <a:cubicBezTo>
                  <a:pt x="12939" y="13345"/>
                  <a:pt x="12981" y="13345"/>
                  <a:pt x="13022" y="13345"/>
                </a:cubicBezTo>
              </a:path>
              <a:path w="9749" h="10617">
                <a:moveTo>
                  <a:pt x="12799" y="13122"/>
                </a:moveTo>
                <a:cubicBezTo>
                  <a:pt x="12791" y="13122"/>
                  <a:pt x="12782" y="13122"/>
                  <a:pt x="12774" y="13122"/>
                </a:cubicBezTo>
              </a:path>
              <a:path w="9749" h="10617">
                <a:moveTo>
                  <a:pt x="12849" y="13543"/>
                </a:moveTo>
                <a:cubicBezTo>
                  <a:pt x="12849" y="13551"/>
                  <a:pt x="12849" y="13560"/>
                  <a:pt x="12849" y="13568"/>
                </a:cubicBezTo>
              </a:path>
              <a:path w="9749" h="10617">
                <a:moveTo>
                  <a:pt x="13171" y="13221"/>
                </a:moveTo>
                <a:cubicBezTo>
                  <a:pt x="13226" y="13193"/>
                  <a:pt x="13249" y="13185"/>
                  <a:pt x="13295" y="13196"/>
                </a:cubicBezTo>
                <a:cubicBezTo>
                  <a:pt x="13295" y="13290"/>
                  <a:pt x="13297" y="13343"/>
                  <a:pt x="13246" y="13419"/>
                </a:cubicBezTo>
                <a:cubicBezTo>
                  <a:pt x="13283" y="13410"/>
                  <a:pt x="13361" y="13350"/>
                  <a:pt x="13370" y="13419"/>
                </a:cubicBezTo>
                <a:cubicBezTo>
                  <a:pt x="13386" y="13538"/>
                  <a:pt x="13310" y="13709"/>
                  <a:pt x="13171" y="13717"/>
                </a:cubicBezTo>
                <a:cubicBezTo>
                  <a:pt x="13141" y="13687"/>
                  <a:pt x="13130" y="13673"/>
                  <a:pt x="13122" y="13643"/>
                </a:cubicBezTo>
              </a:path>
              <a:path w="9749" h="10617">
                <a:moveTo>
                  <a:pt x="15280" y="11633"/>
                </a:moveTo>
                <a:cubicBezTo>
                  <a:pt x="15356" y="11622"/>
                  <a:pt x="15429" y="11596"/>
                  <a:pt x="15503" y="11584"/>
                </a:cubicBezTo>
              </a:path>
              <a:path w="9749" h="10617">
                <a:moveTo>
                  <a:pt x="15230" y="11361"/>
                </a:moveTo>
                <a:cubicBezTo>
                  <a:pt x="15230" y="11447"/>
                  <a:pt x="15236" y="11483"/>
                  <a:pt x="15280" y="11534"/>
                </a:cubicBezTo>
              </a:path>
              <a:path w="9749" h="10617">
                <a:moveTo>
                  <a:pt x="15404" y="11881"/>
                </a:moveTo>
                <a:lnTo>
                  <a:pt x="15404" y="11881"/>
                </a:lnTo>
              </a:path>
              <a:path w="9749" h="10617">
                <a:moveTo>
                  <a:pt x="15404" y="11881"/>
                </a:moveTo>
                <a:lnTo>
                  <a:pt x="15404" y="11881"/>
                </a:lnTo>
              </a:path>
              <a:path w="9749" h="10617">
                <a:moveTo>
                  <a:pt x="15528" y="11311"/>
                </a:moveTo>
                <a:cubicBezTo>
                  <a:pt x="15584" y="11268"/>
                  <a:pt x="15655" y="11251"/>
                  <a:pt x="15726" y="11237"/>
                </a:cubicBezTo>
                <a:cubicBezTo>
                  <a:pt x="15711" y="11338"/>
                  <a:pt x="15703" y="11368"/>
                  <a:pt x="15627" y="11435"/>
                </a:cubicBezTo>
                <a:cubicBezTo>
                  <a:pt x="15693" y="11435"/>
                  <a:pt x="15759" y="11435"/>
                  <a:pt x="15825" y="11435"/>
                </a:cubicBezTo>
                <a:cubicBezTo>
                  <a:pt x="15790" y="11662"/>
                  <a:pt x="15688" y="11657"/>
                  <a:pt x="15478" y="11683"/>
                </a:cubicBezTo>
              </a:path>
              <a:path w="9749" h="10617">
                <a:moveTo>
                  <a:pt x="12204" y="12923"/>
                </a:moveTo>
                <a:cubicBezTo>
                  <a:pt x="12339" y="12981"/>
                  <a:pt x="12427" y="13044"/>
                  <a:pt x="12551" y="13122"/>
                </a:cubicBezTo>
                <a:cubicBezTo>
                  <a:pt x="12771" y="13261"/>
                  <a:pt x="13003" y="13378"/>
                  <a:pt x="13221" y="13519"/>
                </a:cubicBezTo>
                <a:cubicBezTo>
                  <a:pt x="13253" y="13539"/>
                  <a:pt x="13266" y="13544"/>
                  <a:pt x="13295" y="13568"/>
                </a:cubicBezTo>
              </a:path>
              <a:path w="9749" h="10617">
                <a:moveTo>
                  <a:pt x="11832" y="13643"/>
                </a:moveTo>
                <a:cubicBezTo>
                  <a:pt x="11914" y="13560"/>
                  <a:pt x="12173" y="13383"/>
                  <a:pt x="12229" y="13618"/>
                </a:cubicBezTo>
                <a:cubicBezTo>
                  <a:pt x="12207" y="13747"/>
                  <a:pt x="12211" y="13779"/>
                  <a:pt x="12154" y="13841"/>
                </a:cubicBezTo>
                <a:cubicBezTo>
                  <a:pt x="12234" y="13761"/>
                  <a:pt x="12467" y="13725"/>
                  <a:pt x="12427" y="13940"/>
                </a:cubicBezTo>
                <a:cubicBezTo>
                  <a:pt x="12402" y="14076"/>
                  <a:pt x="12064" y="14215"/>
                  <a:pt x="11956" y="14114"/>
                </a:cubicBezTo>
                <a:cubicBezTo>
                  <a:pt x="11964" y="14097"/>
                  <a:pt x="11973" y="14081"/>
                  <a:pt x="11981" y="14064"/>
                </a:cubicBezTo>
              </a:path>
              <a:path w="9749" h="10617">
                <a:moveTo>
                  <a:pt x="14362" y="12154"/>
                </a:moveTo>
                <a:cubicBezTo>
                  <a:pt x="14701" y="11916"/>
                  <a:pt x="15033" y="11663"/>
                  <a:pt x="15379" y="11435"/>
                </a:cubicBezTo>
                <a:cubicBezTo>
                  <a:pt x="15511" y="11348"/>
                  <a:pt x="15604" y="11295"/>
                  <a:pt x="15751" y="11237"/>
                </a:cubicBezTo>
              </a:path>
              <a:path w="9749" h="10617">
                <a:moveTo>
                  <a:pt x="14660" y="10616"/>
                </a:moveTo>
                <a:cubicBezTo>
                  <a:pt x="14735" y="10591"/>
                  <a:pt x="14587" y="10497"/>
                  <a:pt x="14511" y="10517"/>
                </a:cubicBezTo>
                <a:cubicBezTo>
                  <a:pt x="14381" y="10552"/>
                  <a:pt x="14396" y="10749"/>
                  <a:pt x="14387" y="10840"/>
                </a:cubicBezTo>
                <a:cubicBezTo>
                  <a:pt x="14575" y="10898"/>
                  <a:pt x="14641" y="10856"/>
                  <a:pt x="14734" y="10666"/>
                </a:cubicBezTo>
                <a:cubicBezTo>
                  <a:pt x="14742" y="10641"/>
                  <a:pt x="14751" y="10617"/>
                  <a:pt x="14759" y="10592"/>
                </a:cubicBezTo>
                <a:cubicBezTo>
                  <a:pt x="14759" y="10782"/>
                  <a:pt x="14759" y="10972"/>
                  <a:pt x="14759" y="11162"/>
                </a:cubicBezTo>
              </a:path>
              <a:path w="9749" h="10617">
                <a:moveTo>
                  <a:pt x="12774" y="11683"/>
                </a:moveTo>
                <a:cubicBezTo>
                  <a:pt x="12774" y="11658"/>
                  <a:pt x="12774" y="11650"/>
                  <a:pt x="12750" y="11658"/>
                </a:cubicBezTo>
                <a:cubicBezTo>
                  <a:pt x="12819" y="11658"/>
                  <a:pt x="12864" y="11617"/>
                  <a:pt x="12923" y="11584"/>
                </a:cubicBezTo>
              </a:path>
              <a:path w="9749" h="10617">
                <a:moveTo>
                  <a:pt x="12774" y="11460"/>
                </a:moveTo>
                <a:lnTo>
                  <a:pt x="12774" y="11460"/>
                </a:lnTo>
              </a:path>
              <a:path w="9749" h="10617">
                <a:moveTo>
                  <a:pt x="12898" y="11807"/>
                </a:moveTo>
                <a:cubicBezTo>
                  <a:pt x="12906" y="11807"/>
                  <a:pt x="12915" y="11807"/>
                  <a:pt x="12923" y="11807"/>
                </a:cubicBezTo>
              </a:path>
              <a:path w="9749" h="10617">
                <a:moveTo>
                  <a:pt x="12923" y="11807"/>
                </a:moveTo>
                <a:lnTo>
                  <a:pt x="12923" y="11807"/>
                </a:lnTo>
              </a:path>
              <a:path w="9749" h="10617">
                <a:moveTo>
                  <a:pt x="13022" y="11336"/>
                </a:moveTo>
                <a:cubicBezTo>
                  <a:pt x="13040" y="11461"/>
                  <a:pt x="13108" y="11394"/>
                  <a:pt x="13221" y="11385"/>
                </a:cubicBezTo>
                <a:cubicBezTo>
                  <a:pt x="13254" y="11385"/>
                  <a:pt x="13287" y="11385"/>
                  <a:pt x="13320" y="11385"/>
                </a:cubicBezTo>
                <a:cubicBezTo>
                  <a:pt x="13294" y="11568"/>
                  <a:pt x="13290" y="11556"/>
                  <a:pt x="13146" y="11485"/>
                </a:cubicBezTo>
              </a:path>
              <a:path w="9749" h="10617">
                <a:moveTo>
                  <a:pt x="13122" y="11162"/>
                </a:moveTo>
                <a:cubicBezTo>
                  <a:pt x="13202" y="11108"/>
                  <a:pt x="13233" y="11088"/>
                  <a:pt x="13295" y="11063"/>
                </a:cubicBezTo>
              </a:path>
              <a:path w="9749" h="10617">
                <a:moveTo>
                  <a:pt x="15180" y="13022"/>
                </a:moveTo>
                <a:cubicBezTo>
                  <a:pt x="15240" y="13012"/>
                  <a:pt x="15296" y="12992"/>
                  <a:pt x="15354" y="12973"/>
                </a:cubicBezTo>
              </a:path>
              <a:path w="9749" h="10617">
                <a:moveTo>
                  <a:pt x="15230" y="12774"/>
                </a:moveTo>
                <a:cubicBezTo>
                  <a:pt x="15230" y="12782"/>
                  <a:pt x="15230" y="12791"/>
                  <a:pt x="15230" y="12799"/>
                </a:cubicBezTo>
              </a:path>
              <a:path w="9749" h="10617">
                <a:moveTo>
                  <a:pt x="15230" y="12799"/>
                </a:moveTo>
                <a:lnTo>
                  <a:pt x="15230" y="12799"/>
                </a:lnTo>
              </a:path>
              <a:path w="9749" h="10617">
                <a:moveTo>
                  <a:pt x="15329" y="13221"/>
                </a:moveTo>
                <a:lnTo>
                  <a:pt x="15329" y="13221"/>
                </a:lnTo>
              </a:path>
              <a:path w="9749" h="10617">
                <a:moveTo>
                  <a:pt x="15528" y="12824"/>
                </a:moveTo>
                <a:cubicBezTo>
                  <a:pt x="15551" y="12914"/>
                  <a:pt x="15695" y="12871"/>
                  <a:pt x="15776" y="12898"/>
                </a:cubicBezTo>
                <a:cubicBezTo>
                  <a:pt x="16040" y="12986"/>
                  <a:pt x="15759" y="13006"/>
                  <a:pt x="15677" y="12998"/>
                </a:cubicBezTo>
              </a:path>
              <a:path w="9749" h="10617">
                <a:moveTo>
                  <a:pt x="15726" y="12725"/>
                </a:moveTo>
                <a:cubicBezTo>
                  <a:pt x="15825" y="12626"/>
                  <a:pt x="15859" y="12592"/>
                  <a:pt x="15925" y="12526"/>
                </a:cubicBezTo>
              </a:path>
              <a:path w="9749" h="10617">
                <a:moveTo>
                  <a:pt x="15925" y="12526"/>
                </a:moveTo>
                <a:lnTo>
                  <a:pt x="15925" y="12526"/>
                </a:lnTo>
              </a:path>
              <a:path w="9749" h="10617">
                <a:moveTo>
                  <a:pt x="11857" y="12129"/>
                </a:moveTo>
                <a:cubicBezTo>
                  <a:pt x="12273" y="11760"/>
                  <a:pt x="12676" y="11376"/>
                  <a:pt x="13097" y="11013"/>
                </a:cubicBezTo>
                <a:cubicBezTo>
                  <a:pt x="13170" y="10959"/>
                  <a:pt x="13236" y="10934"/>
                  <a:pt x="13171" y="10939"/>
                </a:cubicBezTo>
              </a:path>
              <a:path w="9749" h="10617">
                <a:moveTo>
                  <a:pt x="12105" y="10691"/>
                </a:moveTo>
                <a:cubicBezTo>
                  <a:pt x="12131" y="10855"/>
                  <a:pt x="12129" y="11018"/>
                  <a:pt x="12129" y="11187"/>
                </a:cubicBezTo>
                <a:cubicBezTo>
                  <a:pt x="12129" y="11278"/>
                  <a:pt x="12096" y="11319"/>
                  <a:pt x="12154" y="11311"/>
                </a:cubicBezTo>
              </a:path>
              <a:path w="9749" h="10617">
                <a:moveTo>
                  <a:pt x="14188" y="13097"/>
                </a:moveTo>
                <a:cubicBezTo>
                  <a:pt x="14404" y="13018"/>
                  <a:pt x="14676" y="12990"/>
                  <a:pt x="14908" y="12923"/>
                </a:cubicBezTo>
                <a:cubicBezTo>
                  <a:pt x="15109" y="12865"/>
                  <a:pt x="15317" y="12784"/>
                  <a:pt x="15528" y="12774"/>
                </a:cubicBezTo>
                <a:cubicBezTo>
                  <a:pt x="15569" y="12772"/>
                  <a:pt x="15611" y="12774"/>
                  <a:pt x="15652" y="12774"/>
                </a:cubicBezTo>
              </a:path>
              <a:path w="9749" h="10617">
                <a:moveTo>
                  <a:pt x="14833" y="13494"/>
                </a:moveTo>
                <a:cubicBezTo>
                  <a:pt x="14926" y="13423"/>
                  <a:pt x="14952" y="13400"/>
                  <a:pt x="15032" y="13395"/>
                </a:cubicBezTo>
                <a:cubicBezTo>
                  <a:pt x="15110" y="13525"/>
                  <a:pt x="15062" y="13534"/>
                  <a:pt x="15007" y="13667"/>
                </a:cubicBezTo>
                <a:cubicBezTo>
                  <a:pt x="15007" y="13675"/>
                  <a:pt x="15007" y="13684"/>
                  <a:pt x="15007" y="13692"/>
                </a:cubicBezTo>
                <a:cubicBezTo>
                  <a:pt x="15095" y="13677"/>
                  <a:pt x="15250" y="13599"/>
                  <a:pt x="15280" y="13742"/>
                </a:cubicBezTo>
                <a:cubicBezTo>
                  <a:pt x="15313" y="13901"/>
                  <a:pt x="15079" y="14015"/>
                  <a:pt x="14957" y="14015"/>
                </a:cubicBezTo>
                <a:cubicBezTo>
                  <a:pt x="14957" y="14007"/>
                  <a:pt x="14957" y="13998"/>
                  <a:pt x="14957" y="13990"/>
                </a:cubicBezTo>
              </a:path>
              <a:path w="9749" h="10617">
                <a:moveTo>
                  <a:pt x="16421" y="11981"/>
                </a:moveTo>
                <a:cubicBezTo>
                  <a:pt x="16554" y="11975"/>
                  <a:pt x="16685" y="11963"/>
                  <a:pt x="16818" y="11956"/>
                </a:cubicBezTo>
              </a:path>
              <a:path w="9749" h="10617">
                <a:moveTo>
                  <a:pt x="16669" y="12278"/>
                </a:moveTo>
                <a:cubicBezTo>
                  <a:pt x="16812" y="12255"/>
                  <a:pt x="16857" y="12249"/>
                  <a:pt x="16942" y="12204"/>
                </a:cubicBezTo>
              </a:path>
              <a:path w="9749" h="10617">
                <a:moveTo>
                  <a:pt x="12576" y="14163"/>
                </a:moveTo>
                <a:cubicBezTo>
                  <a:pt x="12654" y="14176"/>
                  <a:pt x="12726" y="14205"/>
                  <a:pt x="12799" y="14238"/>
                </a:cubicBezTo>
              </a:path>
              <a:path w="9749" h="10617">
                <a:moveTo>
                  <a:pt x="12725" y="14064"/>
                </a:moveTo>
                <a:cubicBezTo>
                  <a:pt x="12717" y="14072"/>
                  <a:pt x="12708" y="14081"/>
                  <a:pt x="12700" y="14089"/>
                </a:cubicBezTo>
              </a:path>
              <a:path w="9749" h="10617">
                <a:moveTo>
                  <a:pt x="12700" y="14461"/>
                </a:moveTo>
                <a:cubicBezTo>
                  <a:pt x="12708" y="14469"/>
                  <a:pt x="12717" y="14478"/>
                  <a:pt x="12725" y="14486"/>
                </a:cubicBezTo>
              </a:path>
              <a:path w="9749" h="10617">
                <a:moveTo>
                  <a:pt x="13097" y="14114"/>
                </a:moveTo>
                <a:cubicBezTo>
                  <a:pt x="13111" y="14091"/>
                  <a:pt x="13282" y="13949"/>
                  <a:pt x="13295" y="14064"/>
                </a:cubicBezTo>
                <a:cubicBezTo>
                  <a:pt x="13271" y="14139"/>
                  <a:pt x="13263" y="14164"/>
                  <a:pt x="13246" y="14213"/>
                </a:cubicBezTo>
                <a:cubicBezTo>
                  <a:pt x="13310" y="14181"/>
                  <a:pt x="13326" y="14190"/>
                  <a:pt x="13395" y="14213"/>
                </a:cubicBezTo>
                <a:cubicBezTo>
                  <a:pt x="13347" y="14421"/>
                  <a:pt x="13264" y="14429"/>
                  <a:pt x="13072" y="14387"/>
                </a:cubicBezTo>
              </a:path>
              <a:path w="9749" h="10617">
                <a:moveTo>
                  <a:pt x="15106" y="10592"/>
                </a:moveTo>
                <a:cubicBezTo>
                  <a:pt x="15174" y="10625"/>
                  <a:pt x="15248" y="10616"/>
                  <a:pt x="15329" y="10616"/>
                </a:cubicBezTo>
              </a:path>
              <a:path w="9749" h="10617">
                <a:moveTo>
                  <a:pt x="15131" y="10443"/>
                </a:moveTo>
                <a:lnTo>
                  <a:pt x="15131" y="10443"/>
                </a:lnTo>
              </a:path>
              <a:path w="9749" h="10617">
                <a:moveTo>
                  <a:pt x="15205" y="10815"/>
                </a:moveTo>
                <a:lnTo>
                  <a:pt x="15205" y="10815"/>
                </a:lnTo>
                <a:lnTo>
                  <a:pt x="15205" y="10815"/>
                </a:lnTo>
              </a:path>
              <a:path w="9749" h="10617">
                <a:moveTo>
                  <a:pt x="15205" y="10815"/>
                </a:moveTo>
                <a:lnTo>
                  <a:pt x="15205" y="10815"/>
                </a:lnTo>
              </a:path>
              <a:path w="9749" h="10617">
                <a:moveTo>
                  <a:pt x="15453" y="10344"/>
                </a:moveTo>
                <a:cubicBezTo>
                  <a:pt x="15484" y="10323"/>
                  <a:pt x="15667" y="10225"/>
                  <a:pt x="15627" y="10344"/>
                </a:cubicBezTo>
                <a:cubicBezTo>
                  <a:pt x="15610" y="10369"/>
                  <a:pt x="15594" y="10393"/>
                  <a:pt x="15577" y="10418"/>
                </a:cubicBezTo>
                <a:cubicBezTo>
                  <a:pt x="15515" y="10418"/>
                  <a:pt x="15676" y="10373"/>
                  <a:pt x="15701" y="10368"/>
                </a:cubicBezTo>
                <a:cubicBezTo>
                  <a:pt x="15669" y="10530"/>
                  <a:pt x="15631" y="10546"/>
                  <a:pt x="15478" y="10567"/>
                </a:cubicBezTo>
              </a:path>
              <a:path w="9749" h="10617">
                <a:moveTo>
                  <a:pt x="11832" y="13767"/>
                </a:moveTo>
                <a:cubicBezTo>
                  <a:pt x="11785" y="13720"/>
                  <a:pt x="11844" y="13742"/>
                  <a:pt x="11881" y="13742"/>
                </a:cubicBezTo>
              </a:path>
              <a:path w="9749" h="10617">
                <a:moveTo>
                  <a:pt x="11906" y="13742"/>
                </a:moveTo>
                <a:lnTo>
                  <a:pt x="11906" y="13742"/>
                </a:lnTo>
              </a:path>
              <a:path w="9749" h="10617">
                <a:moveTo>
                  <a:pt x="12030" y="13816"/>
                </a:moveTo>
                <a:cubicBezTo>
                  <a:pt x="12306" y="13925"/>
                  <a:pt x="12571" y="14060"/>
                  <a:pt x="12849" y="14163"/>
                </a:cubicBezTo>
                <a:cubicBezTo>
                  <a:pt x="12996" y="14217"/>
                  <a:pt x="13131" y="14193"/>
                  <a:pt x="13271" y="14238"/>
                </a:cubicBezTo>
                <a:cubicBezTo>
                  <a:pt x="13279" y="14241"/>
                  <a:pt x="13445" y="14289"/>
                  <a:pt x="13419" y="14312"/>
                </a:cubicBezTo>
                <a:cubicBezTo>
                  <a:pt x="13394" y="14320"/>
                  <a:pt x="13370" y="14329"/>
                  <a:pt x="13345" y="14337"/>
                </a:cubicBezTo>
              </a:path>
              <a:path w="9749" h="10617">
                <a:moveTo>
                  <a:pt x="11981" y="14461"/>
                </a:moveTo>
                <a:cubicBezTo>
                  <a:pt x="11981" y="14361"/>
                  <a:pt x="11989" y="14610"/>
                  <a:pt x="12005" y="14709"/>
                </a:cubicBezTo>
                <a:cubicBezTo>
                  <a:pt x="12024" y="14803"/>
                  <a:pt x="12011" y="14823"/>
                  <a:pt x="12055" y="14858"/>
                </a:cubicBezTo>
              </a:path>
              <a:path w="9749" h="10617">
                <a:moveTo>
                  <a:pt x="14461" y="10988"/>
                </a:moveTo>
                <a:cubicBezTo>
                  <a:pt x="14520" y="11017"/>
                  <a:pt x="14498" y="11011"/>
                  <a:pt x="14560" y="10964"/>
                </a:cubicBezTo>
                <a:cubicBezTo>
                  <a:pt x="14619" y="10920"/>
                  <a:pt x="14713" y="10899"/>
                  <a:pt x="14784" y="10864"/>
                </a:cubicBezTo>
                <a:cubicBezTo>
                  <a:pt x="14993" y="10763"/>
                  <a:pt x="15214" y="10683"/>
                  <a:pt x="15429" y="10592"/>
                </a:cubicBezTo>
                <a:cubicBezTo>
                  <a:pt x="15580" y="10528"/>
                  <a:pt x="15739" y="10426"/>
                  <a:pt x="15900" y="10393"/>
                </a:cubicBezTo>
                <a:cubicBezTo>
                  <a:pt x="15946" y="10384"/>
                  <a:pt x="15932" y="10393"/>
                  <a:pt x="15974" y="10368"/>
                </a:cubicBezTo>
              </a:path>
              <a:path w="9749" h="10617">
                <a:moveTo>
                  <a:pt x="14585" y="9649"/>
                </a:moveTo>
                <a:cubicBezTo>
                  <a:pt x="14567" y="9649"/>
                  <a:pt x="14618" y="9612"/>
                  <a:pt x="14684" y="9575"/>
                </a:cubicBezTo>
                <a:cubicBezTo>
                  <a:pt x="14751" y="9553"/>
                  <a:pt x="14769" y="9541"/>
                  <a:pt x="14808" y="9575"/>
                </a:cubicBezTo>
                <a:cubicBezTo>
                  <a:pt x="14790" y="9702"/>
                  <a:pt x="14763" y="9747"/>
                  <a:pt x="14684" y="9847"/>
                </a:cubicBezTo>
                <a:cubicBezTo>
                  <a:pt x="14638" y="9894"/>
                  <a:pt x="14743" y="9784"/>
                  <a:pt x="14808" y="9798"/>
                </a:cubicBezTo>
                <a:cubicBezTo>
                  <a:pt x="15068" y="9853"/>
                  <a:pt x="14793" y="10082"/>
                  <a:pt x="14709" y="10120"/>
                </a:cubicBezTo>
                <a:cubicBezTo>
                  <a:pt x="14676" y="10128"/>
                  <a:pt x="14643" y="10137"/>
                  <a:pt x="14610" y="10145"/>
                </a:cubicBezTo>
              </a:path>
              <a:path w="9749" h="10617">
                <a:moveTo>
                  <a:pt x="12402" y="10492"/>
                </a:moveTo>
                <a:cubicBezTo>
                  <a:pt x="12458" y="10373"/>
                  <a:pt x="12516" y="10315"/>
                  <a:pt x="12626" y="10220"/>
                </a:cubicBezTo>
                <a:cubicBezTo>
                  <a:pt x="12851" y="10024"/>
                  <a:pt x="13102" y="9889"/>
                  <a:pt x="13395" y="9823"/>
                </a:cubicBezTo>
                <a:cubicBezTo>
                  <a:pt x="13538" y="9791"/>
                  <a:pt x="13772" y="9761"/>
                  <a:pt x="13915" y="9823"/>
                </a:cubicBezTo>
                <a:cubicBezTo>
                  <a:pt x="13937" y="9833"/>
                  <a:pt x="13916" y="9817"/>
                  <a:pt x="13940" y="9823"/>
                </a:cubicBezTo>
              </a:path>
              <a:path w="9749" h="10617">
                <a:moveTo>
                  <a:pt x="17785" y="11261"/>
                </a:moveTo>
                <a:cubicBezTo>
                  <a:pt x="17855" y="11289"/>
                  <a:pt x="18014" y="11206"/>
                  <a:pt x="18083" y="11311"/>
                </a:cubicBezTo>
                <a:cubicBezTo>
                  <a:pt x="18147" y="11408"/>
                  <a:pt x="18014" y="11577"/>
                  <a:pt x="17934" y="11609"/>
                </a:cubicBezTo>
                <a:cubicBezTo>
                  <a:pt x="18077" y="11578"/>
                  <a:pt x="18347" y="11592"/>
                  <a:pt x="18306" y="11832"/>
                </a:cubicBezTo>
                <a:cubicBezTo>
                  <a:pt x="18285" y="11956"/>
                  <a:pt x="17943" y="12248"/>
                  <a:pt x="17810" y="12129"/>
                </a:cubicBezTo>
                <a:cubicBezTo>
                  <a:pt x="17849" y="12052"/>
                  <a:pt x="17889" y="12030"/>
                  <a:pt x="17983" y="12055"/>
                </a:cubicBezTo>
              </a:path>
              <a:path w="9749" h="10617">
                <a:moveTo>
                  <a:pt x="17587" y="12328"/>
                </a:moveTo>
                <a:cubicBezTo>
                  <a:pt x="17887" y="12301"/>
                  <a:pt x="18227" y="12231"/>
                  <a:pt x="18529" y="12278"/>
                </a:cubicBezTo>
                <a:cubicBezTo>
                  <a:pt x="18552" y="12301"/>
                  <a:pt x="18556" y="12309"/>
                  <a:pt x="18579" y="12303"/>
                </a:cubicBezTo>
              </a:path>
              <a:path w="9749" h="10617">
                <a:moveTo>
                  <a:pt x="12601" y="15032"/>
                </a:moveTo>
                <a:cubicBezTo>
                  <a:pt x="12497" y="15006"/>
                  <a:pt x="12580" y="15012"/>
                  <a:pt x="12502" y="15032"/>
                </a:cubicBezTo>
                <a:cubicBezTo>
                  <a:pt x="12654" y="15076"/>
                  <a:pt x="12788" y="15102"/>
                  <a:pt x="12948" y="15131"/>
                </a:cubicBezTo>
                <a:cubicBezTo>
                  <a:pt x="13318" y="15198"/>
                  <a:pt x="13626" y="15183"/>
                  <a:pt x="13990" y="15081"/>
                </a:cubicBezTo>
                <a:cubicBezTo>
                  <a:pt x="14254" y="15007"/>
                  <a:pt x="14482" y="14889"/>
                  <a:pt x="14684" y="14709"/>
                </a:cubicBezTo>
                <a:cubicBezTo>
                  <a:pt x="14726" y="14668"/>
                  <a:pt x="14734" y="14660"/>
                  <a:pt x="14759" y="14635"/>
                </a:cubicBezTo>
              </a:path>
              <a:path w="9749" h="10617">
                <a:moveTo>
                  <a:pt x="17983" y="12849"/>
                </a:moveTo>
                <a:cubicBezTo>
                  <a:pt x="18033" y="12774"/>
                  <a:pt x="18171" y="12675"/>
                  <a:pt x="18281" y="12675"/>
                </a:cubicBezTo>
                <a:cubicBezTo>
                  <a:pt x="18298" y="12683"/>
                  <a:pt x="18314" y="12692"/>
                  <a:pt x="18331" y="12700"/>
                </a:cubicBezTo>
                <a:cubicBezTo>
                  <a:pt x="18302" y="12872"/>
                  <a:pt x="18266" y="12932"/>
                  <a:pt x="18132" y="13047"/>
                </a:cubicBezTo>
                <a:cubicBezTo>
                  <a:pt x="18246" y="13002"/>
                  <a:pt x="18420" y="12978"/>
                  <a:pt x="18405" y="13171"/>
                </a:cubicBezTo>
                <a:cubicBezTo>
                  <a:pt x="18389" y="13374"/>
                  <a:pt x="18191" y="13411"/>
                  <a:pt x="18033" y="13419"/>
                </a:cubicBezTo>
                <a:cubicBezTo>
                  <a:pt x="18025" y="13419"/>
                  <a:pt x="18016" y="13419"/>
                  <a:pt x="18008" y="13419"/>
                </a:cubicBezTo>
              </a:path>
              <a:path w="9749" h="10617">
                <a:moveTo>
                  <a:pt x="19372" y="12254"/>
                </a:moveTo>
                <a:cubicBezTo>
                  <a:pt x="19433" y="12250"/>
                  <a:pt x="19817" y="12158"/>
                  <a:pt x="19844" y="12204"/>
                </a:cubicBezTo>
                <a:cubicBezTo>
                  <a:pt x="19844" y="12221"/>
                  <a:pt x="19844" y="12237"/>
                  <a:pt x="19844" y="12254"/>
                </a:cubicBezTo>
              </a:path>
              <a:path w="9749" h="10617">
                <a:moveTo>
                  <a:pt x="19397" y="12502"/>
                </a:moveTo>
                <a:cubicBezTo>
                  <a:pt x="19528" y="12495"/>
                  <a:pt x="19682" y="12460"/>
                  <a:pt x="19794" y="12477"/>
                </a:cubicBezTo>
                <a:cubicBezTo>
                  <a:pt x="19802" y="12477"/>
                  <a:pt x="19811" y="12477"/>
                  <a:pt x="19819" y="12477"/>
                </a:cubicBezTo>
              </a:path>
              <a:path w="9749" h="10617">
                <a:moveTo>
                  <a:pt x="20613" y="11906"/>
                </a:moveTo>
                <a:cubicBezTo>
                  <a:pt x="20638" y="12130"/>
                  <a:pt x="20694" y="12353"/>
                  <a:pt x="20737" y="12576"/>
                </a:cubicBezTo>
                <a:cubicBezTo>
                  <a:pt x="20759" y="12683"/>
                  <a:pt x="20767" y="12707"/>
                  <a:pt x="20762" y="12774"/>
                </a:cubicBezTo>
              </a:path>
              <a:path w="9749" h="10617">
                <a:moveTo>
                  <a:pt x="20389" y="13146"/>
                </a:moveTo>
                <a:cubicBezTo>
                  <a:pt x="20667" y="13170"/>
                  <a:pt x="20998" y="13215"/>
                  <a:pt x="21258" y="13072"/>
                </a:cubicBezTo>
                <a:cubicBezTo>
                  <a:pt x="21517" y="12929"/>
                  <a:pt x="21596" y="12598"/>
                  <a:pt x="21530" y="12328"/>
                </a:cubicBezTo>
                <a:cubicBezTo>
                  <a:pt x="21451" y="12006"/>
                  <a:pt x="21230" y="11733"/>
                  <a:pt x="20910" y="11633"/>
                </a:cubicBezTo>
                <a:cubicBezTo>
                  <a:pt x="20682" y="11562"/>
                  <a:pt x="20392" y="11608"/>
                  <a:pt x="20191" y="11733"/>
                </a:cubicBezTo>
                <a:cubicBezTo>
                  <a:pt x="19959" y="11877"/>
                  <a:pt x="19851" y="12186"/>
                  <a:pt x="19918" y="12452"/>
                </a:cubicBezTo>
                <a:cubicBezTo>
                  <a:pt x="19998" y="12769"/>
                  <a:pt x="20239" y="12923"/>
                  <a:pt x="20513" y="13022"/>
                </a:cubicBezTo>
                <a:cubicBezTo>
                  <a:pt x="20634" y="13066"/>
                  <a:pt x="20713" y="13072"/>
                  <a:pt x="20836" y="130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02280" y="2268360"/>
            <a:ext cx="349560" cy="71640"/>
          </a:xfrm>
          <a:custGeom>
            <a:avLst/>
            <a:gdLst/>
            <a:ahLst/>
            <a:rect l="l" t="t" r="r" b="b"/>
            <a:pathLst>
              <a:path w="968" h="200">
                <a:moveTo>
                  <a:pt x="19174" y="6300"/>
                </a:moveTo>
                <a:cubicBezTo>
                  <a:pt x="19256" y="6382"/>
                  <a:pt x="19324" y="6470"/>
                  <a:pt x="19447" y="6499"/>
                </a:cubicBezTo>
                <a:cubicBezTo>
                  <a:pt x="19643" y="6545"/>
                  <a:pt x="19901" y="6483"/>
                  <a:pt x="20067" y="6375"/>
                </a:cubicBezTo>
                <a:cubicBezTo>
                  <a:pt x="20092" y="6350"/>
                  <a:pt x="20116" y="6325"/>
                  <a:pt x="20141" y="63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42160" y="1776240"/>
            <a:ext cx="1027080" cy="528840"/>
          </a:xfrm>
          <a:custGeom>
            <a:avLst/>
            <a:gdLst/>
            <a:ahLst/>
            <a:rect l="l" t="t" r="r" b="b"/>
            <a:pathLst>
              <a:path w="2853" h="1465">
                <a:moveTo>
                  <a:pt x="21729" y="5755"/>
                </a:moveTo>
                <a:cubicBezTo>
                  <a:pt x="21633" y="5866"/>
                  <a:pt x="21575" y="5986"/>
                  <a:pt x="21530" y="6127"/>
                </a:cubicBezTo>
                <a:cubicBezTo>
                  <a:pt x="21510" y="6209"/>
                  <a:pt x="21502" y="6225"/>
                  <a:pt x="21506" y="6276"/>
                </a:cubicBezTo>
                <a:cubicBezTo>
                  <a:pt x="21677" y="6276"/>
                  <a:pt x="21785" y="6281"/>
                  <a:pt x="21927" y="6176"/>
                </a:cubicBezTo>
                <a:cubicBezTo>
                  <a:pt x="21944" y="6160"/>
                  <a:pt x="21960" y="6143"/>
                  <a:pt x="21977" y="6127"/>
                </a:cubicBezTo>
                <a:cubicBezTo>
                  <a:pt x="21913" y="6079"/>
                  <a:pt x="21842" y="6092"/>
                  <a:pt x="21779" y="6152"/>
                </a:cubicBezTo>
                <a:cubicBezTo>
                  <a:pt x="21742" y="6187"/>
                  <a:pt x="21677" y="6259"/>
                  <a:pt x="21729" y="6276"/>
                </a:cubicBezTo>
              </a:path>
              <a:path w="2853" h="1465">
                <a:moveTo>
                  <a:pt x="22225" y="5904"/>
                </a:moveTo>
                <a:cubicBezTo>
                  <a:pt x="22105" y="5904"/>
                  <a:pt x="22108" y="5963"/>
                  <a:pt x="22101" y="6077"/>
                </a:cubicBezTo>
                <a:cubicBezTo>
                  <a:pt x="22101" y="6162"/>
                  <a:pt x="22095" y="6182"/>
                  <a:pt x="22126" y="6226"/>
                </a:cubicBezTo>
                <a:cubicBezTo>
                  <a:pt x="22257" y="6248"/>
                  <a:pt x="22404" y="6178"/>
                  <a:pt x="22399" y="6003"/>
                </a:cubicBezTo>
                <a:cubicBezTo>
                  <a:pt x="22396" y="5912"/>
                  <a:pt x="22255" y="5866"/>
                  <a:pt x="22200" y="5829"/>
                </a:cubicBezTo>
              </a:path>
              <a:path w="2853" h="1465">
                <a:moveTo>
                  <a:pt x="22572" y="5159"/>
                </a:moveTo>
                <a:cubicBezTo>
                  <a:pt x="22625" y="5149"/>
                  <a:pt x="22665" y="5135"/>
                  <a:pt x="22721" y="5135"/>
                </a:cubicBezTo>
              </a:path>
              <a:path w="2853" h="1465">
                <a:moveTo>
                  <a:pt x="22647" y="4961"/>
                </a:moveTo>
                <a:lnTo>
                  <a:pt x="22647" y="4961"/>
                </a:lnTo>
                <a:lnTo>
                  <a:pt x="22647" y="4961"/>
                </a:lnTo>
              </a:path>
              <a:path w="2853" h="1465">
                <a:moveTo>
                  <a:pt x="22746" y="5358"/>
                </a:moveTo>
                <a:lnTo>
                  <a:pt x="22746" y="5358"/>
                </a:lnTo>
              </a:path>
              <a:path w="2853" h="1465">
                <a:moveTo>
                  <a:pt x="22547" y="6052"/>
                </a:moveTo>
                <a:cubicBezTo>
                  <a:pt x="22605" y="6038"/>
                  <a:pt x="22653" y="6028"/>
                  <a:pt x="22721" y="6028"/>
                </a:cubicBezTo>
                <a:cubicBezTo>
                  <a:pt x="22738" y="6028"/>
                  <a:pt x="22754" y="6028"/>
                  <a:pt x="22771" y="6028"/>
                </a:cubicBezTo>
              </a:path>
              <a:path w="2853" h="1465">
                <a:moveTo>
                  <a:pt x="22696" y="5854"/>
                </a:moveTo>
                <a:cubicBezTo>
                  <a:pt x="22688" y="5854"/>
                  <a:pt x="22679" y="5854"/>
                  <a:pt x="22671" y="5854"/>
                </a:cubicBezTo>
              </a:path>
              <a:path w="2853" h="1465">
                <a:moveTo>
                  <a:pt x="22671" y="5854"/>
                </a:moveTo>
                <a:lnTo>
                  <a:pt x="22671" y="5854"/>
                </a:lnTo>
              </a:path>
              <a:path w="2853" h="1465">
                <a:moveTo>
                  <a:pt x="22721" y="6226"/>
                </a:moveTo>
                <a:cubicBezTo>
                  <a:pt x="22713" y="6226"/>
                  <a:pt x="22704" y="6226"/>
                  <a:pt x="22696" y="6226"/>
                </a:cubicBezTo>
              </a:path>
              <a:path w="2853" h="1465">
                <a:moveTo>
                  <a:pt x="22746" y="6251"/>
                </a:moveTo>
                <a:lnTo>
                  <a:pt x="22746" y="6251"/>
                </a:lnTo>
              </a:path>
              <a:path w="2853" h="1465">
                <a:moveTo>
                  <a:pt x="22994" y="5085"/>
                </a:moveTo>
                <a:cubicBezTo>
                  <a:pt x="23047" y="5031"/>
                  <a:pt x="23109" y="5060"/>
                  <a:pt x="23093" y="5159"/>
                </a:cubicBezTo>
                <a:cubicBezTo>
                  <a:pt x="23064" y="5338"/>
                  <a:pt x="23024" y="5154"/>
                  <a:pt x="23118" y="5259"/>
                </a:cubicBezTo>
                <a:cubicBezTo>
                  <a:pt x="23203" y="5354"/>
                  <a:pt x="22993" y="5440"/>
                  <a:pt x="22944" y="5457"/>
                </a:cubicBezTo>
                <a:cubicBezTo>
                  <a:pt x="22936" y="5457"/>
                  <a:pt x="22928" y="5457"/>
                  <a:pt x="22920" y="5457"/>
                </a:cubicBezTo>
              </a:path>
              <a:path w="2853" h="1465">
                <a:moveTo>
                  <a:pt x="22969" y="6127"/>
                </a:moveTo>
                <a:cubicBezTo>
                  <a:pt x="22969" y="6086"/>
                  <a:pt x="22969" y="6044"/>
                  <a:pt x="22969" y="6003"/>
                </a:cubicBezTo>
                <a:cubicBezTo>
                  <a:pt x="23047" y="6013"/>
                  <a:pt x="23162" y="6058"/>
                  <a:pt x="23044" y="6152"/>
                </a:cubicBezTo>
                <a:cubicBezTo>
                  <a:pt x="23019" y="6160"/>
                  <a:pt x="22994" y="6168"/>
                  <a:pt x="22969" y="6176"/>
                </a:cubicBezTo>
                <a:cubicBezTo>
                  <a:pt x="23003" y="6227"/>
                  <a:pt x="23127" y="6175"/>
                  <a:pt x="23093" y="6300"/>
                </a:cubicBezTo>
                <a:cubicBezTo>
                  <a:pt x="23047" y="6466"/>
                  <a:pt x="22939" y="6375"/>
                  <a:pt x="22870" y="6325"/>
                </a:cubicBezTo>
              </a:path>
              <a:path w="2853" h="1465">
                <a:moveTo>
                  <a:pt x="23316" y="5457"/>
                </a:moveTo>
                <a:cubicBezTo>
                  <a:pt x="23370" y="5457"/>
                  <a:pt x="23398" y="5454"/>
                  <a:pt x="23440" y="5432"/>
                </a:cubicBezTo>
              </a:path>
              <a:path w="2853" h="1465">
                <a:moveTo>
                  <a:pt x="23242" y="5631"/>
                </a:moveTo>
                <a:cubicBezTo>
                  <a:pt x="23343" y="5631"/>
                  <a:pt x="23378" y="5629"/>
                  <a:pt x="23416" y="5556"/>
                </a:cubicBezTo>
              </a:path>
              <a:path w="2853" h="1465">
                <a:moveTo>
                  <a:pt x="24061" y="4986"/>
                </a:moveTo>
                <a:cubicBezTo>
                  <a:pt x="24087" y="4959"/>
                  <a:pt x="24128" y="4944"/>
                  <a:pt x="24185" y="4936"/>
                </a:cubicBezTo>
                <a:cubicBezTo>
                  <a:pt x="24196" y="5043"/>
                  <a:pt x="24140" y="5091"/>
                  <a:pt x="24061" y="5184"/>
                </a:cubicBezTo>
                <a:cubicBezTo>
                  <a:pt x="24131" y="5184"/>
                  <a:pt x="24088" y="5143"/>
                  <a:pt x="24160" y="5184"/>
                </a:cubicBezTo>
                <a:cubicBezTo>
                  <a:pt x="24305" y="5268"/>
                  <a:pt x="24277" y="5409"/>
                  <a:pt x="24135" y="5482"/>
                </a:cubicBezTo>
                <a:cubicBezTo>
                  <a:pt x="24033" y="5508"/>
                  <a:pt x="23998" y="5515"/>
                  <a:pt x="23937" y="5457"/>
                </a:cubicBezTo>
              </a:path>
              <a:path w="2853" h="1465">
                <a:moveTo>
                  <a:pt x="23912" y="5606"/>
                </a:moveTo>
                <a:cubicBezTo>
                  <a:pt x="24055" y="5624"/>
                  <a:pt x="24188" y="5631"/>
                  <a:pt x="24333" y="5631"/>
                </a:cubicBezTo>
                <a:cubicBezTo>
                  <a:pt x="24341" y="5631"/>
                  <a:pt x="24350" y="5631"/>
                  <a:pt x="24358" y="5631"/>
                </a:cubicBezTo>
              </a:path>
              <a:path w="2853" h="1465">
                <a:moveTo>
                  <a:pt x="23788" y="5978"/>
                </a:moveTo>
                <a:cubicBezTo>
                  <a:pt x="23813" y="5953"/>
                  <a:pt x="23847" y="5896"/>
                  <a:pt x="23887" y="5904"/>
                </a:cubicBezTo>
                <a:cubicBezTo>
                  <a:pt x="24053" y="5938"/>
                  <a:pt x="24093" y="6163"/>
                  <a:pt x="23937" y="6251"/>
                </a:cubicBezTo>
                <a:cubicBezTo>
                  <a:pt x="23836" y="6251"/>
                  <a:pt x="23802" y="6251"/>
                  <a:pt x="23738" y="6226"/>
                </a:cubicBezTo>
                <a:cubicBezTo>
                  <a:pt x="23758" y="6146"/>
                  <a:pt x="23919" y="6156"/>
                  <a:pt x="23986" y="6176"/>
                </a:cubicBezTo>
                <a:cubicBezTo>
                  <a:pt x="24043" y="6214"/>
                  <a:pt x="24068" y="6209"/>
                  <a:pt x="24061" y="6251"/>
                </a:cubicBezTo>
              </a:path>
              <a:path w="2853" h="1465">
                <a:moveTo>
                  <a:pt x="24085" y="5904"/>
                </a:moveTo>
                <a:cubicBezTo>
                  <a:pt x="24049" y="6057"/>
                  <a:pt x="24013" y="6213"/>
                  <a:pt x="24135" y="6300"/>
                </a:cubicBezTo>
                <a:cubicBezTo>
                  <a:pt x="24298" y="6192"/>
                  <a:pt x="24317" y="6133"/>
                  <a:pt x="24209" y="59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To divide fractions &amp; mixed numbers.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actice on your own: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90720" y="1752480"/>
          <a:ext cx="120636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12063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019920" y="1828800"/>
          <a:ext cx="120636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1828800"/>
                    <a:ext cx="1206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3733920" y="4114800"/>
          <a:ext cx="115560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4114800"/>
                    <a:ext cx="11556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28760" y="1616040"/>
            <a:ext cx="303120" cy="366840"/>
          </a:xfrm>
          <a:custGeom>
            <a:avLst/>
            <a:gdLst/>
            <a:ahLst/>
            <a:rect l="l" t="t" r="r" b="b"/>
            <a:pathLst>
              <a:path w="844" h="1018">
                <a:moveTo>
                  <a:pt x="1588" y="4614"/>
                </a:moveTo>
                <a:cubicBezTo>
                  <a:pt x="1588" y="4572"/>
                  <a:pt x="1611" y="4952"/>
                  <a:pt x="1612" y="4986"/>
                </a:cubicBezTo>
                <a:cubicBezTo>
                  <a:pt x="1612" y="5027"/>
                  <a:pt x="1612" y="5069"/>
                  <a:pt x="1612" y="5110"/>
                </a:cubicBezTo>
              </a:path>
              <a:path w="844" h="1018">
                <a:moveTo>
                  <a:pt x="1315" y="5308"/>
                </a:moveTo>
                <a:cubicBezTo>
                  <a:pt x="1535" y="5354"/>
                  <a:pt x="1841" y="5438"/>
                  <a:pt x="1984" y="5184"/>
                </a:cubicBezTo>
                <a:cubicBezTo>
                  <a:pt x="2111" y="4959"/>
                  <a:pt x="2029" y="4498"/>
                  <a:pt x="1712" y="4490"/>
                </a:cubicBezTo>
                <a:cubicBezTo>
                  <a:pt x="1322" y="4481"/>
                  <a:pt x="1093" y="4860"/>
                  <a:pt x="1215" y="5209"/>
                </a:cubicBezTo>
                <a:cubicBezTo>
                  <a:pt x="1300" y="5451"/>
                  <a:pt x="1483" y="5459"/>
                  <a:pt x="1687" y="55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18040" y="1608120"/>
            <a:ext cx="482760" cy="480960"/>
          </a:xfrm>
          <a:custGeom>
            <a:avLst/>
            <a:gdLst/>
            <a:ahLst/>
            <a:rect l="l" t="t" r="r" b="b"/>
            <a:pathLst>
              <a:path w="1341" h="1340">
                <a:moveTo>
                  <a:pt x="14585" y="5035"/>
                </a:moveTo>
                <a:cubicBezTo>
                  <a:pt x="14690" y="5015"/>
                  <a:pt x="14823" y="4996"/>
                  <a:pt x="14858" y="5159"/>
                </a:cubicBezTo>
                <a:cubicBezTo>
                  <a:pt x="14910" y="5403"/>
                  <a:pt x="14667" y="5520"/>
                  <a:pt x="14486" y="5556"/>
                </a:cubicBezTo>
                <a:cubicBezTo>
                  <a:pt x="14515" y="5385"/>
                  <a:pt x="14575" y="5374"/>
                  <a:pt x="14734" y="5457"/>
                </a:cubicBezTo>
                <a:cubicBezTo>
                  <a:pt x="14783" y="5482"/>
                  <a:pt x="14819" y="5503"/>
                  <a:pt x="14858" y="5531"/>
                </a:cubicBezTo>
              </a:path>
              <a:path w="1341" h="1340">
                <a:moveTo>
                  <a:pt x="14337" y="5755"/>
                </a:moveTo>
                <a:cubicBezTo>
                  <a:pt x="14666" y="5791"/>
                  <a:pt x="14966" y="5797"/>
                  <a:pt x="15180" y="5482"/>
                </a:cubicBezTo>
                <a:cubicBezTo>
                  <a:pt x="15402" y="5155"/>
                  <a:pt x="15214" y="4782"/>
                  <a:pt x="14908" y="4589"/>
                </a:cubicBezTo>
                <a:cubicBezTo>
                  <a:pt x="14392" y="4264"/>
                  <a:pt x="13985" y="4701"/>
                  <a:pt x="13940" y="5234"/>
                </a:cubicBezTo>
                <a:cubicBezTo>
                  <a:pt x="13898" y="5730"/>
                  <a:pt x="14373" y="5556"/>
                  <a:pt x="14635" y="55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86040" y="3848040"/>
            <a:ext cx="519120" cy="563760"/>
          </a:xfrm>
          <a:custGeom>
            <a:avLst/>
            <a:gdLst/>
            <a:ahLst/>
            <a:rect l="l" t="t" r="r" b="b"/>
            <a:pathLst>
              <a:path w="1440" h="1564">
                <a:moveTo>
                  <a:pt x="8210" y="11212"/>
                </a:moveTo>
                <a:cubicBezTo>
                  <a:pt x="8268" y="11165"/>
                  <a:pt x="8477" y="11063"/>
                  <a:pt x="8508" y="11187"/>
                </a:cubicBezTo>
                <a:cubicBezTo>
                  <a:pt x="8482" y="11365"/>
                  <a:pt x="8472" y="11427"/>
                  <a:pt x="8409" y="11534"/>
                </a:cubicBezTo>
                <a:cubicBezTo>
                  <a:pt x="8227" y="11635"/>
                  <a:pt x="8461" y="11436"/>
                  <a:pt x="8607" y="11509"/>
                </a:cubicBezTo>
                <a:cubicBezTo>
                  <a:pt x="8632" y="11542"/>
                  <a:pt x="8657" y="11576"/>
                  <a:pt x="8682" y="11609"/>
                </a:cubicBezTo>
                <a:cubicBezTo>
                  <a:pt x="8554" y="11822"/>
                  <a:pt x="8480" y="11911"/>
                  <a:pt x="8235" y="11857"/>
                </a:cubicBezTo>
              </a:path>
              <a:path w="1440" h="1564">
                <a:moveTo>
                  <a:pt x="8210" y="12254"/>
                </a:moveTo>
                <a:cubicBezTo>
                  <a:pt x="8548" y="12194"/>
                  <a:pt x="9062" y="12118"/>
                  <a:pt x="9178" y="11708"/>
                </a:cubicBezTo>
                <a:cubicBezTo>
                  <a:pt x="9291" y="11309"/>
                  <a:pt x="8878" y="10753"/>
                  <a:pt x="8483" y="10691"/>
                </a:cubicBezTo>
                <a:cubicBezTo>
                  <a:pt x="7876" y="10596"/>
                  <a:pt x="7640" y="11315"/>
                  <a:pt x="7739" y="11782"/>
                </a:cubicBezTo>
                <a:cubicBezTo>
                  <a:pt x="7862" y="12362"/>
                  <a:pt x="8271" y="12188"/>
                  <a:pt x="8657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9000" y="2697120"/>
            <a:ext cx="2027160" cy="1116000"/>
          </a:xfrm>
          <a:custGeom>
            <a:avLst/>
            <a:gdLst/>
            <a:ahLst/>
            <a:rect l="l" t="t" r="r" b="b"/>
            <a:pathLst>
              <a:path w="5632" h="3102">
                <a:moveTo>
                  <a:pt x="3076" y="8310"/>
                </a:moveTo>
                <a:cubicBezTo>
                  <a:pt x="3076" y="8208"/>
                  <a:pt x="3105" y="8458"/>
                  <a:pt x="3125" y="8558"/>
                </a:cubicBezTo>
                <a:cubicBezTo>
                  <a:pt x="3133" y="8607"/>
                  <a:pt x="3142" y="8657"/>
                  <a:pt x="3150" y="8706"/>
                </a:cubicBezTo>
              </a:path>
              <a:path w="5632" h="3102">
                <a:moveTo>
                  <a:pt x="3473" y="8086"/>
                </a:moveTo>
                <a:cubicBezTo>
                  <a:pt x="3362" y="8327"/>
                  <a:pt x="3577" y="8179"/>
                  <a:pt x="3721" y="8334"/>
                </a:cubicBezTo>
                <a:cubicBezTo>
                  <a:pt x="3859" y="8482"/>
                  <a:pt x="3591" y="8533"/>
                  <a:pt x="3522" y="8558"/>
                </a:cubicBezTo>
                <a:cubicBezTo>
                  <a:pt x="3507" y="8380"/>
                  <a:pt x="3647" y="7909"/>
                  <a:pt x="3671" y="8086"/>
                </a:cubicBezTo>
                <a:cubicBezTo>
                  <a:pt x="3663" y="8111"/>
                  <a:pt x="3654" y="8136"/>
                  <a:pt x="3646" y="8161"/>
                </a:cubicBezTo>
              </a:path>
              <a:path w="5632" h="3102">
                <a:moveTo>
                  <a:pt x="3076" y="8979"/>
                </a:moveTo>
                <a:cubicBezTo>
                  <a:pt x="3363" y="8883"/>
                  <a:pt x="3647" y="8815"/>
                  <a:pt x="3944" y="8756"/>
                </a:cubicBezTo>
              </a:path>
              <a:path w="5632" h="3102">
                <a:moveTo>
                  <a:pt x="3200" y="9327"/>
                </a:moveTo>
                <a:cubicBezTo>
                  <a:pt x="3341" y="9307"/>
                  <a:pt x="3402" y="9292"/>
                  <a:pt x="3522" y="9351"/>
                </a:cubicBezTo>
                <a:cubicBezTo>
                  <a:pt x="3472" y="9551"/>
                  <a:pt x="3420" y="9618"/>
                  <a:pt x="3200" y="9674"/>
                </a:cubicBezTo>
                <a:cubicBezTo>
                  <a:pt x="3260" y="9504"/>
                  <a:pt x="3370" y="9348"/>
                  <a:pt x="3547" y="9525"/>
                </a:cubicBezTo>
                <a:cubicBezTo>
                  <a:pt x="3555" y="9542"/>
                  <a:pt x="3564" y="9558"/>
                  <a:pt x="3572" y="9575"/>
                </a:cubicBezTo>
              </a:path>
              <a:path w="5632" h="3102">
                <a:moveTo>
                  <a:pt x="3845" y="9004"/>
                </a:moveTo>
                <a:cubicBezTo>
                  <a:pt x="3738" y="9072"/>
                  <a:pt x="3721" y="9056"/>
                  <a:pt x="3721" y="9178"/>
                </a:cubicBezTo>
                <a:cubicBezTo>
                  <a:pt x="3721" y="9203"/>
                  <a:pt x="3721" y="9211"/>
                  <a:pt x="3721" y="9227"/>
                </a:cubicBezTo>
                <a:cubicBezTo>
                  <a:pt x="3791" y="9204"/>
                  <a:pt x="3962" y="9103"/>
                  <a:pt x="4018" y="9227"/>
                </a:cubicBezTo>
                <a:cubicBezTo>
                  <a:pt x="4094" y="9395"/>
                  <a:pt x="3770" y="9610"/>
                  <a:pt x="3671" y="9451"/>
                </a:cubicBezTo>
                <a:cubicBezTo>
                  <a:pt x="3671" y="9410"/>
                  <a:pt x="3671" y="9368"/>
                  <a:pt x="3671" y="9327"/>
                </a:cubicBezTo>
              </a:path>
              <a:path w="5632" h="3102">
                <a:moveTo>
                  <a:pt x="4291" y="8706"/>
                </a:moveTo>
                <a:cubicBezTo>
                  <a:pt x="4397" y="8794"/>
                  <a:pt x="4498" y="8881"/>
                  <a:pt x="4614" y="8954"/>
                </a:cubicBezTo>
              </a:path>
              <a:path w="5632" h="3102">
                <a:moveTo>
                  <a:pt x="4514" y="8632"/>
                </a:moveTo>
                <a:cubicBezTo>
                  <a:pt x="4464" y="8756"/>
                  <a:pt x="4348" y="9076"/>
                  <a:pt x="4291" y="9103"/>
                </a:cubicBezTo>
              </a:path>
              <a:path w="5632" h="3102">
                <a:moveTo>
                  <a:pt x="4936" y="8161"/>
                </a:moveTo>
                <a:cubicBezTo>
                  <a:pt x="4970" y="8310"/>
                  <a:pt x="4999" y="8459"/>
                  <a:pt x="5035" y="8607"/>
                </a:cubicBezTo>
              </a:path>
              <a:path w="5632" h="3102">
                <a:moveTo>
                  <a:pt x="5234" y="8012"/>
                </a:moveTo>
                <a:cubicBezTo>
                  <a:pt x="5191" y="8192"/>
                  <a:pt x="5181" y="8206"/>
                  <a:pt x="5283" y="8359"/>
                </a:cubicBezTo>
                <a:cubicBezTo>
                  <a:pt x="5367" y="8324"/>
                  <a:pt x="5749" y="8010"/>
                  <a:pt x="5432" y="7987"/>
                </a:cubicBezTo>
                <a:cubicBezTo>
                  <a:pt x="5382" y="8004"/>
                  <a:pt x="5333" y="8020"/>
                  <a:pt x="5283" y="8037"/>
                </a:cubicBezTo>
              </a:path>
              <a:path w="5632" h="3102">
                <a:moveTo>
                  <a:pt x="5011" y="8731"/>
                </a:moveTo>
                <a:cubicBezTo>
                  <a:pt x="5232" y="8661"/>
                  <a:pt x="5465" y="8612"/>
                  <a:pt x="5680" y="8533"/>
                </a:cubicBezTo>
              </a:path>
              <a:path w="5632" h="3102">
                <a:moveTo>
                  <a:pt x="5407" y="9128"/>
                </a:moveTo>
                <a:cubicBezTo>
                  <a:pt x="5424" y="9016"/>
                  <a:pt x="5423" y="8999"/>
                  <a:pt x="5358" y="8905"/>
                </a:cubicBezTo>
                <a:cubicBezTo>
                  <a:pt x="5311" y="8930"/>
                  <a:pt x="5018" y="9178"/>
                  <a:pt x="5234" y="9203"/>
                </a:cubicBezTo>
                <a:cubicBezTo>
                  <a:pt x="5347" y="9175"/>
                  <a:pt x="5387" y="9154"/>
                  <a:pt x="5407" y="9054"/>
                </a:cubicBezTo>
                <a:cubicBezTo>
                  <a:pt x="5415" y="9029"/>
                  <a:pt x="5424" y="9004"/>
                  <a:pt x="5432" y="8979"/>
                </a:cubicBezTo>
                <a:cubicBezTo>
                  <a:pt x="5483" y="9106"/>
                  <a:pt x="5482" y="9235"/>
                  <a:pt x="5482" y="9376"/>
                </a:cubicBezTo>
              </a:path>
              <a:path w="5632" h="3102">
                <a:moveTo>
                  <a:pt x="5755" y="9029"/>
                </a:moveTo>
                <a:cubicBezTo>
                  <a:pt x="5812" y="9073"/>
                  <a:pt x="5845" y="9043"/>
                  <a:pt x="5904" y="9004"/>
                </a:cubicBezTo>
              </a:path>
              <a:path w="5632" h="3102">
                <a:moveTo>
                  <a:pt x="5680" y="8905"/>
                </a:moveTo>
                <a:lnTo>
                  <a:pt x="5680" y="8905"/>
                </a:lnTo>
                <a:lnTo>
                  <a:pt x="5680" y="8905"/>
                </a:lnTo>
              </a:path>
              <a:path w="5632" h="3102">
                <a:moveTo>
                  <a:pt x="5680" y="8905"/>
                </a:moveTo>
                <a:lnTo>
                  <a:pt x="5680" y="8905"/>
                </a:lnTo>
              </a:path>
              <a:path w="5632" h="3102">
                <a:moveTo>
                  <a:pt x="5854" y="9227"/>
                </a:moveTo>
                <a:cubicBezTo>
                  <a:pt x="5862" y="9227"/>
                  <a:pt x="5871" y="9227"/>
                  <a:pt x="5879" y="9227"/>
                </a:cubicBezTo>
              </a:path>
              <a:path w="5632" h="3102">
                <a:moveTo>
                  <a:pt x="6102" y="8880"/>
                </a:moveTo>
                <a:cubicBezTo>
                  <a:pt x="6044" y="8931"/>
                  <a:pt x="5905" y="9093"/>
                  <a:pt x="6077" y="9079"/>
                </a:cubicBezTo>
                <a:cubicBezTo>
                  <a:pt x="6162" y="9051"/>
                  <a:pt x="6192" y="9033"/>
                  <a:pt x="6201" y="8954"/>
                </a:cubicBezTo>
                <a:cubicBezTo>
                  <a:pt x="6232" y="8924"/>
                  <a:pt x="6261" y="9119"/>
                  <a:pt x="6276" y="9178"/>
                </a:cubicBezTo>
              </a:path>
              <a:path w="5632" h="3102">
                <a:moveTo>
                  <a:pt x="3870" y="8210"/>
                </a:moveTo>
                <a:cubicBezTo>
                  <a:pt x="3870" y="8179"/>
                  <a:pt x="3927" y="8153"/>
                  <a:pt x="3944" y="8111"/>
                </a:cubicBezTo>
              </a:path>
              <a:path w="5632" h="3102">
                <a:moveTo>
                  <a:pt x="3845" y="8384"/>
                </a:moveTo>
                <a:cubicBezTo>
                  <a:pt x="3861" y="8376"/>
                  <a:pt x="3878" y="8367"/>
                  <a:pt x="3894" y="8359"/>
                </a:cubicBezTo>
              </a:path>
              <a:path w="5632" h="3102">
                <a:moveTo>
                  <a:pt x="3870" y="8012"/>
                </a:moveTo>
                <a:cubicBezTo>
                  <a:pt x="3862" y="8012"/>
                  <a:pt x="3853" y="8012"/>
                  <a:pt x="3845" y="8012"/>
                </a:cubicBezTo>
              </a:path>
              <a:path w="5632" h="3102">
                <a:moveTo>
                  <a:pt x="4142" y="7863"/>
                </a:moveTo>
                <a:cubicBezTo>
                  <a:pt x="4029" y="7911"/>
                  <a:pt x="4024" y="7902"/>
                  <a:pt x="3994" y="8012"/>
                </a:cubicBezTo>
                <a:cubicBezTo>
                  <a:pt x="4090" y="8034"/>
                  <a:pt x="4147" y="7819"/>
                  <a:pt x="4217" y="7888"/>
                </a:cubicBezTo>
                <a:cubicBezTo>
                  <a:pt x="4270" y="7940"/>
                  <a:pt x="4226" y="8138"/>
                  <a:pt x="4217" y="8210"/>
                </a:cubicBezTo>
              </a:path>
              <a:path w="5632" h="3102">
                <a:moveTo>
                  <a:pt x="4217" y="7739"/>
                </a:moveTo>
                <a:cubicBezTo>
                  <a:pt x="3889" y="8198"/>
                  <a:pt x="3561" y="8649"/>
                  <a:pt x="3076" y="8954"/>
                </a:cubicBezTo>
                <a:cubicBezTo>
                  <a:pt x="2972" y="8954"/>
                  <a:pt x="2987" y="8910"/>
                  <a:pt x="3150" y="8781"/>
                </a:cubicBezTo>
              </a:path>
              <a:path w="5632" h="3102">
                <a:moveTo>
                  <a:pt x="3051" y="7640"/>
                </a:moveTo>
                <a:cubicBezTo>
                  <a:pt x="3134" y="7533"/>
                  <a:pt x="3170" y="7532"/>
                  <a:pt x="3299" y="7491"/>
                </a:cubicBezTo>
                <a:cubicBezTo>
                  <a:pt x="3364" y="7671"/>
                  <a:pt x="3285" y="7782"/>
                  <a:pt x="3200" y="7962"/>
                </a:cubicBezTo>
                <a:cubicBezTo>
                  <a:pt x="3356" y="7894"/>
                  <a:pt x="3479" y="7810"/>
                  <a:pt x="3621" y="7714"/>
                </a:cubicBezTo>
              </a:path>
              <a:path w="5632" h="3102">
                <a:moveTo>
                  <a:pt x="5011" y="9054"/>
                </a:moveTo>
                <a:cubicBezTo>
                  <a:pt x="5370" y="9025"/>
                  <a:pt x="5720" y="8931"/>
                  <a:pt x="6077" y="8880"/>
                </a:cubicBezTo>
                <a:cubicBezTo>
                  <a:pt x="6293" y="8860"/>
                  <a:pt x="6328" y="8838"/>
                  <a:pt x="6449" y="8880"/>
                </a:cubicBezTo>
              </a:path>
              <a:path w="5632" h="3102">
                <a:moveTo>
                  <a:pt x="5606" y="9599"/>
                </a:moveTo>
                <a:cubicBezTo>
                  <a:pt x="5627" y="9724"/>
                  <a:pt x="5650" y="9841"/>
                  <a:pt x="5655" y="9971"/>
                </a:cubicBezTo>
                <a:cubicBezTo>
                  <a:pt x="5655" y="9979"/>
                  <a:pt x="5655" y="9988"/>
                  <a:pt x="5655" y="9996"/>
                </a:cubicBezTo>
              </a:path>
              <a:path w="5632" h="3102">
                <a:moveTo>
                  <a:pt x="5779" y="7913"/>
                </a:moveTo>
                <a:cubicBezTo>
                  <a:pt x="5845" y="7887"/>
                  <a:pt x="5865" y="7872"/>
                  <a:pt x="5928" y="7863"/>
                </a:cubicBezTo>
              </a:path>
              <a:path w="5632" h="3102">
                <a:moveTo>
                  <a:pt x="5804" y="7764"/>
                </a:moveTo>
                <a:lnTo>
                  <a:pt x="5804" y="7764"/>
                </a:lnTo>
              </a:path>
              <a:path w="5632" h="3102">
                <a:moveTo>
                  <a:pt x="6052" y="7739"/>
                </a:moveTo>
                <a:cubicBezTo>
                  <a:pt x="6015" y="7891"/>
                  <a:pt x="6133" y="7818"/>
                  <a:pt x="6251" y="7863"/>
                </a:cubicBezTo>
                <a:cubicBezTo>
                  <a:pt x="6286" y="7898"/>
                  <a:pt x="6290" y="7920"/>
                  <a:pt x="6251" y="7962"/>
                </a:cubicBezTo>
              </a:path>
              <a:path w="5632" h="3102">
                <a:moveTo>
                  <a:pt x="6052" y="7714"/>
                </a:moveTo>
                <a:cubicBezTo>
                  <a:pt x="6127" y="7714"/>
                  <a:pt x="6163" y="7699"/>
                  <a:pt x="6201" y="7640"/>
                </a:cubicBezTo>
              </a:path>
              <a:path w="5632" h="3102">
                <a:moveTo>
                  <a:pt x="6201" y="7640"/>
                </a:moveTo>
                <a:lnTo>
                  <a:pt x="6201" y="7640"/>
                </a:lnTo>
              </a:path>
              <a:path w="5632" h="3102">
                <a:moveTo>
                  <a:pt x="6176" y="7764"/>
                </a:moveTo>
                <a:cubicBezTo>
                  <a:pt x="6068" y="7853"/>
                  <a:pt x="5135" y="8713"/>
                  <a:pt x="5035" y="8657"/>
                </a:cubicBezTo>
                <a:cubicBezTo>
                  <a:pt x="5082" y="8657"/>
                  <a:pt x="5102" y="8639"/>
                  <a:pt x="5110" y="8582"/>
                </a:cubicBezTo>
              </a:path>
              <a:path w="5632" h="3102">
                <a:moveTo>
                  <a:pt x="4986" y="7541"/>
                </a:moveTo>
                <a:cubicBezTo>
                  <a:pt x="5071" y="7503"/>
                  <a:pt x="5114" y="7497"/>
                  <a:pt x="5209" y="7491"/>
                </a:cubicBezTo>
                <a:cubicBezTo>
                  <a:pt x="5311" y="7618"/>
                  <a:pt x="5196" y="7708"/>
                  <a:pt x="5085" y="7789"/>
                </a:cubicBezTo>
                <a:cubicBezTo>
                  <a:pt x="5052" y="7805"/>
                  <a:pt x="5019" y="7822"/>
                  <a:pt x="4986" y="7838"/>
                </a:cubicBezTo>
                <a:cubicBezTo>
                  <a:pt x="5041" y="7728"/>
                  <a:pt x="5067" y="7724"/>
                  <a:pt x="5184" y="7764"/>
                </a:cubicBezTo>
                <a:cubicBezTo>
                  <a:pt x="5298" y="7803"/>
                  <a:pt x="5318" y="7813"/>
                  <a:pt x="5432" y="7813"/>
                </a:cubicBezTo>
              </a:path>
              <a:path w="5632" h="3102">
                <a:moveTo>
                  <a:pt x="3994" y="9575"/>
                </a:moveTo>
                <a:cubicBezTo>
                  <a:pt x="4046" y="9585"/>
                  <a:pt x="4138" y="9628"/>
                  <a:pt x="4192" y="9599"/>
                </a:cubicBezTo>
                <a:cubicBezTo>
                  <a:pt x="4192" y="9591"/>
                  <a:pt x="4192" y="9583"/>
                  <a:pt x="4192" y="9575"/>
                </a:cubicBezTo>
              </a:path>
              <a:path w="5632" h="3102">
                <a:moveTo>
                  <a:pt x="4118" y="9500"/>
                </a:moveTo>
                <a:lnTo>
                  <a:pt x="4118" y="9500"/>
                </a:lnTo>
                <a:lnTo>
                  <a:pt x="4118" y="9500"/>
                </a:lnTo>
              </a:path>
              <a:path w="5632" h="3102">
                <a:moveTo>
                  <a:pt x="4118" y="9500"/>
                </a:moveTo>
                <a:lnTo>
                  <a:pt x="4118" y="9500"/>
                </a:lnTo>
              </a:path>
              <a:path w="5632" h="3102">
                <a:moveTo>
                  <a:pt x="4093" y="9773"/>
                </a:moveTo>
                <a:lnTo>
                  <a:pt x="4093" y="9773"/>
                </a:lnTo>
              </a:path>
              <a:path w="5632" h="3102">
                <a:moveTo>
                  <a:pt x="4341" y="9525"/>
                </a:moveTo>
                <a:cubicBezTo>
                  <a:pt x="4341" y="9553"/>
                  <a:pt x="4339" y="9564"/>
                  <a:pt x="4316" y="9575"/>
                </a:cubicBezTo>
                <a:cubicBezTo>
                  <a:pt x="4457" y="9628"/>
                  <a:pt x="4558" y="9642"/>
                  <a:pt x="4514" y="9773"/>
                </a:cubicBezTo>
              </a:path>
              <a:path w="5632" h="3102">
                <a:moveTo>
                  <a:pt x="4341" y="9525"/>
                </a:moveTo>
                <a:cubicBezTo>
                  <a:pt x="4466" y="9525"/>
                  <a:pt x="4508" y="9525"/>
                  <a:pt x="4589" y="9500"/>
                </a:cubicBezTo>
              </a:path>
              <a:path w="5632" h="3102">
                <a:moveTo>
                  <a:pt x="3274" y="9525"/>
                </a:moveTo>
                <a:cubicBezTo>
                  <a:pt x="3705" y="9547"/>
                  <a:pt x="4134" y="9566"/>
                  <a:pt x="4564" y="9599"/>
                </a:cubicBezTo>
                <a:cubicBezTo>
                  <a:pt x="4621" y="9599"/>
                  <a:pt x="4663" y="9599"/>
                  <a:pt x="4614" y="9599"/>
                </a:cubicBezTo>
              </a:path>
              <a:path w="5632" h="3102">
                <a:moveTo>
                  <a:pt x="3473" y="10071"/>
                </a:moveTo>
                <a:cubicBezTo>
                  <a:pt x="3412" y="10091"/>
                  <a:pt x="3310" y="10151"/>
                  <a:pt x="3249" y="10220"/>
                </a:cubicBezTo>
                <a:cubicBezTo>
                  <a:pt x="3216" y="10257"/>
                  <a:pt x="3267" y="10379"/>
                  <a:pt x="3274" y="10418"/>
                </a:cubicBezTo>
                <a:cubicBezTo>
                  <a:pt x="3380" y="10382"/>
                  <a:pt x="3545" y="10253"/>
                  <a:pt x="3671" y="10319"/>
                </a:cubicBezTo>
                <a:cubicBezTo>
                  <a:pt x="3688" y="10352"/>
                  <a:pt x="3704" y="10385"/>
                  <a:pt x="3721" y="10418"/>
                </a:cubicBezTo>
                <a:cubicBezTo>
                  <a:pt x="3502" y="10636"/>
                  <a:pt x="3447" y="10613"/>
                  <a:pt x="3249" y="10393"/>
                </a:cubicBezTo>
              </a:path>
              <a:path w="5632" h="3102">
                <a:moveTo>
                  <a:pt x="6524" y="8409"/>
                </a:moveTo>
                <a:cubicBezTo>
                  <a:pt x="6635" y="8350"/>
                  <a:pt x="6675" y="8322"/>
                  <a:pt x="6796" y="8310"/>
                </a:cubicBezTo>
              </a:path>
              <a:path w="5632" h="3102">
                <a:moveTo>
                  <a:pt x="6648" y="8607"/>
                </a:moveTo>
                <a:cubicBezTo>
                  <a:pt x="6714" y="8566"/>
                  <a:pt x="6780" y="8524"/>
                  <a:pt x="6846" y="8483"/>
                </a:cubicBezTo>
              </a:path>
              <a:path w="5632" h="3102">
                <a:moveTo>
                  <a:pt x="6846" y="8483"/>
                </a:moveTo>
                <a:lnTo>
                  <a:pt x="6846" y="8483"/>
                </a:lnTo>
              </a:path>
              <a:path w="5632" h="3102">
                <a:moveTo>
                  <a:pt x="7020" y="7938"/>
                </a:moveTo>
                <a:cubicBezTo>
                  <a:pt x="7020" y="8049"/>
                  <a:pt x="7023" y="8152"/>
                  <a:pt x="7045" y="8260"/>
                </a:cubicBezTo>
                <a:cubicBezTo>
                  <a:pt x="7238" y="8185"/>
                  <a:pt x="7293" y="8117"/>
                  <a:pt x="7441" y="7962"/>
                </a:cubicBezTo>
              </a:path>
              <a:path w="5632" h="3102">
                <a:moveTo>
                  <a:pt x="7441" y="7714"/>
                </a:moveTo>
                <a:cubicBezTo>
                  <a:pt x="7453" y="7991"/>
                  <a:pt x="7485" y="8259"/>
                  <a:pt x="7466" y="8533"/>
                </a:cubicBezTo>
              </a:path>
              <a:path w="5632" h="3102">
                <a:moveTo>
                  <a:pt x="7193" y="8632"/>
                </a:moveTo>
                <a:cubicBezTo>
                  <a:pt x="7341" y="8595"/>
                  <a:pt x="7657" y="8465"/>
                  <a:pt x="7764" y="8508"/>
                </a:cubicBezTo>
              </a:path>
              <a:path w="5632" h="3102">
                <a:moveTo>
                  <a:pt x="7615" y="8731"/>
                </a:moveTo>
                <a:cubicBezTo>
                  <a:pt x="7507" y="8739"/>
                  <a:pt x="7374" y="8734"/>
                  <a:pt x="7317" y="8830"/>
                </a:cubicBezTo>
                <a:cubicBezTo>
                  <a:pt x="7273" y="8905"/>
                  <a:pt x="7283" y="9017"/>
                  <a:pt x="7268" y="9103"/>
                </a:cubicBezTo>
                <a:cubicBezTo>
                  <a:pt x="7433" y="9070"/>
                  <a:pt x="7543" y="9004"/>
                  <a:pt x="7714" y="9004"/>
                </a:cubicBezTo>
                <a:cubicBezTo>
                  <a:pt x="7807" y="9219"/>
                  <a:pt x="7574" y="9351"/>
                  <a:pt x="7317" y="9351"/>
                </a:cubicBezTo>
                <a:cubicBezTo>
                  <a:pt x="7142" y="9308"/>
                  <a:pt x="7084" y="9313"/>
                  <a:pt x="7069" y="9178"/>
                </a:cubicBezTo>
              </a:path>
              <a:path w="5632" h="3102">
                <a:moveTo>
                  <a:pt x="7317" y="9723"/>
                </a:moveTo>
                <a:cubicBezTo>
                  <a:pt x="7824" y="9703"/>
                  <a:pt x="8308" y="9624"/>
                  <a:pt x="8558" y="9103"/>
                </a:cubicBezTo>
                <a:cubicBezTo>
                  <a:pt x="8786" y="8629"/>
                  <a:pt x="8612" y="8111"/>
                  <a:pt x="8062" y="8062"/>
                </a:cubicBezTo>
                <a:cubicBezTo>
                  <a:pt x="7630" y="8024"/>
                  <a:pt x="6891" y="8079"/>
                  <a:pt x="6697" y="8558"/>
                </a:cubicBezTo>
                <a:cubicBezTo>
                  <a:pt x="6459" y="9146"/>
                  <a:pt x="6834" y="9454"/>
                  <a:pt x="7243" y="97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27840" y="2741760"/>
            <a:ext cx="1509480" cy="1357200"/>
          </a:xfrm>
          <a:custGeom>
            <a:avLst/>
            <a:gdLst/>
            <a:ahLst/>
            <a:rect l="l" t="t" r="r" b="b"/>
            <a:pathLst>
              <a:path w="4193" h="3771">
                <a:moveTo>
                  <a:pt x="17066" y="8558"/>
                </a:moveTo>
                <a:cubicBezTo>
                  <a:pt x="17253" y="8545"/>
                  <a:pt x="17263" y="8585"/>
                  <a:pt x="17413" y="8706"/>
                </a:cubicBezTo>
                <a:cubicBezTo>
                  <a:pt x="17309" y="8885"/>
                  <a:pt x="17246" y="8990"/>
                  <a:pt x="17041" y="8905"/>
                </a:cubicBezTo>
                <a:cubicBezTo>
                  <a:pt x="17109" y="8717"/>
                  <a:pt x="17230" y="8807"/>
                  <a:pt x="17413" y="8830"/>
                </a:cubicBezTo>
                <a:cubicBezTo>
                  <a:pt x="17429" y="8830"/>
                  <a:pt x="17446" y="8830"/>
                  <a:pt x="17462" y="8830"/>
                </a:cubicBezTo>
              </a:path>
              <a:path w="4193" h="3771">
                <a:moveTo>
                  <a:pt x="17512" y="8458"/>
                </a:moveTo>
                <a:cubicBezTo>
                  <a:pt x="17592" y="8564"/>
                  <a:pt x="17664" y="8669"/>
                  <a:pt x="17735" y="8781"/>
                </a:cubicBezTo>
              </a:path>
              <a:path w="4193" h="3771">
                <a:moveTo>
                  <a:pt x="17140" y="9128"/>
                </a:moveTo>
                <a:cubicBezTo>
                  <a:pt x="17414" y="9056"/>
                  <a:pt x="17675" y="8996"/>
                  <a:pt x="17959" y="8979"/>
                </a:cubicBezTo>
              </a:path>
              <a:path w="4193" h="3771">
                <a:moveTo>
                  <a:pt x="17289" y="9376"/>
                </a:moveTo>
                <a:cubicBezTo>
                  <a:pt x="17422" y="9360"/>
                  <a:pt x="17734" y="9363"/>
                  <a:pt x="17611" y="9599"/>
                </a:cubicBezTo>
                <a:cubicBezTo>
                  <a:pt x="17493" y="9717"/>
                  <a:pt x="17459" y="9757"/>
                  <a:pt x="17338" y="9748"/>
                </a:cubicBezTo>
                <a:cubicBezTo>
                  <a:pt x="17330" y="9732"/>
                  <a:pt x="17322" y="9715"/>
                  <a:pt x="17314" y="9699"/>
                </a:cubicBezTo>
                <a:cubicBezTo>
                  <a:pt x="17415" y="9580"/>
                  <a:pt x="17527" y="9474"/>
                  <a:pt x="17661" y="9649"/>
                </a:cubicBezTo>
                <a:cubicBezTo>
                  <a:pt x="17661" y="9657"/>
                  <a:pt x="17661" y="9666"/>
                  <a:pt x="17661" y="9674"/>
                </a:cubicBezTo>
              </a:path>
              <a:path w="4193" h="3771">
                <a:moveTo>
                  <a:pt x="17884" y="9203"/>
                </a:moveTo>
                <a:cubicBezTo>
                  <a:pt x="17629" y="9398"/>
                  <a:pt x="17747" y="9371"/>
                  <a:pt x="17959" y="9525"/>
                </a:cubicBezTo>
                <a:cubicBezTo>
                  <a:pt x="18033" y="9599"/>
                  <a:pt x="18058" y="9624"/>
                  <a:pt x="17959" y="9674"/>
                </a:cubicBezTo>
                <a:cubicBezTo>
                  <a:pt x="17700" y="9601"/>
                  <a:pt x="17871" y="9465"/>
                  <a:pt x="18008" y="9302"/>
                </a:cubicBezTo>
              </a:path>
              <a:path w="4193" h="3771">
                <a:moveTo>
                  <a:pt x="18579" y="8905"/>
                </a:moveTo>
                <a:cubicBezTo>
                  <a:pt x="18703" y="9029"/>
                  <a:pt x="18827" y="9153"/>
                  <a:pt x="18951" y="9277"/>
                </a:cubicBezTo>
              </a:path>
              <a:path w="4193" h="3771">
                <a:moveTo>
                  <a:pt x="18802" y="8905"/>
                </a:moveTo>
                <a:cubicBezTo>
                  <a:pt x="18779" y="9057"/>
                  <a:pt x="18759" y="9158"/>
                  <a:pt x="18728" y="9302"/>
                </a:cubicBezTo>
              </a:path>
              <a:path w="4193" h="3771">
                <a:moveTo>
                  <a:pt x="19298" y="8508"/>
                </a:moveTo>
                <a:cubicBezTo>
                  <a:pt x="19303" y="8587"/>
                  <a:pt x="19312" y="8653"/>
                  <a:pt x="19323" y="8731"/>
                </a:cubicBezTo>
              </a:path>
              <a:path w="4193" h="3771">
                <a:moveTo>
                  <a:pt x="19496" y="8434"/>
                </a:moveTo>
                <a:cubicBezTo>
                  <a:pt x="19646" y="8483"/>
                  <a:pt x="19696" y="8500"/>
                  <a:pt x="19769" y="8582"/>
                </a:cubicBezTo>
                <a:cubicBezTo>
                  <a:pt x="19683" y="8731"/>
                  <a:pt x="19626" y="8766"/>
                  <a:pt x="19472" y="8682"/>
                </a:cubicBezTo>
                <a:cubicBezTo>
                  <a:pt x="19605" y="8633"/>
                  <a:pt x="19640" y="8644"/>
                  <a:pt x="19769" y="8682"/>
                </a:cubicBezTo>
              </a:path>
              <a:path w="4193" h="3771">
                <a:moveTo>
                  <a:pt x="19224" y="9004"/>
                </a:moveTo>
                <a:cubicBezTo>
                  <a:pt x="19474" y="8962"/>
                  <a:pt x="19716" y="8922"/>
                  <a:pt x="19968" y="8905"/>
                </a:cubicBezTo>
              </a:path>
              <a:path w="4193" h="3771">
                <a:moveTo>
                  <a:pt x="19745" y="9227"/>
                </a:moveTo>
                <a:cubicBezTo>
                  <a:pt x="19583" y="9227"/>
                  <a:pt x="19560" y="9298"/>
                  <a:pt x="19496" y="9426"/>
                </a:cubicBezTo>
                <a:cubicBezTo>
                  <a:pt x="19675" y="9454"/>
                  <a:pt x="19720" y="9410"/>
                  <a:pt x="19794" y="9252"/>
                </a:cubicBezTo>
                <a:cubicBezTo>
                  <a:pt x="19794" y="9347"/>
                  <a:pt x="19832" y="9432"/>
                  <a:pt x="19844" y="9525"/>
                </a:cubicBezTo>
                <a:cubicBezTo>
                  <a:pt x="19844" y="9550"/>
                  <a:pt x="19844" y="9574"/>
                  <a:pt x="19844" y="9599"/>
                </a:cubicBezTo>
              </a:path>
              <a:path w="4193" h="3771">
                <a:moveTo>
                  <a:pt x="20067" y="9475"/>
                </a:moveTo>
                <a:cubicBezTo>
                  <a:pt x="20135" y="9496"/>
                  <a:pt x="20191" y="9500"/>
                  <a:pt x="20265" y="9500"/>
                </a:cubicBezTo>
              </a:path>
              <a:path w="4193" h="3771">
                <a:moveTo>
                  <a:pt x="20092" y="9277"/>
                </a:moveTo>
                <a:lnTo>
                  <a:pt x="20092" y="9277"/>
                </a:lnTo>
              </a:path>
              <a:path w="4193" h="3771">
                <a:moveTo>
                  <a:pt x="20191" y="9674"/>
                </a:moveTo>
                <a:lnTo>
                  <a:pt x="20191" y="9674"/>
                </a:lnTo>
              </a:path>
              <a:path w="4193" h="3771">
                <a:moveTo>
                  <a:pt x="20191" y="9674"/>
                </a:moveTo>
                <a:lnTo>
                  <a:pt x="20191" y="9674"/>
                </a:lnTo>
              </a:path>
              <a:path w="4193" h="3771">
                <a:moveTo>
                  <a:pt x="20439" y="9475"/>
                </a:moveTo>
                <a:cubicBezTo>
                  <a:pt x="20477" y="9468"/>
                  <a:pt x="20630" y="9401"/>
                  <a:pt x="20638" y="9475"/>
                </a:cubicBezTo>
                <a:cubicBezTo>
                  <a:pt x="20646" y="9542"/>
                  <a:pt x="20578" y="9585"/>
                  <a:pt x="20538" y="9624"/>
                </a:cubicBezTo>
                <a:cubicBezTo>
                  <a:pt x="20620" y="9583"/>
                  <a:pt x="20614" y="9600"/>
                  <a:pt x="20687" y="9649"/>
                </a:cubicBezTo>
                <a:cubicBezTo>
                  <a:pt x="20636" y="9871"/>
                  <a:pt x="20566" y="9829"/>
                  <a:pt x="20365" y="9773"/>
                </a:cubicBezTo>
              </a:path>
              <a:path w="4193" h="3771">
                <a:moveTo>
                  <a:pt x="17711" y="8533"/>
                </a:moveTo>
                <a:cubicBezTo>
                  <a:pt x="17818" y="8533"/>
                  <a:pt x="17926" y="8533"/>
                  <a:pt x="18033" y="8533"/>
                </a:cubicBezTo>
              </a:path>
              <a:path w="4193" h="3771">
                <a:moveTo>
                  <a:pt x="17711" y="8210"/>
                </a:moveTo>
                <a:cubicBezTo>
                  <a:pt x="17711" y="8280"/>
                  <a:pt x="17739" y="8323"/>
                  <a:pt x="17810" y="8359"/>
                </a:cubicBezTo>
              </a:path>
              <a:path w="4193" h="3771">
                <a:moveTo>
                  <a:pt x="17909" y="8607"/>
                </a:moveTo>
                <a:lnTo>
                  <a:pt x="17909" y="8607"/>
                </a:lnTo>
                <a:lnTo>
                  <a:pt x="17909" y="8607"/>
                </a:lnTo>
              </a:path>
              <a:path w="4193" h="3771">
                <a:moveTo>
                  <a:pt x="17909" y="8607"/>
                </a:moveTo>
                <a:lnTo>
                  <a:pt x="17909" y="8607"/>
                </a:lnTo>
              </a:path>
              <a:path w="4193" h="3771">
                <a:moveTo>
                  <a:pt x="18033" y="8210"/>
                </a:moveTo>
                <a:cubicBezTo>
                  <a:pt x="18094" y="8183"/>
                  <a:pt x="18141" y="8168"/>
                  <a:pt x="18207" y="8161"/>
                </a:cubicBezTo>
                <a:cubicBezTo>
                  <a:pt x="18136" y="8315"/>
                  <a:pt x="18091" y="8263"/>
                  <a:pt x="18231" y="8310"/>
                </a:cubicBezTo>
                <a:cubicBezTo>
                  <a:pt x="18596" y="8434"/>
                  <a:pt x="18021" y="8570"/>
                  <a:pt x="17959" y="8582"/>
                </a:cubicBezTo>
              </a:path>
              <a:path w="4193" h="3771">
                <a:moveTo>
                  <a:pt x="18256" y="8161"/>
                </a:moveTo>
                <a:cubicBezTo>
                  <a:pt x="17794" y="8458"/>
                  <a:pt x="16881" y="9552"/>
                  <a:pt x="16842" y="9004"/>
                </a:cubicBezTo>
                <a:cubicBezTo>
                  <a:pt x="16908" y="8946"/>
                  <a:pt x="16975" y="8888"/>
                  <a:pt x="17041" y="8830"/>
                </a:cubicBezTo>
              </a:path>
              <a:path w="4193" h="3771">
                <a:moveTo>
                  <a:pt x="16743" y="8086"/>
                </a:moveTo>
                <a:cubicBezTo>
                  <a:pt x="16873" y="8052"/>
                  <a:pt x="17021" y="8011"/>
                  <a:pt x="17140" y="8037"/>
                </a:cubicBezTo>
                <a:cubicBezTo>
                  <a:pt x="17124" y="8088"/>
                  <a:pt x="16965" y="8533"/>
                  <a:pt x="16966" y="8533"/>
                </a:cubicBezTo>
                <a:cubicBezTo>
                  <a:pt x="17007" y="8525"/>
                  <a:pt x="17049" y="8516"/>
                  <a:pt x="17090" y="8508"/>
                </a:cubicBezTo>
              </a:path>
              <a:path w="4193" h="3771">
                <a:moveTo>
                  <a:pt x="19496" y="9302"/>
                </a:moveTo>
                <a:cubicBezTo>
                  <a:pt x="19749" y="9334"/>
                  <a:pt x="19990" y="9377"/>
                  <a:pt x="20241" y="9426"/>
                </a:cubicBezTo>
                <a:cubicBezTo>
                  <a:pt x="20408" y="9458"/>
                  <a:pt x="20605" y="9448"/>
                  <a:pt x="20588" y="9500"/>
                </a:cubicBezTo>
              </a:path>
              <a:path w="4193" h="3771">
                <a:moveTo>
                  <a:pt x="19596" y="10021"/>
                </a:moveTo>
                <a:cubicBezTo>
                  <a:pt x="19810" y="9999"/>
                  <a:pt x="19890" y="9966"/>
                  <a:pt x="19745" y="10145"/>
                </a:cubicBezTo>
                <a:cubicBezTo>
                  <a:pt x="19737" y="10162"/>
                  <a:pt x="19728" y="10178"/>
                  <a:pt x="19720" y="10195"/>
                </a:cubicBezTo>
                <a:cubicBezTo>
                  <a:pt x="19828" y="10195"/>
                  <a:pt x="19870" y="10197"/>
                  <a:pt x="19943" y="10220"/>
                </a:cubicBezTo>
                <a:cubicBezTo>
                  <a:pt x="19924" y="10470"/>
                  <a:pt x="19773" y="10406"/>
                  <a:pt x="19571" y="10344"/>
                </a:cubicBezTo>
              </a:path>
              <a:path w="4193" h="3771">
                <a:moveTo>
                  <a:pt x="19918" y="8434"/>
                </a:moveTo>
                <a:cubicBezTo>
                  <a:pt x="19991" y="8434"/>
                  <a:pt x="20050" y="8411"/>
                  <a:pt x="20117" y="8384"/>
                </a:cubicBezTo>
              </a:path>
              <a:path w="4193" h="3771">
                <a:moveTo>
                  <a:pt x="19918" y="8285"/>
                </a:moveTo>
                <a:lnTo>
                  <a:pt x="19918" y="8285"/>
                </a:lnTo>
              </a:path>
              <a:path w="4193" h="3771">
                <a:moveTo>
                  <a:pt x="19993" y="8607"/>
                </a:moveTo>
                <a:cubicBezTo>
                  <a:pt x="20001" y="8607"/>
                  <a:pt x="20009" y="8607"/>
                  <a:pt x="20017" y="8607"/>
                </a:cubicBezTo>
              </a:path>
              <a:path w="4193" h="3771">
                <a:moveTo>
                  <a:pt x="20340" y="8186"/>
                </a:moveTo>
                <a:cubicBezTo>
                  <a:pt x="20419" y="8171"/>
                  <a:pt x="20488" y="8145"/>
                  <a:pt x="20563" y="8111"/>
                </a:cubicBezTo>
                <a:cubicBezTo>
                  <a:pt x="20521" y="8210"/>
                  <a:pt x="20450" y="8292"/>
                  <a:pt x="20365" y="8359"/>
                </a:cubicBezTo>
                <a:cubicBezTo>
                  <a:pt x="20471" y="8405"/>
                  <a:pt x="20496" y="8371"/>
                  <a:pt x="20613" y="8334"/>
                </a:cubicBezTo>
              </a:path>
              <a:path w="4193" h="3771">
                <a:moveTo>
                  <a:pt x="18132" y="9748"/>
                </a:moveTo>
                <a:cubicBezTo>
                  <a:pt x="18158" y="9769"/>
                  <a:pt x="18255" y="9862"/>
                  <a:pt x="18281" y="9847"/>
                </a:cubicBezTo>
                <a:cubicBezTo>
                  <a:pt x="18281" y="9839"/>
                  <a:pt x="18281" y="9831"/>
                  <a:pt x="18281" y="9823"/>
                </a:cubicBezTo>
              </a:path>
              <a:path w="4193" h="3771">
                <a:moveTo>
                  <a:pt x="18207" y="9575"/>
                </a:moveTo>
                <a:cubicBezTo>
                  <a:pt x="18207" y="9583"/>
                  <a:pt x="18207" y="9591"/>
                  <a:pt x="18207" y="9599"/>
                </a:cubicBezTo>
              </a:path>
              <a:path w="4193" h="3771">
                <a:moveTo>
                  <a:pt x="18157" y="9996"/>
                </a:moveTo>
                <a:cubicBezTo>
                  <a:pt x="18174" y="9996"/>
                  <a:pt x="18190" y="9996"/>
                  <a:pt x="18207" y="9996"/>
                </a:cubicBezTo>
              </a:path>
              <a:path w="4193" h="3771">
                <a:moveTo>
                  <a:pt x="18207" y="9996"/>
                </a:moveTo>
                <a:lnTo>
                  <a:pt x="18207" y="9996"/>
                </a:lnTo>
              </a:path>
              <a:path w="4193" h="3771">
                <a:moveTo>
                  <a:pt x="18504" y="9798"/>
                </a:moveTo>
                <a:cubicBezTo>
                  <a:pt x="18588" y="9777"/>
                  <a:pt x="18608" y="9761"/>
                  <a:pt x="18653" y="9798"/>
                </a:cubicBezTo>
                <a:cubicBezTo>
                  <a:pt x="18595" y="9895"/>
                  <a:pt x="18528" y="9984"/>
                  <a:pt x="18455" y="10071"/>
                </a:cubicBezTo>
                <a:cubicBezTo>
                  <a:pt x="18593" y="10109"/>
                  <a:pt x="18682" y="10109"/>
                  <a:pt x="18752" y="9996"/>
                </a:cubicBezTo>
              </a:path>
              <a:path w="4193" h="3771">
                <a:moveTo>
                  <a:pt x="19348" y="8682"/>
                </a:moveTo>
                <a:cubicBezTo>
                  <a:pt x="19833" y="8533"/>
                  <a:pt x="20297" y="8361"/>
                  <a:pt x="20762" y="8161"/>
                </a:cubicBezTo>
                <a:cubicBezTo>
                  <a:pt x="20885" y="8108"/>
                  <a:pt x="20942" y="8138"/>
                  <a:pt x="20935" y="8062"/>
                </a:cubicBezTo>
              </a:path>
              <a:path w="4193" h="3771">
                <a:moveTo>
                  <a:pt x="19298" y="7987"/>
                </a:moveTo>
                <a:cubicBezTo>
                  <a:pt x="19298" y="8086"/>
                  <a:pt x="19247" y="8187"/>
                  <a:pt x="19273" y="8285"/>
                </a:cubicBezTo>
                <a:cubicBezTo>
                  <a:pt x="19325" y="8479"/>
                  <a:pt x="19567" y="8301"/>
                  <a:pt x="19621" y="8210"/>
                </a:cubicBezTo>
                <a:cubicBezTo>
                  <a:pt x="19621" y="8194"/>
                  <a:pt x="19621" y="8177"/>
                  <a:pt x="19621" y="8161"/>
                </a:cubicBezTo>
                <a:cubicBezTo>
                  <a:pt x="19506" y="8199"/>
                  <a:pt x="19470" y="8240"/>
                  <a:pt x="19496" y="8359"/>
                </a:cubicBezTo>
              </a:path>
              <a:path w="4193" h="3771">
                <a:moveTo>
                  <a:pt x="17264" y="9699"/>
                </a:moveTo>
                <a:cubicBezTo>
                  <a:pt x="17503" y="9619"/>
                  <a:pt x="17863" y="9748"/>
                  <a:pt x="18107" y="9798"/>
                </a:cubicBezTo>
                <a:cubicBezTo>
                  <a:pt x="18315" y="9840"/>
                  <a:pt x="18572" y="9859"/>
                  <a:pt x="18777" y="9922"/>
                </a:cubicBezTo>
                <a:cubicBezTo>
                  <a:pt x="18761" y="9922"/>
                  <a:pt x="18744" y="9922"/>
                  <a:pt x="18728" y="9922"/>
                </a:cubicBezTo>
              </a:path>
              <a:path w="4193" h="3771">
                <a:moveTo>
                  <a:pt x="17239" y="10319"/>
                </a:moveTo>
                <a:cubicBezTo>
                  <a:pt x="17239" y="10278"/>
                  <a:pt x="17198" y="10575"/>
                  <a:pt x="17190" y="10616"/>
                </a:cubicBezTo>
                <a:cubicBezTo>
                  <a:pt x="17167" y="10739"/>
                  <a:pt x="17125" y="10830"/>
                  <a:pt x="17214" y="10666"/>
                </a:cubicBezTo>
              </a:path>
              <a:path w="4193" h="3771">
                <a:moveTo>
                  <a:pt x="17438" y="10344"/>
                </a:moveTo>
                <a:cubicBezTo>
                  <a:pt x="17458" y="10426"/>
                  <a:pt x="17466" y="10441"/>
                  <a:pt x="17462" y="10492"/>
                </a:cubicBezTo>
                <a:cubicBezTo>
                  <a:pt x="17599" y="10520"/>
                  <a:pt x="17705" y="10454"/>
                  <a:pt x="17835" y="10393"/>
                </a:cubicBezTo>
              </a:path>
              <a:path w="4193" h="3771">
                <a:moveTo>
                  <a:pt x="17711" y="10170"/>
                </a:moveTo>
                <a:cubicBezTo>
                  <a:pt x="17685" y="10313"/>
                  <a:pt x="17738" y="10696"/>
                  <a:pt x="17636" y="10592"/>
                </a:cubicBezTo>
                <a:cubicBezTo>
                  <a:pt x="17636" y="10575"/>
                  <a:pt x="17636" y="10559"/>
                  <a:pt x="17636" y="10542"/>
                </a:cubicBezTo>
              </a:path>
              <a:path w="4193" h="3771">
                <a:moveTo>
                  <a:pt x="19670" y="7938"/>
                </a:moveTo>
                <a:cubicBezTo>
                  <a:pt x="19742" y="7917"/>
                  <a:pt x="19819" y="7886"/>
                  <a:pt x="19893" y="7863"/>
                </a:cubicBezTo>
              </a:path>
              <a:path w="4193" h="3771">
                <a:moveTo>
                  <a:pt x="19695" y="7813"/>
                </a:moveTo>
                <a:cubicBezTo>
                  <a:pt x="19695" y="7821"/>
                  <a:pt x="19695" y="7830"/>
                  <a:pt x="19695" y="7838"/>
                </a:cubicBezTo>
              </a:path>
              <a:path w="4193" h="3771">
                <a:moveTo>
                  <a:pt x="19869" y="8186"/>
                </a:moveTo>
                <a:cubicBezTo>
                  <a:pt x="19869" y="8178"/>
                  <a:pt x="19869" y="8169"/>
                  <a:pt x="19869" y="8161"/>
                </a:cubicBezTo>
              </a:path>
              <a:path w="4193" h="3771">
                <a:moveTo>
                  <a:pt x="19869" y="8161"/>
                </a:moveTo>
                <a:lnTo>
                  <a:pt x="19869" y="8161"/>
                </a:lnTo>
              </a:path>
              <a:path w="4193" h="3771">
                <a:moveTo>
                  <a:pt x="20042" y="7640"/>
                </a:moveTo>
                <a:cubicBezTo>
                  <a:pt x="20100" y="7632"/>
                  <a:pt x="20157" y="7621"/>
                  <a:pt x="20216" y="7615"/>
                </a:cubicBezTo>
                <a:cubicBezTo>
                  <a:pt x="20208" y="7738"/>
                  <a:pt x="20177" y="7830"/>
                  <a:pt x="20141" y="7938"/>
                </a:cubicBezTo>
                <a:cubicBezTo>
                  <a:pt x="20247" y="7910"/>
                  <a:pt x="20301" y="7902"/>
                  <a:pt x="20389" y="7838"/>
                </a:cubicBezTo>
              </a:path>
              <a:path w="4193" h="3771">
                <a:moveTo>
                  <a:pt x="18008" y="10492"/>
                </a:moveTo>
                <a:cubicBezTo>
                  <a:pt x="18045" y="10474"/>
                  <a:pt x="18167" y="10528"/>
                  <a:pt x="18207" y="10468"/>
                </a:cubicBezTo>
                <a:cubicBezTo>
                  <a:pt x="18207" y="10443"/>
                  <a:pt x="18207" y="10418"/>
                  <a:pt x="18207" y="10393"/>
                </a:cubicBezTo>
              </a:path>
              <a:path w="4193" h="3771">
                <a:moveTo>
                  <a:pt x="18107" y="10368"/>
                </a:moveTo>
                <a:cubicBezTo>
                  <a:pt x="18099" y="10401"/>
                  <a:pt x="18091" y="10435"/>
                  <a:pt x="18083" y="10468"/>
                </a:cubicBezTo>
              </a:path>
              <a:path w="4193" h="3771">
                <a:moveTo>
                  <a:pt x="18455" y="10443"/>
                </a:moveTo>
                <a:cubicBezTo>
                  <a:pt x="18518" y="10485"/>
                  <a:pt x="18552" y="10486"/>
                  <a:pt x="18628" y="10492"/>
                </a:cubicBezTo>
                <a:cubicBezTo>
                  <a:pt x="18580" y="10589"/>
                  <a:pt x="18476" y="10636"/>
                  <a:pt x="18405" y="10716"/>
                </a:cubicBezTo>
                <a:cubicBezTo>
                  <a:pt x="18563" y="10733"/>
                  <a:pt x="18675" y="10710"/>
                  <a:pt x="18827" y="10666"/>
                </a:cubicBezTo>
              </a:path>
              <a:path w="4193" h="3771">
                <a:moveTo>
                  <a:pt x="16842" y="10492"/>
                </a:moveTo>
                <a:cubicBezTo>
                  <a:pt x="17177" y="10399"/>
                  <a:pt x="17565" y="10471"/>
                  <a:pt x="17909" y="10492"/>
                </a:cubicBezTo>
                <a:cubicBezTo>
                  <a:pt x="17981" y="10496"/>
                  <a:pt x="18625" y="10474"/>
                  <a:pt x="18604" y="10567"/>
                </a:cubicBezTo>
              </a:path>
              <a:path w="4193" h="3771">
                <a:moveTo>
                  <a:pt x="17587" y="11038"/>
                </a:moveTo>
                <a:cubicBezTo>
                  <a:pt x="17677" y="11020"/>
                  <a:pt x="17973" y="10910"/>
                  <a:pt x="18058" y="11013"/>
                </a:cubicBezTo>
                <a:cubicBezTo>
                  <a:pt x="18115" y="11083"/>
                  <a:pt x="17976" y="11317"/>
                  <a:pt x="17959" y="113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73920" y="2581200"/>
            <a:ext cx="554040" cy="320760"/>
          </a:xfrm>
          <a:custGeom>
            <a:avLst/>
            <a:gdLst/>
            <a:ahLst/>
            <a:rect l="l" t="t" r="r" b="b"/>
            <a:pathLst>
              <a:path w="1539" h="894">
                <a:moveTo>
                  <a:pt x="19372" y="8062"/>
                </a:moveTo>
                <a:cubicBezTo>
                  <a:pt x="19781" y="7987"/>
                  <a:pt x="20125" y="7832"/>
                  <a:pt x="20513" y="7689"/>
                </a:cubicBezTo>
                <a:cubicBezTo>
                  <a:pt x="20521" y="7689"/>
                  <a:pt x="20530" y="7689"/>
                  <a:pt x="20538" y="7689"/>
                </a:cubicBezTo>
              </a:path>
              <a:path w="1539" h="894">
                <a:moveTo>
                  <a:pt x="20563" y="7243"/>
                </a:moveTo>
                <a:cubicBezTo>
                  <a:pt x="20646" y="7201"/>
                  <a:pt x="20670" y="7167"/>
                  <a:pt x="20737" y="7193"/>
                </a:cubicBezTo>
                <a:cubicBezTo>
                  <a:pt x="20567" y="7477"/>
                  <a:pt x="20631" y="7259"/>
                  <a:pt x="20836" y="7367"/>
                </a:cubicBezTo>
                <a:cubicBezTo>
                  <a:pt x="21116" y="7514"/>
                  <a:pt x="20646" y="7602"/>
                  <a:pt x="20563" y="75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97880" y="2724120"/>
            <a:ext cx="1179360" cy="598680"/>
          </a:xfrm>
          <a:custGeom>
            <a:avLst/>
            <a:gdLst/>
            <a:ahLst/>
            <a:rect l="l" t="t" r="r" b="b"/>
            <a:pathLst>
              <a:path w="3275" h="1663">
                <a:moveTo>
                  <a:pt x="21382" y="8260"/>
                </a:moveTo>
                <a:cubicBezTo>
                  <a:pt x="21532" y="8218"/>
                  <a:pt x="21627" y="8192"/>
                  <a:pt x="21779" y="8210"/>
                </a:cubicBezTo>
              </a:path>
              <a:path w="3275" h="1663">
                <a:moveTo>
                  <a:pt x="21506" y="8384"/>
                </a:moveTo>
                <a:cubicBezTo>
                  <a:pt x="21572" y="8367"/>
                  <a:pt x="21638" y="8351"/>
                  <a:pt x="21704" y="8334"/>
                </a:cubicBezTo>
              </a:path>
              <a:path w="3275" h="1663">
                <a:moveTo>
                  <a:pt x="21704" y="8334"/>
                </a:moveTo>
                <a:lnTo>
                  <a:pt x="21704" y="8334"/>
                </a:lnTo>
              </a:path>
              <a:path w="3275" h="1663">
                <a:moveTo>
                  <a:pt x="22349" y="7590"/>
                </a:moveTo>
                <a:cubicBezTo>
                  <a:pt x="22518" y="7639"/>
                  <a:pt x="22849" y="7750"/>
                  <a:pt x="22572" y="7962"/>
                </a:cubicBezTo>
                <a:cubicBezTo>
                  <a:pt x="22433" y="8068"/>
                  <a:pt x="22327" y="8053"/>
                  <a:pt x="22250" y="7962"/>
                </a:cubicBezTo>
                <a:cubicBezTo>
                  <a:pt x="22420" y="7892"/>
                  <a:pt x="22442" y="7904"/>
                  <a:pt x="22597" y="8037"/>
                </a:cubicBezTo>
              </a:path>
              <a:path w="3275" h="1663">
                <a:moveTo>
                  <a:pt x="22845" y="7565"/>
                </a:moveTo>
                <a:cubicBezTo>
                  <a:pt x="22864" y="7787"/>
                  <a:pt x="22869" y="7924"/>
                  <a:pt x="22820" y="8136"/>
                </a:cubicBezTo>
              </a:path>
              <a:path w="3275" h="1663">
                <a:moveTo>
                  <a:pt x="22275" y="8434"/>
                </a:moveTo>
                <a:cubicBezTo>
                  <a:pt x="22495" y="8386"/>
                  <a:pt x="22697" y="8348"/>
                  <a:pt x="22920" y="8334"/>
                </a:cubicBezTo>
              </a:path>
              <a:path w="3275" h="1663">
                <a:moveTo>
                  <a:pt x="22225" y="8830"/>
                </a:moveTo>
                <a:cubicBezTo>
                  <a:pt x="22388" y="8787"/>
                  <a:pt x="22364" y="8810"/>
                  <a:pt x="22498" y="8905"/>
                </a:cubicBezTo>
                <a:cubicBezTo>
                  <a:pt x="22435" y="9145"/>
                  <a:pt x="22345" y="9175"/>
                  <a:pt x="22101" y="9128"/>
                </a:cubicBezTo>
                <a:cubicBezTo>
                  <a:pt x="22215" y="8969"/>
                  <a:pt x="22292" y="8960"/>
                  <a:pt x="22498" y="9029"/>
                </a:cubicBezTo>
              </a:path>
              <a:path w="3275" h="1663">
                <a:moveTo>
                  <a:pt x="22746" y="8582"/>
                </a:moveTo>
                <a:cubicBezTo>
                  <a:pt x="22762" y="8716"/>
                  <a:pt x="22802" y="8846"/>
                  <a:pt x="22820" y="8979"/>
                </a:cubicBezTo>
              </a:path>
              <a:path w="3275" h="1663">
                <a:moveTo>
                  <a:pt x="23292" y="8483"/>
                </a:moveTo>
                <a:cubicBezTo>
                  <a:pt x="23399" y="8461"/>
                  <a:pt x="23423" y="8453"/>
                  <a:pt x="23490" y="8458"/>
                </a:cubicBezTo>
              </a:path>
              <a:path w="3275" h="1663">
                <a:moveTo>
                  <a:pt x="23242" y="8756"/>
                </a:moveTo>
                <a:cubicBezTo>
                  <a:pt x="23316" y="8731"/>
                  <a:pt x="23391" y="8707"/>
                  <a:pt x="23465" y="8682"/>
                </a:cubicBezTo>
              </a:path>
              <a:path w="3275" h="1663">
                <a:moveTo>
                  <a:pt x="23465" y="8682"/>
                </a:moveTo>
                <a:lnTo>
                  <a:pt x="23465" y="8682"/>
                </a:lnTo>
              </a:path>
              <a:path w="3275" h="1663">
                <a:moveTo>
                  <a:pt x="23961" y="8086"/>
                </a:moveTo>
                <a:cubicBezTo>
                  <a:pt x="23992" y="8300"/>
                  <a:pt x="23966" y="8515"/>
                  <a:pt x="23986" y="8731"/>
                </a:cubicBezTo>
                <a:cubicBezTo>
                  <a:pt x="23994" y="8756"/>
                  <a:pt x="24003" y="8781"/>
                  <a:pt x="24011" y="8806"/>
                </a:cubicBezTo>
              </a:path>
              <a:path w="3275" h="1663">
                <a:moveTo>
                  <a:pt x="23688" y="9054"/>
                </a:moveTo>
                <a:cubicBezTo>
                  <a:pt x="23943" y="9214"/>
                  <a:pt x="24169" y="9336"/>
                  <a:pt x="24408" y="9054"/>
                </a:cubicBezTo>
                <a:cubicBezTo>
                  <a:pt x="24718" y="8689"/>
                  <a:pt x="24772" y="8214"/>
                  <a:pt x="24333" y="7938"/>
                </a:cubicBezTo>
                <a:cubicBezTo>
                  <a:pt x="23865" y="7643"/>
                  <a:pt x="23172" y="7787"/>
                  <a:pt x="23242" y="8458"/>
                </a:cubicBezTo>
                <a:cubicBezTo>
                  <a:pt x="23405" y="8853"/>
                  <a:pt x="23441" y="8974"/>
                  <a:pt x="23688" y="9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27280" y="5160960"/>
            <a:ext cx="1884600" cy="955800"/>
          </a:xfrm>
          <a:custGeom>
            <a:avLst/>
            <a:gdLst/>
            <a:ahLst/>
            <a:rect l="l" t="t" r="r" b="b"/>
            <a:pathLst>
              <a:path w="5235" h="2655">
                <a:moveTo>
                  <a:pt x="10815" y="14684"/>
                </a:moveTo>
                <a:cubicBezTo>
                  <a:pt x="10805" y="14922"/>
                  <a:pt x="10749" y="15056"/>
                  <a:pt x="10889" y="15230"/>
                </a:cubicBezTo>
                <a:cubicBezTo>
                  <a:pt x="11093" y="15136"/>
                  <a:pt x="11229" y="15097"/>
                  <a:pt x="11212" y="14858"/>
                </a:cubicBezTo>
                <a:cubicBezTo>
                  <a:pt x="11082" y="14987"/>
                  <a:pt x="11047" y="15028"/>
                  <a:pt x="11038" y="15205"/>
                </a:cubicBezTo>
              </a:path>
              <a:path w="5235" h="2655">
                <a:moveTo>
                  <a:pt x="10716" y="15478"/>
                </a:moveTo>
                <a:cubicBezTo>
                  <a:pt x="11008" y="15379"/>
                  <a:pt x="11332" y="15195"/>
                  <a:pt x="11584" y="15304"/>
                </a:cubicBezTo>
              </a:path>
              <a:path w="5235" h="2655">
                <a:moveTo>
                  <a:pt x="10815" y="15925"/>
                </a:moveTo>
                <a:cubicBezTo>
                  <a:pt x="10806" y="16099"/>
                  <a:pt x="10790" y="16271"/>
                  <a:pt x="10790" y="16446"/>
                </a:cubicBezTo>
              </a:path>
              <a:path w="5235" h="2655">
                <a:moveTo>
                  <a:pt x="11261" y="15801"/>
                </a:moveTo>
                <a:cubicBezTo>
                  <a:pt x="11218" y="15879"/>
                  <a:pt x="11197" y="15955"/>
                  <a:pt x="11162" y="16024"/>
                </a:cubicBezTo>
                <a:cubicBezTo>
                  <a:pt x="11256" y="16033"/>
                  <a:pt x="11551" y="16011"/>
                  <a:pt x="11509" y="16173"/>
                </a:cubicBezTo>
                <a:cubicBezTo>
                  <a:pt x="11466" y="16337"/>
                  <a:pt x="11238" y="16139"/>
                  <a:pt x="11212" y="16123"/>
                </a:cubicBezTo>
              </a:path>
              <a:path w="5235" h="2655">
                <a:moveTo>
                  <a:pt x="11385" y="15726"/>
                </a:moveTo>
                <a:cubicBezTo>
                  <a:pt x="11534" y="15652"/>
                  <a:pt x="11584" y="15627"/>
                  <a:pt x="11683" y="15577"/>
                </a:cubicBezTo>
              </a:path>
              <a:path w="5235" h="2655">
                <a:moveTo>
                  <a:pt x="11683" y="15577"/>
                </a:moveTo>
                <a:lnTo>
                  <a:pt x="11683" y="15577"/>
                </a:lnTo>
              </a:path>
              <a:path w="5235" h="2655">
                <a:moveTo>
                  <a:pt x="12303" y="15726"/>
                </a:moveTo>
                <a:cubicBezTo>
                  <a:pt x="12405" y="15848"/>
                  <a:pt x="12427" y="15869"/>
                  <a:pt x="12477" y="15949"/>
                </a:cubicBezTo>
              </a:path>
              <a:path w="5235" h="2655">
                <a:moveTo>
                  <a:pt x="12402" y="15503"/>
                </a:moveTo>
                <a:cubicBezTo>
                  <a:pt x="12315" y="15704"/>
                  <a:pt x="12236" y="15795"/>
                  <a:pt x="12254" y="15999"/>
                </a:cubicBezTo>
              </a:path>
              <a:path w="5235" h="2655">
                <a:moveTo>
                  <a:pt x="13047" y="15032"/>
                </a:moveTo>
                <a:cubicBezTo>
                  <a:pt x="13087" y="15171"/>
                  <a:pt x="13104" y="15194"/>
                  <a:pt x="13097" y="15280"/>
                </a:cubicBezTo>
              </a:path>
              <a:path w="5235" h="2655">
                <a:moveTo>
                  <a:pt x="13444" y="14660"/>
                </a:moveTo>
                <a:cubicBezTo>
                  <a:pt x="13653" y="14640"/>
                  <a:pt x="13750" y="14671"/>
                  <a:pt x="13543" y="14833"/>
                </a:cubicBezTo>
                <a:cubicBezTo>
                  <a:pt x="13527" y="14841"/>
                  <a:pt x="13510" y="14850"/>
                  <a:pt x="13494" y="14858"/>
                </a:cubicBezTo>
                <a:cubicBezTo>
                  <a:pt x="13580" y="14858"/>
                  <a:pt x="13976" y="14849"/>
                  <a:pt x="13841" y="15056"/>
                </a:cubicBezTo>
                <a:cubicBezTo>
                  <a:pt x="13678" y="15172"/>
                  <a:pt x="13632" y="15212"/>
                  <a:pt x="13494" y="15205"/>
                </a:cubicBezTo>
              </a:path>
              <a:path w="5235" h="2655">
                <a:moveTo>
                  <a:pt x="13395" y="15478"/>
                </a:moveTo>
                <a:cubicBezTo>
                  <a:pt x="13631" y="15431"/>
                  <a:pt x="13824" y="15391"/>
                  <a:pt x="14064" y="15379"/>
                </a:cubicBezTo>
              </a:path>
              <a:path w="5235" h="2655">
                <a:moveTo>
                  <a:pt x="13419" y="15801"/>
                </a:moveTo>
                <a:cubicBezTo>
                  <a:pt x="13399" y="15948"/>
                  <a:pt x="13315" y="16232"/>
                  <a:pt x="13395" y="16247"/>
                </a:cubicBezTo>
              </a:path>
              <a:path w="5235" h="2655">
                <a:moveTo>
                  <a:pt x="13767" y="15875"/>
                </a:moveTo>
                <a:cubicBezTo>
                  <a:pt x="13720" y="16037"/>
                  <a:pt x="13697" y="16085"/>
                  <a:pt x="13791" y="16173"/>
                </a:cubicBezTo>
                <a:cubicBezTo>
                  <a:pt x="14153" y="16119"/>
                  <a:pt x="14197" y="16054"/>
                  <a:pt x="13965" y="15776"/>
                </a:cubicBezTo>
              </a:path>
              <a:path w="5235" h="2655">
                <a:moveTo>
                  <a:pt x="12080" y="15627"/>
                </a:moveTo>
                <a:cubicBezTo>
                  <a:pt x="12072" y="15627"/>
                  <a:pt x="12063" y="15627"/>
                  <a:pt x="12055" y="15627"/>
                </a:cubicBezTo>
                <a:cubicBezTo>
                  <a:pt x="12093" y="15570"/>
                  <a:pt x="12245" y="15670"/>
                  <a:pt x="12303" y="15701"/>
                </a:cubicBezTo>
                <a:cubicBezTo>
                  <a:pt x="12406" y="15763"/>
                  <a:pt x="12429" y="15771"/>
                  <a:pt x="12477" y="15825"/>
                </a:cubicBezTo>
              </a:path>
              <a:path w="5235" h="2655">
                <a:moveTo>
                  <a:pt x="11385" y="14759"/>
                </a:moveTo>
                <a:cubicBezTo>
                  <a:pt x="11467" y="14759"/>
                  <a:pt x="11530" y="14752"/>
                  <a:pt x="11609" y="14734"/>
                </a:cubicBezTo>
              </a:path>
              <a:path w="5235" h="2655">
                <a:moveTo>
                  <a:pt x="11460" y="14660"/>
                </a:moveTo>
                <a:cubicBezTo>
                  <a:pt x="11460" y="14668"/>
                  <a:pt x="11460" y="14676"/>
                  <a:pt x="11460" y="14684"/>
                </a:cubicBezTo>
              </a:path>
              <a:path w="5235" h="2655">
                <a:moveTo>
                  <a:pt x="11534" y="14982"/>
                </a:moveTo>
                <a:cubicBezTo>
                  <a:pt x="11534" y="14954"/>
                  <a:pt x="11536" y="14943"/>
                  <a:pt x="11559" y="14932"/>
                </a:cubicBezTo>
              </a:path>
              <a:path w="5235" h="2655">
                <a:moveTo>
                  <a:pt x="11559" y="14932"/>
                </a:moveTo>
                <a:lnTo>
                  <a:pt x="11559" y="14932"/>
                </a:lnTo>
              </a:path>
              <a:path w="5235" h="2655">
                <a:moveTo>
                  <a:pt x="11733" y="14585"/>
                </a:moveTo>
                <a:cubicBezTo>
                  <a:pt x="11906" y="14510"/>
                  <a:pt x="11886" y="14583"/>
                  <a:pt x="11807" y="14734"/>
                </a:cubicBezTo>
                <a:cubicBezTo>
                  <a:pt x="11677" y="14984"/>
                  <a:pt x="11776" y="14888"/>
                  <a:pt x="12005" y="14808"/>
                </a:cubicBezTo>
              </a:path>
              <a:path w="5235" h="2655">
                <a:moveTo>
                  <a:pt x="14362" y="15999"/>
                </a:moveTo>
                <a:cubicBezTo>
                  <a:pt x="14422" y="15999"/>
                  <a:pt x="14476" y="15981"/>
                  <a:pt x="14536" y="15974"/>
                </a:cubicBezTo>
              </a:path>
              <a:path w="5235" h="2655">
                <a:moveTo>
                  <a:pt x="14412" y="15850"/>
                </a:moveTo>
                <a:cubicBezTo>
                  <a:pt x="14412" y="15858"/>
                  <a:pt x="14412" y="15867"/>
                  <a:pt x="14412" y="15875"/>
                </a:cubicBezTo>
              </a:path>
              <a:path w="5235" h="2655">
                <a:moveTo>
                  <a:pt x="14461" y="16197"/>
                </a:moveTo>
                <a:cubicBezTo>
                  <a:pt x="14469" y="16197"/>
                  <a:pt x="14478" y="16197"/>
                  <a:pt x="14486" y="16197"/>
                </a:cubicBezTo>
              </a:path>
              <a:path w="5235" h="2655">
                <a:moveTo>
                  <a:pt x="14486" y="16197"/>
                </a:moveTo>
                <a:lnTo>
                  <a:pt x="14486" y="16197"/>
                </a:lnTo>
              </a:path>
              <a:path w="5235" h="2655">
                <a:moveTo>
                  <a:pt x="14784" y="15900"/>
                </a:moveTo>
                <a:cubicBezTo>
                  <a:pt x="14974" y="15876"/>
                  <a:pt x="15032" y="15898"/>
                  <a:pt x="14883" y="16073"/>
                </a:cubicBezTo>
                <a:cubicBezTo>
                  <a:pt x="14850" y="16106"/>
                  <a:pt x="14817" y="16140"/>
                  <a:pt x="14784" y="16173"/>
                </a:cubicBezTo>
                <a:cubicBezTo>
                  <a:pt x="14747" y="16208"/>
                  <a:pt x="14964" y="16173"/>
                  <a:pt x="15032" y="16173"/>
                </a:cubicBezTo>
              </a:path>
              <a:path w="5235" h="2655">
                <a:moveTo>
                  <a:pt x="13295" y="16073"/>
                </a:moveTo>
                <a:cubicBezTo>
                  <a:pt x="13801" y="16096"/>
                  <a:pt x="14302" y="16044"/>
                  <a:pt x="14808" y="16049"/>
                </a:cubicBezTo>
                <a:cubicBezTo>
                  <a:pt x="14936" y="16049"/>
                  <a:pt x="14960" y="16017"/>
                  <a:pt x="15007" y="16073"/>
                </a:cubicBezTo>
              </a:path>
              <a:path w="5235" h="2655">
                <a:moveTo>
                  <a:pt x="14213" y="16396"/>
                </a:moveTo>
                <a:cubicBezTo>
                  <a:pt x="14146" y="16443"/>
                  <a:pt x="14076" y="16454"/>
                  <a:pt x="14039" y="16520"/>
                </a:cubicBezTo>
                <a:cubicBezTo>
                  <a:pt x="14008" y="16576"/>
                  <a:pt x="13990" y="16631"/>
                  <a:pt x="13990" y="16694"/>
                </a:cubicBezTo>
                <a:cubicBezTo>
                  <a:pt x="14152" y="16702"/>
                  <a:pt x="14301" y="16632"/>
                  <a:pt x="14436" y="16694"/>
                </a:cubicBezTo>
                <a:cubicBezTo>
                  <a:pt x="14289" y="16922"/>
                  <a:pt x="14205" y="16966"/>
                  <a:pt x="13940" y="16966"/>
                </a:cubicBezTo>
              </a:path>
              <a:path w="5235" h="2655">
                <a:moveTo>
                  <a:pt x="10815" y="15081"/>
                </a:moveTo>
                <a:cubicBezTo>
                  <a:pt x="11094" y="14984"/>
                  <a:pt x="11858" y="14563"/>
                  <a:pt x="12154" y="14660"/>
                </a:cubicBezTo>
                <a:cubicBezTo>
                  <a:pt x="12121" y="14676"/>
                  <a:pt x="12088" y="14693"/>
                  <a:pt x="12055" y="14709"/>
                </a:cubicBezTo>
              </a:path>
              <a:path w="5235" h="2655">
                <a:moveTo>
                  <a:pt x="9798" y="14362"/>
                </a:moveTo>
                <a:cubicBezTo>
                  <a:pt x="9916" y="14347"/>
                  <a:pt x="10094" y="14333"/>
                  <a:pt x="10021" y="14536"/>
                </a:cubicBezTo>
                <a:cubicBezTo>
                  <a:pt x="9966" y="14591"/>
                  <a:pt x="9941" y="14589"/>
                  <a:pt x="9947" y="14635"/>
                </a:cubicBezTo>
                <a:cubicBezTo>
                  <a:pt x="10059" y="14568"/>
                  <a:pt x="10395" y="14535"/>
                  <a:pt x="10195" y="14784"/>
                </a:cubicBezTo>
                <a:cubicBezTo>
                  <a:pt x="10073" y="14936"/>
                  <a:pt x="9959" y="14939"/>
                  <a:pt x="9823" y="14883"/>
                </a:cubicBezTo>
              </a:path>
              <a:path w="5235" h="2655">
                <a:moveTo>
                  <a:pt x="12998" y="14858"/>
                </a:moveTo>
                <a:cubicBezTo>
                  <a:pt x="12990" y="14850"/>
                  <a:pt x="12981" y="14841"/>
                  <a:pt x="12973" y="14833"/>
                </a:cubicBezTo>
                <a:cubicBezTo>
                  <a:pt x="13067" y="14896"/>
                  <a:pt x="13080" y="15041"/>
                  <a:pt x="13171" y="15106"/>
                </a:cubicBezTo>
                <a:cubicBezTo>
                  <a:pt x="13188" y="15106"/>
                  <a:pt x="13204" y="15106"/>
                  <a:pt x="13221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89720" y="4848120"/>
            <a:ext cx="2125440" cy="992160"/>
          </a:xfrm>
          <a:custGeom>
            <a:avLst/>
            <a:gdLst/>
            <a:ahLst/>
            <a:rect l="l" t="t" r="r" b="b"/>
            <a:pathLst>
              <a:path w="5904" h="2754">
                <a:moveTo>
                  <a:pt x="15528" y="15230"/>
                </a:moveTo>
                <a:cubicBezTo>
                  <a:pt x="15635" y="15215"/>
                  <a:pt x="15741" y="15189"/>
                  <a:pt x="15850" y="15180"/>
                </a:cubicBezTo>
              </a:path>
              <a:path w="5904" h="2754">
                <a:moveTo>
                  <a:pt x="15528" y="15404"/>
                </a:moveTo>
                <a:cubicBezTo>
                  <a:pt x="15706" y="15378"/>
                  <a:pt x="15768" y="15368"/>
                  <a:pt x="15875" y="15304"/>
                </a:cubicBezTo>
              </a:path>
              <a:path w="5904" h="2754">
                <a:moveTo>
                  <a:pt x="15875" y="15304"/>
                </a:moveTo>
                <a:lnTo>
                  <a:pt x="15875" y="15304"/>
                </a:lnTo>
              </a:path>
              <a:path w="5904" h="2754">
                <a:moveTo>
                  <a:pt x="16197" y="14536"/>
                </a:moveTo>
                <a:cubicBezTo>
                  <a:pt x="16341" y="14543"/>
                  <a:pt x="16493" y="14528"/>
                  <a:pt x="16297" y="14660"/>
                </a:cubicBezTo>
                <a:cubicBezTo>
                  <a:pt x="16280" y="14668"/>
                  <a:pt x="16264" y="14676"/>
                  <a:pt x="16247" y="14684"/>
                </a:cubicBezTo>
                <a:cubicBezTo>
                  <a:pt x="16363" y="14694"/>
                  <a:pt x="16705" y="14732"/>
                  <a:pt x="16520" y="14932"/>
                </a:cubicBezTo>
                <a:cubicBezTo>
                  <a:pt x="16374" y="15090"/>
                  <a:pt x="16267" y="15047"/>
                  <a:pt x="16148" y="14957"/>
                </a:cubicBezTo>
              </a:path>
              <a:path w="5904" h="2754">
                <a:moveTo>
                  <a:pt x="16768" y="14511"/>
                </a:moveTo>
                <a:cubicBezTo>
                  <a:pt x="16645" y="14536"/>
                  <a:pt x="16604" y="14543"/>
                  <a:pt x="16570" y="14635"/>
                </a:cubicBezTo>
                <a:cubicBezTo>
                  <a:pt x="16703" y="14731"/>
                  <a:pt x="16820" y="14707"/>
                  <a:pt x="16892" y="14536"/>
                </a:cubicBezTo>
                <a:cubicBezTo>
                  <a:pt x="16892" y="14528"/>
                  <a:pt x="16892" y="14519"/>
                  <a:pt x="16892" y="14511"/>
                </a:cubicBezTo>
                <a:cubicBezTo>
                  <a:pt x="16939" y="14667"/>
                  <a:pt x="17059" y="14858"/>
                  <a:pt x="17016" y="15032"/>
                </a:cubicBezTo>
                <a:cubicBezTo>
                  <a:pt x="16999" y="15048"/>
                  <a:pt x="16983" y="15065"/>
                  <a:pt x="16966" y="15081"/>
                </a:cubicBezTo>
              </a:path>
              <a:path w="5904" h="2754">
                <a:moveTo>
                  <a:pt x="16346" y="15230"/>
                </a:moveTo>
                <a:cubicBezTo>
                  <a:pt x="16578" y="15190"/>
                  <a:pt x="16810" y="15150"/>
                  <a:pt x="17041" y="15106"/>
                </a:cubicBezTo>
              </a:path>
              <a:path w="5904" h="2754">
                <a:moveTo>
                  <a:pt x="16222" y="15652"/>
                </a:moveTo>
                <a:cubicBezTo>
                  <a:pt x="16332" y="15638"/>
                  <a:pt x="16443" y="15561"/>
                  <a:pt x="16545" y="15553"/>
                </a:cubicBezTo>
                <a:cubicBezTo>
                  <a:pt x="16690" y="15541"/>
                  <a:pt x="16441" y="15805"/>
                  <a:pt x="16421" y="15949"/>
                </a:cubicBezTo>
                <a:cubicBezTo>
                  <a:pt x="16421" y="15941"/>
                  <a:pt x="16421" y="15933"/>
                  <a:pt x="16421" y="15925"/>
                </a:cubicBezTo>
              </a:path>
              <a:path w="5904" h="2754">
                <a:moveTo>
                  <a:pt x="16694" y="15553"/>
                </a:moveTo>
                <a:cubicBezTo>
                  <a:pt x="16686" y="15569"/>
                  <a:pt x="16677" y="15586"/>
                  <a:pt x="16669" y="15602"/>
                </a:cubicBezTo>
                <a:cubicBezTo>
                  <a:pt x="16771" y="15691"/>
                  <a:pt x="16949" y="15716"/>
                  <a:pt x="17090" y="15776"/>
                </a:cubicBezTo>
                <a:cubicBezTo>
                  <a:pt x="16944" y="15937"/>
                  <a:pt x="16884" y="15911"/>
                  <a:pt x="16694" y="15825"/>
                </a:cubicBezTo>
              </a:path>
              <a:path w="5904" h="2754">
                <a:moveTo>
                  <a:pt x="16842" y="15429"/>
                </a:moveTo>
                <a:cubicBezTo>
                  <a:pt x="16976" y="15384"/>
                  <a:pt x="17012" y="15374"/>
                  <a:pt x="17090" y="15329"/>
                </a:cubicBezTo>
              </a:path>
              <a:path w="5904" h="2754">
                <a:moveTo>
                  <a:pt x="17314" y="14635"/>
                </a:moveTo>
                <a:cubicBezTo>
                  <a:pt x="17389" y="14622"/>
                  <a:pt x="17460" y="14591"/>
                  <a:pt x="17537" y="14585"/>
                </a:cubicBezTo>
                <a:cubicBezTo>
                  <a:pt x="17545" y="14585"/>
                  <a:pt x="17554" y="14585"/>
                  <a:pt x="17562" y="14585"/>
                </a:cubicBezTo>
              </a:path>
              <a:path w="5904" h="2754">
                <a:moveTo>
                  <a:pt x="17338" y="14288"/>
                </a:moveTo>
                <a:cubicBezTo>
                  <a:pt x="17338" y="14352"/>
                  <a:pt x="17359" y="14395"/>
                  <a:pt x="17413" y="14436"/>
                </a:cubicBezTo>
              </a:path>
              <a:path w="5904" h="2754">
                <a:moveTo>
                  <a:pt x="17487" y="14709"/>
                </a:moveTo>
                <a:cubicBezTo>
                  <a:pt x="17487" y="14701"/>
                  <a:pt x="17487" y="14692"/>
                  <a:pt x="17487" y="14684"/>
                </a:cubicBezTo>
              </a:path>
              <a:path w="5904" h="2754">
                <a:moveTo>
                  <a:pt x="17487" y="14684"/>
                </a:moveTo>
                <a:lnTo>
                  <a:pt x="17487" y="14684"/>
                </a:lnTo>
              </a:path>
              <a:path w="5904" h="2754">
                <a:moveTo>
                  <a:pt x="17735" y="14263"/>
                </a:moveTo>
                <a:cubicBezTo>
                  <a:pt x="17815" y="14263"/>
                  <a:pt x="18107" y="14225"/>
                  <a:pt x="18008" y="14387"/>
                </a:cubicBezTo>
                <a:cubicBezTo>
                  <a:pt x="17934" y="14461"/>
                  <a:pt x="17925" y="14470"/>
                  <a:pt x="17884" y="14511"/>
                </a:cubicBezTo>
                <a:cubicBezTo>
                  <a:pt x="18019" y="14488"/>
                  <a:pt x="18271" y="14500"/>
                  <a:pt x="18132" y="14709"/>
                </a:cubicBezTo>
                <a:cubicBezTo>
                  <a:pt x="18026" y="14789"/>
                  <a:pt x="17985" y="14814"/>
                  <a:pt x="17884" y="14784"/>
                </a:cubicBezTo>
              </a:path>
              <a:path w="5904" h="2754">
                <a:moveTo>
                  <a:pt x="17363" y="15726"/>
                </a:moveTo>
                <a:cubicBezTo>
                  <a:pt x="17451" y="15726"/>
                  <a:pt x="17527" y="15740"/>
                  <a:pt x="17611" y="15751"/>
                </a:cubicBezTo>
                <a:cubicBezTo>
                  <a:pt x="17628" y="15751"/>
                  <a:pt x="17644" y="15751"/>
                  <a:pt x="17661" y="15751"/>
                </a:cubicBezTo>
              </a:path>
              <a:path w="5904" h="2754">
                <a:moveTo>
                  <a:pt x="17438" y="15503"/>
                </a:moveTo>
                <a:cubicBezTo>
                  <a:pt x="17438" y="15511"/>
                  <a:pt x="17438" y="15520"/>
                  <a:pt x="17438" y="15528"/>
                </a:cubicBezTo>
              </a:path>
              <a:path w="5904" h="2754">
                <a:moveTo>
                  <a:pt x="17512" y="15900"/>
                </a:moveTo>
                <a:cubicBezTo>
                  <a:pt x="17520" y="15900"/>
                  <a:pt x="17529" y="15900"/>
                  <a:pt x="17537" y="15900"/>
                </a:cubicBezTo>
              </a:path>
              <a:path w="5904" h="2754">
                <a:moveTo>
                  <a:pt x="17537" y="15900"/>
                </a:moveTo>
                <a:lnTo>
                  <a:pt x="17537" y="15900"/>
                </a:lnTo>
              </a:path>
              <a:path w="5904" h="2754">
                <a:moveTo>
                  <a:pt x="18033" y="15627"/>
                </a:moveTo>
                <a:cubicBezTo>
                  <a:pt x="18189" y="15641"/>
                  <a:pt x="18388" y="15638"/>
                  <a:pt x="18182" y="15776"/>
                </a:cubicBezTo>
                <a:cubicBezTo>
                  <a:pt x="18182" y="15799"/>
                  <a:pt x="18249" y="15826"/>
                  <a:pt x="18331" y="15875"/>
                </a:cubicBezTo>
                <a:cubicBezTo>
                  <a:pt x="18267" y="16081"/>
                  <a:pt x="18178" y="16077"/>
                  <a:pt x="17983" y="16024"/>
                </a:cubicBezTo>
              </a:path>
              <a:path w="5904" h="2754">
                <a:moveTo>
                  <a:pt x="18653" y="15180"/>
                </a:moveTo>
                <a:cubicBezTo>
                  <a:pt x="18728" y="15180"/>
                  <a:pt x="18752" y="15180"/>
                  <a:pt x="18802" y="15180"/>
                </a:cubicBezTo>
              </a:path>
              <a:path w="5904" h="2754">
                <a:moveTo>
                  <a:pt x="18703" y="15354"/>
                </a:moveTo>
                <a:cubicBezTo>
                  <a:pt x="18854" y="15354"/>
                  <a:pt x="18906" y="15353"/>
                  <a:pt x="19000" y="15304"/>
                </a:cubicBezTo>
              </a:path>
              <a:path w="5904" h="2754">
                <a:moveTo>
                  <a:pt x="19000" y="15304"/>
                </a:moveTo>
                <a:lnTo>
                  <a:pt x="19000" y="15304"/>
                </a:lnTo>
              </a:path>
              <a:path w="5904" h="2754">
                <a:moveTo>
                  <a:pt x="19496" y="14312"/>
                </a:moveTo>
                <a:cubicBezTo>
                  <a:pt x="19552" y="14467"/>
                  <a:pt x="19600" y="14625"/>
                  <a:pt x="19695" y="14759"/>
                </a:cubicBezTo>
              </a:path>
              <a:path w="5904" h="2754">
                <a:moveTo>
                  <a:pt x="19893" y="14213"/>
                </a:moveTo>
                <a:cubicBezTo>
                  <a:pt x="19943" y="14213"/>
                  <a:pt x="20194" y="14192"/>
                  <a:pt x="20191" y="14263"/>
                </a:cubicBezTo>
                <a:cubicBezTo>
                  <a:pt x="20139" y="14366"/>
                  <a:pt x="20119" y="14401"/>
                  <a:pt x="20042" y="14436"/>
                </a:cubicBezTo>
                <a:cubicBezTo>
                  <a:pt x="20034" y="14436"/>
                  <a:pt x="20025" y="14436"/>
                  <a:pt x="20017" y="14436"/>
                </a:cubicBezTo>
                <a:cubicBezTo>
                  <a:pt x="20129" y="14452"/>
                  <a:pt x="20311" y="14516"/>
                  <a:pt x="20315" y="14660"/>
                </a:cubicBezTo>
                <a:cubicBezTo>
                  <a:pt x="20320" y="14810"/>
                  <a:pt x="20105" y="14762"/>
                  <a:pt x="20042" y="14759"/>
                </a:cubicBezTo>
              </a:path>
              <a:path w="5904" h="2754">
                <a:moveTo>
                  <a:pt x="19670" y="15007"/>
                </a:moveTo>
                <a:cubicBezTo>
                  <a:pt x="19947" y="14962"/>
                  <a:pt x="20207" y="14932"/>
                  <a:pt x="20489" y="14932"/>
                </a:cubicBezTo>
              </a:path>
              <a:path w="5904" h="2754">
                <a:moveTo>
                  <a:pt x="19893" y="15354"/>
                </a:moveTo>
                <a:cubicBezTo>
                  <a:pt x="20072" y="15458"/>
                  <a:pt x="20281" y="15640"/>
                  <a:pt x="19968" y="15776"/>
                </a:cubicBezTo>
                <a:cubicBezTo>
                  <a:pt x="19826" y="15796"/>
                  <a:pt x="19799" y="15815"/>
                  <a:pt x="19720" y="15776"/>
                </a:cubicBezTo>
                <a:cubicBezTo>
                  <a:pt x="19879" y="15604"/>
                  <a:pt x="19973" y="15596"/>
                  <a:pt x="20166" y="15751"/>
                </a:cubicBezTo>
                <a:cubicBezTo>
                  <a:pt x="20174" y="15759"/>
                  <a:pt x="20183" y="15768"/>
                  <a:pt x="20191" y="15776"/>
                </a:cubicBezTo>
              </a:path>
              <a:path w="5904" h="2754">
                <a:moveTo>
                  <a:pt x="20414" y="15280"/>
                </a:moveTo>
                <a:cubicBezTo>
                  <a:pt x="20299" y="15347"/>
                  <a:pt x="20315" y="15301"/>
                  <a:pt x="20315" y="15404"/>
                </a:cubicBezTo>
                <a:cubicBezTo>
                  <a:pt x="20386" y="15526"/>
                  <a:pt x="20431" y="15447"/>
                  <a:pt x="20563" y="15478"/>
                </a:cubicBezTo>
                <a:cubicBezTo>
                  <a:pt x="20703" y="15511"/>
                  <a:pt x="20886" y="15699"/>
                  <a:pt x="20638" y="15751"/>
                </a:cubicBezTo>
                <a:cubicBezTo>
                  <a:pt x="20455" y="15751"/>
                  <a:pt x="20390" y="15747"/>
                  <a:pt x="20290" y="15652"/>
                </a:cubicBezTo>
              </a:path>
              <a:path w="5904" h="2754">
                <a:moveTo>
                  <a:pt x="20389" y="15354"/>
                </a:moveTo>
                <a:cubicBezTo>
                  <a:pt x="20389" y="15329"/>
                  <a:pt x="20389" y="15321"/>
                  <a:pt x="20365" y="15329"/>
                </a:cubicBezTo>
                <a:cubicBezTo>
                  <a:pt x="20455" y="15306"/>
                  <a:pt x="20565" y="15249"/>
                  <a:pt x="20662" y="15230"/>
                </a:cubicBezTo>
                <a:cubicBezTo>
                  <a:pt x="20687" y="15230"/>
                  <a:pt x="20712" y="15230"/>
                  <a:pt x="20737" y="15230"/>
                </a:cubicBezTo>
              </a:path>
              <a:path w="5904" h="2754">
                <a:moveTo>
                  <a:pt x="19273" y="16148"/>
                </a:moveTo>
                <a:cubicBezTo>
                  <a:pt x="19671" y="16231"/>
                  <a:pt x="20058" y="16251"/>
                  <a:pt x="20464" y="16148"/>
                </a:cubicBezTo>
                <a:cubicBezTo>
                  <a:pt x="20847" y="16051"/>
                  <a:pt x="21233" y="15742"/>
                  <a:pt x="21357" y="15354"/>
                </a:cubicBezTo>
                <a:cubicBezTo>
                  <a:pt x="21550" y="14748"/>
                  <a:pt x="21390" y="14117"/>
                  <a:pt x="20861" y="13767"/>
                </a:cubicBezTo>
                <a:cubicBezTo>
                  <a:pt x="20537" y="13553"/>
                  <a:pt x="19905" y="13374"/>
                  <a:pt x="19521" y="13519"/>
                </a:cubicBezTo>
                <a:cubicBezTo>
                  <a:pt x="18850" y="13772"/>
                  <a:pt x="18816" y="14755"/>
                  <a:pt x="19075" y="15304"/>
                </a:cubicBezTo>
                <a:cubicBezTo>
                  <a:pt x="19357" y="15635"/>
                  <a:pt x="19436" y="15740"/>
                  <a:pt x="19720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To divide fractions &amp; mixed numbers.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en-US" sz="3400" spc="-1" strike="noStrike">
                <a:solidFill>
                  <a:srgbClr val="006699"/>
                </a:solidFill>
                <a:latin typeface="Times New Roman"/>
              </a:rPr>
              <a:t>Mixed Number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o improper fractions first, then follow previous ste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33520" y="3352680"/>
          <a:ext cx="139068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52680"/>
                    <a:ext cx="139068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581280" y="3255840"/>
          <a:ext cx="160020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255840"/>
                    <a:ext cx="16002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7010280" y="3200400"/>
          <a:ext cx="1067040" cy="94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0280" y="3200400"/>
                    <a:ext cx="106704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115920" y="3133800"/>
            <a:ext cx="339840" cy="304560"/>
          </a:xfrm>
          <a:custGeom>
            <a:avLst/>
            <a:gdLst/>
            <a:ahLst/>
            <a:rect l="l" t="t" r="r" b="b"/>
            <a:pathLst>
              <a:path w="944" h="845">
                <a:moveTo>
                  <a:pt x="645" y="9029"/>
                </a:moveTo>
                <a:cubicBezTo>
                  <a:pt x="706" y="9159"/>
                  <a:pt x="719" y="9233"/>
                  <a:pt x="719" y="9376"/>
                </a:cubicBezTo>
              </a:path>
              <a:path w="944" h="845">
                <a:moveTo>
                  <a:pt x="347" y="9550"/>
                </a:moveTo>
                <a:cubicBezTo>
                  <a:pt x="554" y="9530"/>
                  <a:pt x="817" y="9512"/>
                  <a:pt x="1017" y="9451"/>
                </a:cubicBezTo>
                <a:cubicBezTo>
                  <a:pt x="1237" y="9383"/>
                  <a:pt x="1359" y="9134"/>
                  <a:pt x="1215" y="8930"/>
                </a:cubicBezTo>
                <a:cubicBezTo>
                  <a:pt x="1081" y="8740"/>
                  <a:pt x="708" y="8641"/>
                  <a:pt x="496" y="8731"/>
                </a:cubicBezTo>
                <a:cubicBezTo>
                  <a:pt x="313" y="8809"/>
                  <a:pt x="232" y="9373"/>
                  <a:pt x="322" y="9525"/>
                </a:cubicBezTo>
                <a:cubicBezTo>
                  <a:pt x="465" y="9525"/>
                  <a:pt x="540" y="9516"/>
                  <a:pt x="645" y="94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1240" y="3367080"/>
            <a:ext cx="61920" cy="54000"/>
          </a:xfrm>
          <a:custGeom>
            <a:avLst/>
            <a:gdLst/>
            <a:ahLst/>
            <a:rect l="l" t="t" r="r" b="b"/>
            <a:pathLst>
              <a:path w="174" h="150">
                <a:moveTo>
                  <a:pt x="2133" y="9351"/>
                </a:moveTo>
                <a:cubicBezTo>
                  <a:pt x="2133" y="9401"/>
                  <a:pt x="2133" y="9450"/>
                  <a:pt x="2133" y="9500"/>
                </a:cubicBezTo>
              </a:path>
              <a:path w="174" h="150">
                <a:moveTo>
                  <a:pt x="2059" y="9451"/>
                </a:moveTo>
                <a:cubicBezTo>
                  <a:pt x="2125" y="9451"/>
                  <a:pt x="2171" y="9438"/>
                  <a:pt x="2232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7880" y="3867120"/>
            <a:ext cx="90360" cy="115920"/>
          </a:xfrm>
          <a:custGeom>
            <a:avLst/>
            <a:gdLst/>
            <a:ahLst/>
            <a:rect l="l" t="t" r="r" b="b"/>
            <a:pathLst>
              <a:path w="249" h="324">
                <a:moveTo>
                  <a:pt x="1910" y="10815"/>
                </a:moveTo>
                <a:cubicBezTo>
                  <a:pt x="1926" y="10879"/>
                  <a:pt x="2002" y="10905"/>
                  <a:pt x="2034" y="10964"/>
                </a:cubicBezTo>
                <a:cubicBezTo>
                  <a:pt x="2034" y="10972"/>
                  <a:pt x="2034" y="10980"/>
                  <a:pt x="2034" y="10988"/>
                </a:cubicBezTo>
              </a:path>
              <a:path w="249" h="324">
                <a:moveTo>
                  <a:pt x="2133" y="10740"/>
                </a:moveTo>
                <a:cubicBezTo>
                  <a:pt x="2018" y="10817"/>
                  <a:pt x="1979" y="10900"/>
                  <a:pt x="1910" y="11013"/>
                </a:cubicBezTo>
                <a:cubicBezTo>
                  <a:pt x="1887" y="11036"/>
                  <a:pt x="1879" y="11040"/>
                  <a:pt x="1885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0240" y="4527720"/>
            <a:ext cx="1197000" cy="571320"/>
          </a:xfrm>
          <a:custGeom>
            <a:avLst/>
            <a:gdLst/>
            <a:ahLst/>
            <a:rect l="l" t="t" r="r" b="b"/>
            <a:pathLst>
              <a:path w="3324" h="1588">
                <a:moveTo>
                  <a:pt x="2108" y="12601"/>
                </a:moveTo>
                <a:cubicBezTo>
                  <a:pt x="2190" y="12540"/>
                  <a:pt x="2252" y="12669"/>
                  <a:pt x="2257" y="12750"/>
                </a:cubicBezTo>
                <a:cubicBezTo>
                  <a:pt x="2272" y="12998"/>
                  <a:pt x="2023" y="13082"/>
                  <a:pt x="1836" y="13122"/>
                </a:cubicBezTo>
                <a:cubicBezTo>
                  <a:pt x="1891" y="12992"/>
                  <a:pt x="1947" y="12943"/>
                  <a:pt x="2084" y="12973"/>
                </a:cubicBezTo>
                <a:cubicBezTo>
                  <a:pt x="2159" y="12989"/>
                  <a:pt x="2206" y="13020"/>
                  <a:pt x="2257" y="13072"/>
                </a:cubicBezTo>
              </a:path>
              <a:path w="3324" h="1588">
                <a:moveTo>
                  <a:pt x="1860" y="13370"/>
                </a:moveTo>
                <a:cubicBezTo>
                  <a:pt x="1760" y="13526"/>
                  <a:pt x="2171" y="13376"/>
                  <a:pt x="2356" y="13370"/>
                </a:cubicBezTo>
                <a:cubicBezTo>
                  <a:pt x="2503" y="13365"/>
                  <a:pt x="2673" y="13352"/>
                  <a:pt x="2803" y="13395"/>
                </a:cubicBezTo>
                <a:cubicBezTo>
                  <a:pt x="2811" y="13395"/>
                  <a:pt x="2820" y="13395"/>
                  <a:pt x="2828" y="13395"/>
                </a:cubicBezTo>
              </a:path>
              <a:path w="3324" h="1588">
                <a:moveTo>
                  <a:pt x="2257" y="13667"/>
                </a:moveTo>
                <a:cubicBezTo>
                  <a:pt x="2251" y="13743"/>
                  <a:pt x="2240" y="13815"/>
                  <a:pt x="2232" y="13891"/>
                </a:cubicBezTo>
                <a:cubicBezTo>
                  <a:pt x="2363" y="13891"/>
                  <a:pt x="2478" y="13891"/>
                  <a:pt x="2604" y="13866"/>
                </a:cubicBezTo>
              </a:path>
              <a:path w="3324" h="1588">
                <a:moveTo>
                  <a:pt x="2604" y="13593"/>
                </a:moveTo>
                <a:cubicBezTo>
                  <a:pt x="2549" y="13748"/>
                  <a:pt x="2517" y="13901"/>
                  <a:pt x="2505" y="14064"/>
                </a:cubicBezTo>
                <a:cubicBezTo>
                  <a:pt x="2503" y="14097"/>
                  <a:pt x="2505" y="14130"/>
                  <a:pt x="2505" y="14163"/>
                </a:cubicBezTo>
              </a:path>
              <a:path w="3324" h="1588">
                <a:moveTo>
                  <a:pt x="2530" y="12650"/>
                </a:moveTo>
                <a:cubicBezTo>
                  <a:pt x="2548" y="12626"/>
                  <a:pt x="2675" y="12541"/>
                  <a:pt x="2729" y="12576"/>
                </a:cubicBezTo>
                <a:cubicBezTo>
                  <a:pt x="2812" y="12630"/>
                  <a:pt x="2731" y="12728"/>
                  <a:pt x="2704" y="12774"/>
                </a:cubicBezTo>
                <a:cubicBezTo>
                  <a:pt x="2696" y="12774"/>
                  <a:pt x="2687" y="12774"/>
                  <a:pt x="2679" y="12774"/>
                </a:cubicBezTo>
                <a:cubicBezTo>
                  <a:pt x="2750" y="12786"/>
                  <a:pt x="2892" y="12835"/>
                  <a:pt x="2853" y="12948"/>
                </a:cubicBezTo>
                <a:cubicBezTo>
                  <a:pt x="2805" y="13086"/>
                  <a:pt x="2618" y="13066"/>
                  <a:pt x="2555" y="13047"/>
                </a:cubicBezTo>
                <a:cubicBezTo>
                  <a:pt x="2547" y="13047"/>
                  <a:pt x="2538" y="13047"/>
                  <a:pt x="2530" y="13047"/>
                </a:cubicBezTo>
              </a:path>
              <a:path w="3324" h="1588">
                <a:moveTo>
                  <a:pt x="3274" y="13370"/>
                </a:moveTo>
                <a:cubicBezTo>
                  <a:pt x="3398" y="13370"/>
                  <a:pt x="3522" y="13370"/>
                  <a:pt x="3646" y="13370"/>
                </a:cubicBezTo>
              </a:path>
              <a:path w="3324" h="1588">
                <a:moveTo>
                  <a:pt x="3473" y="13122"/>
                </a:moveTo>
                <a:lnTo>
                  <a:pt x="3473" y="13122"/>
                </a:lnTo>
              </a:path>
              <a:path w="3324" h="1588">
                <a:moveTo>
                  <a:pt x="3398" y="13767"/>
                </a:moveTo>
                <a:cubicBezTo>
                  <a:pt x="3398" y="13775"/>
                  <a:pt x="3398" y="13783"/>
                  <a:pt x="3398" y="13791"/>
                </a:cubicBezTo>
              </a:path>
              <a:path w="3324" h="1588">
                <a:moveTo>
                  <a:pt x="4093" y="12824"/>
                </a:moveTo>
                <a:cubicBezTo>
                  <a:pt x="4093" y="12741"/>
                  <a:pt x="4102" y="12940"/>
                  <a:pt x="4093" y="13022"/>
                </a:cubicBezTo>
                <a:cubicBezTo>
                  <a:pt x="4082" y="13124"/>
                  <a:pt x="4006" y="13281"/>
                  <a:pt x="4118" y="13097"/>
                </a:cubicBezTo>
              </a:path>
              <a:path w="3324" h="1588">
                <a:moveTo>
                  <a:pt x="4390" y="12725"/>
                </a:moveTo>
                <a:cubicBezTo>
                  <a:pt x="4410" y="12863"/>
                  <a:pt x="4402" y="12958"/>
                  <a:pt x="4390" y="13097"/>
                </a:cubicBezTo>
                <a:cubicBezTo>
                  <a:pt x="4390" y="13155"/>
                  <a:pt x="4390" y="13163"/>
                  <a:pt x="4390" y="13196"/>
                </a:cubicBezTo>
              </a:path>
              <a:path w="3324" h="1588">
                <a:moveTo>
                  <a:pt x="3919" y="13444"/>
                </a:moveTo>
                <a:cubicBezTo>
                  <a:pt x="4095" y="13422"/>
                  <a:pt x="4262" y="13361"/>
                  <a:pt x="4440" y="13345"/>
                </a:cubicBezTo>
                <a:cubicBezTo>
                  <a:pt x="4539" y="13345"/>
                  <a:pt x="4556" y="13345"/>
                  <a:pt x="4614" y="13345"/>
                </a:cubicBezTo>
              </a:path>
              <a:path w="3324" h="1588">
                <a:moveTo>
                  <a:pt x="4341" y="13643"/>
                </a:moveTo>
                <a:cubicBezTo>
                  <a:pt x="4292" y="13618"/>
                  <a:pt x="4176" y="13646"/>
                  <a:pt x="4118" y="13717"/>
                </a:cubicBezTo>
                <a:cubicBezTo>
                  <a:pt x="4028" y="13827"/>
                  <a:pt x="4163" y="13896"/>
                  <a:pt x="4242" y="13940"/>
                </a:cubicBezTo>
                <a:cubicBezTo>
                  <a:pt x="4344" y="13997"/>
                  <a:pt x="4415" y="14018"/>
                  <a:pt x="4415" y="14139"/>
                </a:cubicBezTo>
                <a:cubicBezTo>
                  <a:pt x="4301" y="14169"/>
                  <a:pt x="4271" y="14158"/>
                  <a:pt x="4167" y="14114"/>
                </a:cubicBezTo>
                <a:cubicBezTo>
                  <a:pt x="4153" y="13941"/>
                  <a:pt x="4268" y="13909"/>
                  <a:pt x="4366" y="13767"/>
                </a:cubicBezTo>
                <a:cubicBezTo>
                  <a:pt x="4437" y="13665"/>
                  <a:pt x="4464" y="13625"/>
                  <a:pt x="4366" y="13568"/>
                </a:cubicBezTo>
              </a:path>
              <a:path w="3324" h="1588">
                <a:moveTo>
                  <a:pt x="4961" y="13196"/>
                </a:moveTo>
                <a:cubicBezTo>
                  <a:pt x="5005" y="13169"/>
                  <a:pt x="5056" y="13157"/>
                  <a:pt x="5110" y="13146"/>
                </a:cubicBezTo>
              </a:path>
              <a:path w="3324" h="1588">
                <a:moveTo>
                  <a:pt x="4936" y="13320"/>
                </a:moveTo>
                <a:cubicBezTo>
                  <a:pt x="5055" y="13296"/>
                  <a:pt x="5091" y="13290"/>
                  <a:pt x="5159" y="132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30200" y="3894120"/>
            <a:ext cx="71640" cy="115920"/>
          </a:xfrm>
          <a:custGeom>
            <a:avLst/>
            <a:gdLst/>
            <a:ahLst/>
            <a:rect l="l" t="t" r="r" b="b"/>
            <a:pathLst>
              <a:path w="199" h="323">
                <a:moveTo>
                  <a:pt x="3746" y="10864"/>
                </a:moveTo>
                <a:cubicBezTo>
                  <a:pt x="3746" y="10819"/>
                  <a:pt x="3823" y="10972"/>
                  <a:pt x="3845" y="11013"/>
                </a:cubicBezTo>
                <a:cubicBezTo>
                  <a:pt x="3845" y="11038"/>
                  <a:pt x="3845" y="11046"/>
                  <a:pt x="3845" y="11063"/>
                </a:cubicBezTo>
              </a:path>
              <a:path w="199" h="323">
                <a:moveTo>
                  <a:pt x="3894" y="10815"/>
                </a:moveTo>
                <a:cubicBezTo>
                  <a:pt x="3861" y="10914"/>
                  <a:pt x="3781" y="10956"/>
                  <a:pt x="3721" y="11038"/>
                </a:cubicBezTo>
                <a:cubicBezTo>
                  <a:pt x="3692" y="11077"/>
                  <a:pt x="3696" y="11095"/>
                  <a:pt x="3696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20840" y="3402000"/>
            <a:ext cx="81000" cy="108000"/>
          </a:xfrm>
          <a:custGeom>
            <a:avLst/>
            <a:gdLst/>
            <a:ahLst/>
            <a:rect l="l" t="t" r="r" b="b"/>
            <a:pathLst>
              <a:path w="224" h="298">
                <a:moveTo>
                  <a:pt x="3795" y="9451"/>
                </a:moveTo>
                <a:cubicBezTo>
                  <a:pt x="3795" y="9550"/>
                  <a:pt x="3795" y="9649"/>
                  <a:pt x="3795" y="9748"/>
                </a:cubicBezTo>
              </a:path>
              <a:path w="224" h="298">
                <a:moveTo>
                  <a:pt x="3671" y="9624"/>
                </a:moveTo>
                <a:cubicBezTo>
                  <a:pt x="3734" y="9624"/>
                  <a:pt x="3785" y="9603"/>
                  <a:pt x="3845" y="9599"/>
                </a:cubicBezTo>
                <a:cubicBezTo>
                  <a:pt x="3861" y="9599"/>
                  <a:pt x="3878" y="9599"/>
                  <a:pt x="3894" y="95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6960" y="5295960"/>
            <a:ext cx="1366920" cy="955440"/>
          </a:xfrm>
          <a:custGeom>
            <a:avLst/>
            <a:gdLst/>
            <a:ahLst/>
            <a:rect l="l" t="t" r="r" b="b"/>
            <a:pathLst>
              <a:path w="3796" h="2655">
                <a:moveTo>
                  <a:pt x="2183" y="15453"/>
                </a:moveTo>
                <a:cubicBezTo>
                  <a:pt x="2175" y="15453"/>
                  <a:pt x="2166" y="15453"/>
                  <a:pt x="2158" y="15453"/>
                </a:cubicBezTo>
                <a:cubicBezTo>
                  <a:pt x="2167" y="15419"/>
                  <a:pt x="2231" y="15354"/>
                  <a:pt x="2282" y="15404"/>
                </a:cubicBezTo>
                <a:cubicBezTo>
                  <a:pt x="2428" y="15549"/>
                  <a:pt x="2253" y="15824"/>
                  <a:pt x="2133" y="15925"/>
                </a:cubicBezTo>
                <a:cubicBezTo>
                  <a:pt x="2045" y="15969"/>
                  <a:pt x="2024" y="15985"/>
                  <a:pt x="1960" y="15974"/>
                </a:cubicBezTo>
                <a:cubicBezTo>
                  <a:pt x="1920" y="15895"/>
                  <a:pt x="1928" y="15785"/>
                  <a:pt x="2059" y="15776"/>
                </a:cubicBezTo>
                <a:cubicBezTo>
                  <a:pt x="2241" y="15764"/>
                  <a:pt x="2250" y="15870"/>
                  <a:pt x="2356" y="15925"/>
                </a:cubicBezTo>
                <a:cubicBezTo>
                  <a:pt x="2356" y="15917"/>
                  <a:pt x="2356" y="15908"/>
                  <a:pt x="2356" y="15900"/>
                </a:cubicBezTo>
              </a:path>
              <a:path w="3796" h="2655">
                <a:moveTo>
                  <a:pt x="2530" y="15379"/>
                </a:moveTo>
                <a:cubicBezTo>
                  <a:pt x="2583" y="15326"/>
                  <a:pt x="2641" y="15335"/>
                  <a:pt x="2729" y="15329"/>
                </a:cubicBezTo>
                <a:cubicBezTo>
                  <a:pt x="2764" y="15473"/>
                  <a:pt x="2699" y="15518"/>
                  <a:pt x="2580" y="15602"/>
                </a:cubicBezTo>
                <a:cubicBezTo>
                  <a:pt x="2643" y="15539"/>
                  <a:pt x="2853" y="15461"/>
                  <a:pt x="2853" y="15652"/>
                </a:cubicBezTo>
                <a:cubicBezTo>
                  <a:pt x="2853" y="15907"/>
                  <a:pt x="2542" y="15799"/>
                  <a:pt x="2456" y="15850"/>
                </a:cubicBezTo>
                <a:cubicBezTo>
                  <a:pt x="2472" y="15858"/>
                  <a:pt x="2489" y="15867"/>
                  <a:pt x="2505" y="15875"/>
                </a:cubicBezTo>
              </a:path>
              <a:path w="3796" h="2655">
                <a:moveTo>
                  <a:pt x="1984" y="15949"/>
                </a:moveTo>
                <a:cubicBezTo>
                  <a:pt x="2220" y="15949"/>
                  <a:pt x="2422" y="16007"/>
                  <a:pt x="2654" y="16049"/>
                </a:cubicBezTo>
                <a:cubicBezTo>
                  <a:pt x="2794" y="16068"/>
                  <a:pt x="2819" y="16076"/>
                  <a:pt x="2902" y="16073"/>
                </a:cubicBezTo>
              </a:path>
              <a:path w="3796" h="2655">
                <a:moveTo>
                  <a:pt x="2208" y="16098"/>
                </a:moveTo>
                <a:cubicBezTo>
                  <a:pt x="2208" y="16182"/>
                  <a:pt x="2186" y="16261"/>
                  <a:pt x="2183" y="16346"/>
                </a:cubicBezTo>
                <a:cubicBezTo>
                  <a:pt x="2178" y="16465"/>
                  <a:pt x="2423" y="16433"/>
                  <a:pt x="2505" y="16421"/>
                </a:cubicBezTo>
                <a:cubicBezTo>
                  <a:pt x="2573" y="16411"/>
                  <a:pt x="2588" y="16388"/>
                  <a:pt x="2629" y="16346"/>
                </a:cubicBezTo>
              </a:path>
              <a:path w="3796" h="2655">
                <a:moveTo>
                  <a:pt x="2604" y="16222"/>
                </a:moveTo>
                <a:cubicBezTo>
                  <a:pt x="2584" y="16347"/>
                  <a:pt x="2558" y="16464"/>
                  <a:pt x="2555" y="16594"/>
                </a:cubicBezTo>
                <a:cubicBezTo>
                  <a:pt x="2553" y="16660"/>
                  <a:pt x="2555" y="16727"/>
                  <a:pt x="2555" y="16793"/>
                </a:cubicBezTo>
              </a:path>
              <a:path w="3796" h="2655">
                <a:moveTo>
                  <a:pt x="4688" y="15429"/>
                </a:moveTo>
                <a:cubicBezTo>
                  <a:pt x="4554" y="15486"/>
                  <a:pt x="4453" y="15537"/>
                  <a:pt x="4341" y="15627"/>
                </a:cubicBezTo>
                <a:cubicBezTo>
                  <a:pt x="4429" y="15680"/>
                  <a:pt x="4755" y="15750"/>
                  <a:pt x="4663" y="15925"/>
                </a:cubicBezTo>
                <a:cubicBezTo>
                  <a:pt x="4547" y="16017"/>
                  <a:pt x="4517" y="16052"/>
                  <a:pt x="4415" y="15999"/>
                </a:cubicBezTo>
                <a:cubicBezTo>
                  <a:pt x="4460" y="15828"/>
                  <a:pt x="4533" y="15732"/>
                  <a:pt x="4663" y="15602"/>
                </a:cubicBezTo>
              </a:path>
              <a:path w="3796" h="2655">
                <a:moveTo>
                  <a:pt x="4167" y="16098"/>
                </a:moveTo>
                <a:cubicBezTo>
                  <a:pt x="4403" y="16039"/>
                  <a:pt x="4618" y="16005"/>
                  <a:pt x="4862" y="15999"/>
                </a:cubicBezTo>
                <a:cubicBezTo>
                  <a:pt x="4903" y="15999"/>
                  <a:pt x="4919" y="15991"/>
                  <a:pt x="4911" y="16024"/>
                </a:cubicBezTo>
              </a:path>
              <a:path w="3796" h="2655">
                <a:moveTo>
                  <a:pt x="4266" y="16396"/>
                </a:moveTo>
                <a:cubicBezTo>
                  <a:pt x="4266" y="16321"/>
                  <a:pt x="4273" y="16496"/>
                  <a:pt x="4266" y="16570"/>
                </a:cubicBezTo>
                <a:cubicBezTo>
                  <a:pt x="4259" y="16640"/>
                  <a:pt x="4148" y="16886"/>
                  <a:pt x="4192" y="16842"/>
                </a:cubicBezTo>
              </a:path>
              <a:path w="3796" h="2655">
                <a:moveTo>
                  <a:pt x="4688" y="16396"/>
                </a:moveTo>
                <a:cubicBezTo>
                  <a:pt x="4661" y="16556"/>
                  <a:pt x="4638" y="16705"/>
                  <a:pt x="4638" y="16867"/>
                </a:cubicBezTo>
              </a:path>
              <a:path w="3796" h="2655">
                <a:moveTo>
                  <a:pt x="3299" y="15949"/>
                </a:moveTo>
                <a:cubicBezTo>
                  <a:pt x="3323" y="16047"/>
                  <a:pt x="3434" y="16119"/>
                  <a:pt x="3497" y="16197"/>
                </a:cubicBezTo>
                <a:cubicBezTo>
                  <a:pt x="3535" y="16254"/>
                  <a:pt x="3530" y="16279"/>
                  <a:pt x="3572" y="16272"/>
                </a:cubicBezTo>
              </a:path>
              <a:path w="3796" h="2655">
                <a:moveTo>
                  <a:pt x="3572" y="15974"/>
                </a:moveTo>
                <a:cubicBezTo>
                  <a:pt x="3441" y="16099"/>
                  <a:pt x="3307" y="16221"/>
                  <a:pt x="3175" y="16346"/>
                </a:cubicBezTo>
              </a:path>
              <a:path w="3796" h="2655">
                <a:moveTo>
                  <a:pt x="2753" y="16867"/>
                </a:moveTo>
                <a:cubicBezTo>
                  <a:pt x="2731" y="16845"/>
                  <a:pt x="2723" y="16840"/>
                  <a:pt x="2729" y="16818"/>
                </a:cubicBezTo>
                <a:cubicBezTo>
                  <a:pt x="2789" y="16834"/>
                  <a:pt x="2817" y="16842"/>
                  <a:pt x="2877" y="16842"/>
                </a:cubicBezTo>
              </a:path>
              <a:path w="3796" h="2655">
                <a:moveTo>
                  <a:pt x="2803" y="16619"/>
                </a:moveTo>
                <a:lnTo>
                  <a:pt x="2803" y="16619"/>
                </a:lnTo>
              </a:path>
              <a:path w="3796" h="2655">
                <a:moveTo>
                  <a:pt x="2803" y="17115"/>
                </a:moveTo>
                <a:cubicBezTo>
                  <a:pt x="2803" y="17148"/>
                  <a:pt x="2811" y="17157"/>
                  <a:pt x="2853" y="17140"/>
                </a:cubicBezTo>
              </a:path>
              <a:path w="3796" h="2655">
                <a:moveTo>
                  <a:pt x="3076" y="16768"/>
                </a:moveTo>
                <a:cubicBezTo>
                  <a:pt x="3083" y="16778"/>
                  <a:pt x="3045" y="16896"/>
                  <a:pt x="3125" y="16892"/>
                </a:cubicBezTo>
                <a:cubicBezTo>
                  <a:pt x="3181" y="16889"/>
                  <a:pt x="3251" y="16848"/>
                  <a:pt x="3274" y="16818"/>
                </a:cubicBezTo>
              </a:path>
              <a:path w="3796" h="2655">
                <a:moveTo>
                  <a:pt x="3274" y="16644"/>
                </a:moveTo>
                <a:cubicBezTo>
                  <a:pt x="3245" y="16779"/>
                  <a:pt x="3252" y="16882"/>
                  <a:pt x="3274" y="17016"/>
                </a:cubicBezTo>
                <a:cubicBezTo>
                  <a:pt x="3274" y="17024"/>
                  <a:pt x="3274" y="17033"/>
                  <a:pt x="3274" y="17041"/>
                </a:cubicBezTo>
              </a:path>
              <a:path w="3796" h="2655">
                <a:moveTo>
                  <a:pt x="4986" y="15602"/>
                </a:moveTo>
                <a:cubicBezTo>
                  <a:pt x="5047" y="15594"/>
                  <a:pt x="5095" y="15577"/>
                  <a:pt x="5159" y="15577"/>
                </a:cubicBezTo>
              </a:path>
              <a:path w="3796" h="2655">
                <a:moveTo>
                  <a:pt x="4986" y="15404"/>
                </a:moveTo>
                <a:cubicBezTo>
                  <a:pt x="4986" y="15471"/>
                  <a:pt x="4993" y="15520"/>
                  <a:pt x="5011" y="15577"/>
                </a:cubicBezTo>
              </a:path>
              <a:path w="3796" h="2655">
                <a:moveTo>
                  <a:pt x="4986" y="15776"/>
                </a:moveTo>
                <a:cubicBezTo>
                  <a:pt x="4986" y="15801"/>
                  <a:pt x="4986" y="15809"/>
                  <a:pt x="5011" y="15801"/>
                </a:cubicBezTo>
              </a:path>
              <a:path w="3796" h="2655">
                <a:moveTo>
                  <a:pt x="5011" y="15801"/>
                </a:moveTo>
                <a:lnTo>
                  <a:pt x="5011" y="15801"/>
                </a:lnTo>
              </a:path>
              <a:path w="3796" h="2655">
                <a:moveTo>
                  <a:pt x="5333" y="15453"/>
                </a:moveTo>
                <a:cubicBezTo>
                  <a:pt x="5398" y="15475"/>
                  <a:pt x="5326" y="15594"/>
                  <a:pt x="5308" y="15652"/>
                </a:cubicBezTo>
                <a:cubicBezTo>
                  <a:pt x="5397" y="15652"/>
                  <a:pt x="5471" y="15628"/>
                  <a:pt x="5556" y="15602"/>
                </a:cubicBezTo>
              </a:path>
              <a:path w="3796" h="2655">
                <a:moveTo>
                  <a:pt x="5556" y="15379"/>
                </a:moveTo>
                <a:cubicBezTo>
                  <a:pt x="5556" y="15488"/>
                  <a:pt x="5531" y="15621"/>
                  <a:pt x="5507" y="15726"/>
                </a:cubicBezTo>
                <a:cubicBezTo>
                  <a:pt x="5487" y="15767"/>
                  <a:pt x="5478" y="15773"/>
                  <a:pt x="5482" y="15801"/>
                </a:cubicBezTo>
              </a:path>
              <a:path w="3796" h="2655">
                <a:moveTo>
                  <a:pt x="4961" y="15701"/>
                </a:moveTo>
                <a:cubicBezTo>
                  <a:pt x="4882" y="15706"/>
                  <a:pt x="4816" y="15715"/>
                  <a:pt x="4738" y="15726"/>
                </a:cubicBezTo>
              </a:path>
              <a:path w="3796" h="2655">
                <a:moveTo>
                  <a:pt x="4440" y="15850"/>
                </a:moveTo>
                <a:cubicBezTo>
                  <a:pt x="4339" y="15799"/>
                  <a:pt x="4601" y="15790"/>
                  <a:pt x="4713" y="15776"/>
                </a:cubicBezTo>
                <a:cubicBezTo>
                  <a:pt x="5057" y="15733"/>
                  <a:pt x="5374" y="15697"/>
                  <a:pt x="5705" y="15602"/>
                </a:cubicBezTo>
                <a:cubicBezTo>
                  <a:pt x="5713" y="15602"/>
                  <a:pt x="5722" y="15602"/>
                  <a:pt x="5730" y="15602"/>
                </a:cubicBezTo>
              </a:path>
              <a:path w="3796" h="2655">
                <a:moveTo>
                  <a:pt x="4564" y="14808"/>
                </a:moveTo>
                <a:cubicBezTo>
                  <a:pt x="4646" y="14706"/>
                  <a:pt x="4731" y="14711"/>
                  <a:pt x="4837" y="14759"/>
                </a:cubicBezTo>
                <a:cubicBezTo>
                  <a:pt x="4772" y="14936"/>
                  <a:pt x="4698" y="15048"/>
                  <a:pt x="4564" y="15180"/>
                </a:cubicBezTo>
                <a:cubicBezTo>
                  <a:pt x="4703" y="15180"/>
                  <a:pt x="4823" y="15141"/>
                  <a:pt x="4961" y="15131"/>
                </a:cubicBezTo>
                <a:cubicBezTo>
                  <a:pt x="4969" y="15131"/>
                  <a:pt x="4978" y="15131"/>
                  <a:pt x="4986" y="15131"/>
                </a:cubicBezTo>
              </a:path>
              <a:path w="3796" h="2655">
                <a:moveTo>
                  <a:pt x="2282" y="16396"/>
                </a:moveTo>
                <a:cubicBezTo>
                  <a:pt x="2432" y="16521"/>
                  <a:pt x="2586" y="16615"/>
                  <a:pt x="2753" y="16718"/>
                </a:cubicBezTo>
                <a:cubicBezTo>
                  <a:pt x="2923" y="16822"/>
                  <a:pt x="3109" y="16928"/>
                  <a:pt x="3299" y="16991"/>
                </a:cubicBezTo>
                <a:cubicBezTo>
                  <a:pt x="3324" y="16991"/>
                  <a:pt x="3332" y="16991"/>
                  <a:pt x="3324" y="17016"/>
                </a:cubicBezTo>
              </a:path>
              <a:path w="3796" h="2655">
                <a:moveTo>
                  <a:pt x="2034" y="16743"/>
                </a:moveTo>
                <a:cubicBezTo>
                  <a:pt x="2034" y="16929"/>
                  <a:pt x="2023" y="17106"/>
                  <a:pt x="2009" y="17289"/>
                </a:cubicBezTo>
                <a:cubicBezTo>
                  <a:pt x="2009" y="17314"/>
                  <a:pt x="2009" y="17338"/>
                  <a:pt x="2009" y="173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5500800"/>
            <a:ext cx="822240" cy="1349280"/>
          </a:xfrm>
          <a:custGeom>
            <a:avLst/>
            <a:gdLst/>
            <a:ahLst/>
            <a:rect l="l" t="t" r="r" b="b"/>
            <a:pathLst>
              <a:path w="2283" h="3746">
                <a:moveTo>
                  <a:pt x="5953" y="16098"/>
                </a:moveTo>
                <a:cubicBezTo>
                  <a:pt x="5945" y="16106"/>
                  <a:pt x="5936" y="16115"/>
                  <a:pt x="5928" y="16123"/>
                </a:cubicBezTo>
                <a:cubicBezTo>
                  <a:pt x="6023" y="16123"/>
                  <a:pt x="6108" y="16142"/>
                  <a:pt x="6201" y="16148"/>
                </a:cubicBezTo>
                <a:cubicBezTo>
                  <a:pt x="6239" y="16151"/>
                  <a:pt x="6226" y="16162"/>
                  <a:pt x="6226" y="16197"/>
                </a:cubicBezTo>
              </a:path>
              <a:path w="2283" h="3746">
                <a:moveTo>
                  <a:pt x="5928" y="16470"/>
                </a:moveTo>
                <a:cubicBezTo>
                  <a:pt x="5946" y="16524"/>
                  <a:pt x="6066" y="16527"/>
                  <a:pt x="6127" y="16520"/>
                </a:cubicBezTo>
                <a:cubicBezTo>
                  <a:pt x="6209" y="16511"/>
                  <a:pt x="6232" y="16463"/>
                  <a:pt x="6251" y="16520"/>
                </a:cubicBezTo>
              </a:path>
              <a:path w="2283" h="3746">
                <a:moveTo>
                  <a:pt x="7144" y="15503"/>
                </a:moveTo>
                <a:lnTo>
                  <a:pt x="7144" y="15503"/>
                </a:lnTo>
              </a:path>
              <a:path w="2283" h="3746">
                <a:moveTo>
                  <a:pt x="7144" y="15503"/>
                </a:moveTo>
                <a:cubicBezTo>
                  <a:pt x="7144" y="15511"/>
                  <a:pt x="7144" y="15520"/>
                  <a:pt x="7144" y="15528"/>
                </a:cubicBezTo>
              </a:path>
              <a:path w="2283" h="3746">
                <a:moveTo>
                  <a:pt x="7144" y="15528"/>
                </a:moveTo>
                <a:lnTo>
                  <a:pt x="7144" y="15528"/>
                </a:lnTo>
              </a:path>
              <a:path w="2283" h="3746">
                <a:moveTo>
                  <a:pt x="7119" y="15553"/>
                </a:moveTo>
                <a:cubicBezTo>
                  <a:pt x="7130" y="15521"/>
                  <a:pt x="7141" y="15515"/>
                  <a:pt x="7169" y="15478"/>
                </a:cubicBezTo>
                <a:cubicBezTo>
                  <a:pt x="7155" y="15586"/>
                  <a:pt x="7088" y="15674"/>
                  <a:pt x="7045" y="15776"/>
                </a:cubicBezTo>
                <a:cubicBezTo>
                  <a:pt x="7162" y="15768"/>
                  <a:pt x="7273" y="15751"/>
                  <a:pt x="7392" y="15751"/>
                </a:cubicBezTo>
              </a:path>
              <a:path w="2283" h="3746">
                <a:moveTo>
                  <a:pt x="7441" y="15280"/>
                </a:moveTo>
                <a:cubicBezTo>
                  <a:pt x="7369" y="15514"/>
                  <a:pt x="7331" y="15763"/>
                  <a:pt x="7268" y="15999"/>
                </a:cubicBezTo>
                <a:cubicBezTo>
                  <a:pt x="7260" y="16016"/>
                  <a:pt x="7251" y="16032"/>
                  <a:pt x="7243" y="16049"/>
                </a:cubicBezTo>
              </a:path>
              <a:path w="2283" h="3746">
                <a:moveTo>
                  <a:pt x="7665" y="15304"/>
                </a:moveTo>
                <a:cubicBezTo>
                  <a:pt x="7645" y="15498"/>
                  <a:pt x="7518" y="15732"/>
                  <a:pt x="7541" y="15925"/>
                </a:cubicBezTo>
                <a:cubicBezTo>
                  <a:pt x="7557" y="15950"/>
                  <a:pt x="7574" y="15974"/>
                  <a:pt x="7590" y="15999"/>
                </a:cubicBezTo>
                <a:cubicBezTo>
                  <a:pt x="7784" y="16043"/>
                  <a:pt x="7963" y="16023"/>
                  <a:pt x="7987" y="15776"/>
                </a:cubicBezTo>
                <a:cubicBezTo>
                  <a:pt x="7979" y="15759"/>
                  <a:pt x="7970" y="15743"/>
                  <a:pt x="7962" y="15726"/>
                </a:cubicBezTo>
                <a:cubicBezTo>
                  <a:pt x="7805" y="15810"/>
                  <a:pt x="7771" y="15883"/>
                  <a:pt x="7739" y="16073"/>
                </a:cubicBezTo>
              </a:path>
              <a:path w="2283" h="3746">
                <a:moveTo>
                  <a:pt x="7069" y="16173"/>
                </a:moveTo>
                <a:cubicBezTo>
                  <a:pt x="7342" y="16138"/>
                  <a:pt x="7613" y="16104"/>
                  <a:pt x="7888" y="16098"/>
                </a:cubicBezTo>
                <a:cubicBezTo>
                  <a:pt x="7921" y="16098"/>
                  <a:pt x="7954" y="16098"/>
                  <a:pt x="7987" y="16098"/>
                </a:cubicBezTo>
              </a:path>
              <a:path w="2283" h="3746">
                <a:moveTo>
                  <a:pt x="7243" y="16321"/>
                </a:moveTo>
                <a:cubicBezTo>
                  <a:pt x="7190" y="16501"/>
                  <a:pt x="7153" y="16684"/>
                  <a:pt x="7119" y="16867"/>
                </a:cubicBezTo>
                <a:cubicBezTo>
                  <a:pt x="7108" y="16929"/>
                  <a:pt x="7207" y="16758"/>
                  <a:pt x="7218" y="16743"/>
                </a:cubicBezTo>
              </a:path>
              <a:path w="2283" h="3746">
                <a:moveTo>
                  <a:pt x="7640" y="16371"/>
                </a:moveTo>
                <a:cubicBezTo>
                  <a:pt x="7640" y="16534"/>
                  <a:pt x="7610" y="16682"/>
                  <a:pt x="7590" y="16842"/>
                </a:cubicBezTo>
                <a:cubicBezTo>
                  <a:pt x="7590" y="16859"/>
                  <a:pt x="7590" y="16875"/>
                  <a:pt x="7590" y="16892"/>
                </a:cubicBezTo>
              </a:path>
              <a:path w="2283" h="3746">
                <a:moveTo>
                  <a:pt x="7094" y="17735"/>
                </a:moveTo>
                <a:cubicBezTo>
                  <a:pt x="7094" y="17849"/>
                  <a:pt x="7044" y="17947"/>
                  <a:pt x="7020" y="18058"/>
                </a:cubicBezTo>
                <a:cubicBezTo>
                  <a:pt x="7020" y="18066"/>
                  <a:pt x="7020" y="18075"/>
                  <a:pt x="7020" y="18083"/>
                </a:cubicBezTo>
                <a:cubicBezTo>
                  <a:pt x="7150" y="18047"/>
                  <a:pt x="7347" y="17947"/>
                  <a:pt x="7441" y="17983"/>
                </a:cubicBezTo>
              </a:path>
              <a:path w="2283" h="3746">
                <a:moveTo>
                  <a:pt x="7367" y="17661"/>
                </a:moveTo>
                <a:cubicBezTo>
                  <a:pt x="7325" y="17890"/>
                  <a:pt x="7300" y="18124"/>
                  <a:pt x="7268" y="18355"/>
                </a:cubicBezTo>
                <a:cubicBezTo>
                  <a:pt x="7268" y="18406"/>
                  <a:pt x="7274" y="18389"/>
                  <a:pt x="7293" y="18281"/>
                </a:cubicBezTo>
              </a:path>
              <a:path w="2283" h="3746">
                <a:moveTo>
                  <a:pt x="7615" y="17661"/>
                </a:moveTo>
                <a:cubicBezTo>
                  <a:pt x="7603" y="17868"/>
                  <a:pt x="7504" y="18101"/>
                  <a:pt x="7541" y="18306"/>
                </a:cubicBezTo>
                <a:cubicBezTo>
                  <a:pt x="7557" y="18331"/>
                  <a:pt x="7574" y="18355"/>
                  <a:pt x="7590" y="18380"/>
                </a:cubicBezTo>
                <a:cubicBezTo>
                  <a:pt x="7811" y="18289"/>
                  <a:pt x="7838" y="18221"/>
                  <a:pt x="7863" y="17983"/>
                </a:cubicBezTo>
                <a:cubicBezTo>
                  <a:pt x="7750" y="18097"/>
                  <a:pt x="7710" y="18244"/>
                  <a:pt x="7590" y="18331"/>
                </a:cubicBezTo>
              </a:path>
              <a:path w="2283" h="3746">
                <a:moveTo>
                  <a:pt x="6896" y="18331"/>
                </a:moveTo>
                <a:cubicBezTo>
                  <a:pt x="6914" y="18060"/>
                  <a:pt x="6833" y="17822"/>
                  <a:pt x="6821" y="17562"/>
                </a:cubicBezTo>
                <a:cubicBezTo>
                  <a:pt x="6840" y="17504"/>
                  <a:pt x="6849" y="17497"/>
                  <a:pt x="6846" y="17462"/>
                </a:cubicBezTo>
                <a:cubicBezTo>
                  <a:pt x="6991" y="17382"/>
                  <a:pt x="7099" y="17432"/>
                  <a:pt x="7268" y="17438"/>
                </a:cubicBezTo>
                <a:cubicBezTo>
                  <a:pt x="7544" y="17448"/>
                  <a:pt x="7812" y="17406"/>
                  <a:pt x="8086" y="17388"/>
                </a:cubicBezTo>
              </a:path>
              <a:path w="2283" h="3746">
                <a:moveTo>
                  <a:pt x="6077" y="17636"/>
                </a:moveTo>
                <a:cubicBezTo>
                  <a:pt x="6036" y="17834"/>
                  <a:pt x="5944" y="18083"/>
                  <a:pt x="5953" y="18281"/>
                </a:cubicBezTo>
                <a:cubicBezTo>
                  <a:pt x="5983" y="18311"/>
                  <a:pt x="5994" y="18313"/>
                  <a:pt x="6003" y="18256"/>
                </a:cubicBezTo>
              </a:path>
              <a:path w="2283" h="3746">
                <a:moveTo>
                  <a:pt x="6375" y="17711"/>
                </a:moveTo>
                <a:cubicBezTo>
                  <a:pt x="6375" y="17938"/>
                  <a:pt x="6366" y="18136"/>
                  <a:pt x="6325" y="18355"/>
                </a:cubicBezTo>
                <a:cubicBezTo>
                  <a:pt x="6325" y="18363"/>
                  <a:pt x="6325" y="18372"/>
                  <a:pt x="6325" y="18380"/>
                </a:cubicBezTo>
              </a:path>
              <a:path w="2283" h="3746">
                <a:moveTo>
                  <a:pt x="7665" y="16942"/>
                </a:moveTo>
                <a:cubicBezTo>
                  <a:pt x="7631" y="17032"/>
                  <a:pt x="7603" y="17096"/>
                  <a:pt x="7590" y="17190"/>
                </a:cubicBezTo>
                <a:cubicBezTo>
                  <a:pt x="7696" y="17190"/>
                  <a:pt x="7806" y="17164"/>
                  <a:pt x="7888" y="17090"/>
                </a:cubicBezTo>
                <a:cubicBezTo>
                  <a:pt x="7888" y="17082"/>
                  <a:pt x="7888" y="17074"/>
                  <a:pt x="7888" y="17066"/>
                </a:cubicBezTo>
              </a:path>
              <a:path w="2283" h="3746">
                <a:moveTo>
                  <a:pt x="7888" y="16694"/>
                </a:moveTo>
                <a:cubicBezTo>
                  <a:pt x="7853" y="16937"/>
                  <a:pt x="7816" y="17173"/>
                  <a:pt x="7764" y="17413"/>
                </a:cubicBezTo>
              </a:path>
              <a:path w="2283" h="3746">
                <a:moveTo>
                  <a:pt x="7169" y="18479"/>
                </a:moveTo>
                <a:lnTo>
                  <a:pt x="7169" y="18455"/>
                </a:lnTo>
                <a:lnTo>
                  <a:pt x="7144" y="18479"/>
                </a:lnTo>
                <a:lnTo>
                  <a:pt x="7119" y="18529"/>
                </a:lnTo>
                <a:lnTo>
                  <a:pt x="7094" y="18579"/>
                </a:lnTo>
                <a:lnTo>
                  <a:pt x="7069" y="18604"/>
                </a:lnTo>
                <a:lnTo>
                  <a:pt x="7069" y="18604"/>
                </a:lnTo>
                <a:lnTo>
                  <a:pt x="7144" y="18604"/>
                </a:lnTo>
                <a:lnTo>
                  <a:pt x="7268" y="18579"/>
                </a:lnTo>
                <a:lnTo>
                  <a:pt x="7342" y="18554"/>
                </a:lnTo>
                <a:lnTo>
                  <a:pt x="7367" y="18554"/>
                </a:lnTo>
                <a:lnTo>
                  <a:pt x="7342" y="18504"/>
                </a:lnTo>
                <a:lnTo>
                  <a:pt x="7317" y="18455"/>
                </a:lnTo>
                <a:lnTo>
                  <a:pt x="7317" y="18455"/>
                </a:lnTo>
                <a:lnTo>
                  <a:pt x="7317" y="18479"/>
                </a:lnTo>
                <a:lnTo>
                  <a:pt x="7317" y="18604"/>
                </a:lnTo>
                <a:lnTo>
                  <a:pt x="7293" y="18752"/>
                </a:lnTo>
                <a:lnTo>
                  <a:pt x="7293" y="18827"/>
                </a:lnTo>
                <a:lnTo>
                  <a:pt x="7293" y="18802"/>
                </a:lnTo>
              </a:path>
              <a:path w="2283" h="3746">
                <a:moveTo>
                  <a:pt x="7541" y="18504"/>
                </a:moveTo>
                <a:cubicBezTo>
                  <a:pt x="7541" y="18579"/>
                  <a:pt x="7541" y="18653"/>
                  <a:pt x="7541" y="18728"/>
                </a:cubicBezTo>
                <a:cubicBezTo>
                  <a:pt x="7687" y="18742"/>
                  <a:pt x="7669" y="18702"/>
                  <a:pt x="7764" y="18579"/>
                </a:cubicBezTo>
              </a:path>
              <a:path w="2283" h="3746">
                <a:moveTo>
                  <a:pt x="7789" y="18380"/>
                </a:moveTo>
                <a:cubicBezTo>
                  <a:pt x="7757" y="18525"/>
                  <a:pt x="7723" y="18669"/>
                  <a:pt x="7665" y="18802"/>
                </a:cubicBezTo>
              </a:path>
              <a:path w="2283" h="3746">
                <a:moveTo>
                  <a:pt x="7665" y="18802"/>
                </a:moveTo>
                <a:lnTo>
                  <a:pt x="7665" y="18802"/>
                </a:lnTo>
              </a:path>
              <a:path w="2283" h="3746">
                <a:moveTo>
                  <a:pt x="6921" y="18852"/>
                </a:moveTo>
                <a:cubicBezTo>
                  <a:pt x="7191" y="18823"/>
                  <a:pt x="7467" y="18797"/>
                  <a:pt x="7739" y="18777"/>
                </a:cubicBezTo>
                <a:cubicBezTo>
                  <a:pt x="7833" y="18777"/>
                  <a:pt x="7854" y="18756"/>
                  <a:pt x="7888" y="18802"/>
                </a:cubicBezTo>
              </a:path>
              <a:path w="2283" h="3746">
                <a:moveTo>
                  <a:pt x="7739" y="18876"/>
                </a:moveTo>
                <a:cubicBezTo>
                  <a:pt x="7813" y="18876"/>
                  <a:pt x="7888" y="18876"/>
                  <a:pt x="7962" y="18876"/>
                </a:cubicBezTo>
                <a:cubicBezTo>
                  <a:pt x="7899" y="18898"/>
                  <a:pt x="7864" y="18931"/>
                  <a:pt x="7813" y="18976"/>
                </a:cubicBezTo>
                <a:cubicBezTo>
                  <a:pt x="7902" y="19045"/>
                  <a:pt x="8040" y="19014"/>
                  <a:pt x="8161" y="18976"/>
                </a:cubicBezTo>
                <a:cubicBezTo>
                  <a:pt x="8177" y="18968"/>
                  <a:pt x="8194" y="18959"/>
                  <a:pt x="8210" y="189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43160" y="6259680"/>
            <a:ext cx="135000" cy="14256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8830" y="17388"/>
                </a:moveTo>
                <a:cubicBezTo>
                  <a:pt x="8770" y="17465"/>
                  <a:pt x="8669" y="17667"/>
                  <a:pt x="8731" y="17760"/>
                </a:cubicBezTo>
                <a:cubicBezTo>
                  <a:pt x="8795" y="17856"/>
                  <a:pt x="9036" y="17711"/>
                  <a:pt x="9103" y="176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32080" y="6259680"/>
            <a:ext cx="46080" cy="268200"/>
          </a:xfrm>
          <a:custGeom>
            <a:avLst/>
            <a:gdLst/>
            <a:ahLst/>
            <a:rect l="l" t="t" r="r" b="b"/>
            <a:pathLst>
              <a:path w="125" h="745">
                <a:moveTo>
                  <a:pt x="9103" y="17388"/>
                </a:moveTo>
                <a:cubicBezTo>
                  <a:pt x="9067" y="17629"/>
                  <a:pt x="9015" y="17866"/>
                  <a:pt x="8979" y="18107"/>
                </a:cubicBezTo>
                <a:cubicBezTo>
                  <a:pt x="8979" y="18132"/>
                  <a:pt x="8979" y="18140"/>
                  <a:pt x="8979" y="181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11360" y="6081840"/>
            <a:ext cx="98640" cy="115920"/>
          </a:xfrm>
          <a:custGeom>
            <a:avLst/>
            <a:gdLst/>
            <a:ahLst/>
            <a:rect l="l" t="t" r="r" b="b"/>
            <a:pathLst>
              <a:path w="274" h="323">
                <a:moveTo>
                  <a:pt x="9500" y="16942"/>
                </a:moveTo>
                <a:cubicBezTo>
                  <a:pt x="9454" y="16896"/>
                  <a:pt x="9630" y="16910"/>
                  <a:pt x="9674" y="16917"/>
                </a:cubicBezTo>
                <a:cubicBezTo>
                  <a:pt x="9659" y="17064"/>
                  <a:pt x="9604" y="17111"/>
                  <a:pt x="9500" y="17214"/>
                </a:cubicBezTo>
                <a:cubicBezTo>
                  <a:pt x="9576" y="17214"/>
                  <a:pt x="9647" y="17194"/>
                  <a:pt x="9723" y="17190"/>
                </a:cubicBezTo>
                <a:cubicBezTo>
                  <a:pt x="9731" y="17190"/>
                  <a:pt x="9740" y="17190"/>
                  <a:pt x="9748" y="171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11360" y="6269040"/>
            <a:ext cx="142920" cy="27000"/>
          </a:xfrm>
          <a:custGeom>
            <a:avLst/>
            <a:gdLst/>
            <a:ahLst/>
            <a:rect l="l" t="t" r="r" b="b"/>
            <a:pathLst>
              <a:path w="398" h="75">
                <a:moveTo>
                  <a:pt x="9475" y="17487"/>
                </a:moveTo>
                <a:cubicBezTo>
                  <a:pt x="9602" y="17448"/>
                  <a:pt x="9738" y="17425"/>
                  <a:pt x="9872" y="174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84720" y="6348240"/>
            <a:ext cx="26640" cy="135000"/>
          </a:xfrm>
          <a:custGeom>
            <a:avLst/>
            <a:gdLst/>
            <a:ahLst/>
            <a:rect l="l" t="t" r="r" b="b"/>
            <a:pathLst>
              <a:path w="75" h="373">
                <a:moveTo>
                  <a:pt x="9475" y="17636"/>
                </a:moveTo>
                <a:cubicBezTo>
                  <a:pt x="9460" y="17758"/>
                  <a:pt x="9448" y="17893"/>
                  <a:pt x="9401" y="18008"/>
                </a:cubicBezTo>
                <a:cubicBezTo>
                  <a:pt x="9401" y="17962"/>
                  <a:pt x="9413" y="17935"/>
                  <a:pt x="9451" y="179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0920" y="6340320"/>
            <a:ext cx="19080" cy="125640"/>
          </a:xfrm>
          <a:custGeom>
            <a:avLst/>
            <a:gdLst/>
            <a:ahLst/>
            <a:rect l="l" t="t" r="r" b="b"/>
            <a:pathLst>
              <a:path w="50" h="349">
                <a:moveTo>
                  <a:pt x="9748" y="17611"/>
                </a:moveTo>
                <a:cubicBezTo>
                  <a:pt x="9748" y="17702"/>
                  <a:pt x="9781" y="17897"/>
                  <a:pt x="9699" y="17959"/>
                </a:cubicBezTo>
                <a:cubicBezTo>
                  <a:pt x="9699" y="17951"/>
                  <a:pt x="9699" y="17942"/>
                  <a:pt x="9699" y="179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0920" y="6456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9699" y="17934"/>
                </a:moveTo>
                <a:lnTo>
                  <a:pt x="9699" y="1793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27240" y="5902200"/>
            <a:ext cx="803520" cy="696960"/>
          </a:xfrm>
          <a:custGeom>
            <a:avLst/>
            <a:gdLst/>
            <a:ahLst/>
            <a:rect l="l" t="t" r="r" b="b"/>
            <a:pathLst>
              <a:path w="2233" h="1936">
                <a:moveTo>
                  <a:pt x="8830" y="18058"/>
                </a:moveTo>
                <a:cubicBezTo>
                  <a:pt x="9089" y="18330"/>
                  <a:pt x="9240" y="18383"/>
                  <a:pt x="9624" y="18256"/>
                </a:cubicBezTo>
                <a:cubicBezTo>
                  <a:pt x="10069" y="18108"/>
                  <a:pt x="10526" y="17803"/>
                  <a:pt x="10641" y="17314"/>
                </a:cubicBezTo>
                <a:cubicBezTo>
                  <a:pt x="10777" y="16736"/>
                  <a:pt x="10224" y="16403"/>
                  <a:pt x="9723" y="16396"/>
                </a:cubicBezTo>
                <a:cubicBezTo>
                  <a:pt x="9026" y="16387"/>
                  <a:pt x="8505" y="16803"/>
                  <a:pt x="8409" y="17487"/>
                </a:cubicBezTo>
                <a:cubicBezTo>
                  <a:pt x="8325" y="18085"/>
                  <a:pt x="8652" y="18441"/>
                  <a:pt x="9227" y="18207"/>
                </a:cubicBezTo>
                <a:cubicBezTo>
                  <a:pt x="9326" y="18141"/>
                  <a:pt x="9426" y="18074"/>
                  <a:pt x="9525" y="180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41840" y="3956040"/>
            <a:ext cx="98280" cy="125280"/>
          </a:xfrm>
          <a:custGeom>
            <a:avLst/>
            <a:gdLst/>
            <a:ahLst/>
            <a:rect l="l" t="t" r="r" b="b"/>
            <a:pathLst>
              <a:path w="274" h="349">
                <a:moveTo>
                  <a:pt x="10393" y="11038"/>
                </a:moveTo>
                <a:cubicBezTo>
                  <a:pt x="10495" y="10962"/>
                  <a:pt x="10551" y="11131"/>
                  <a:pt x="10616" y="11187"/>
                </a:cubicBezTo>
                <a:cubicBezTo>
                  <a:pt x="10633" y="11195"/>
                  <a:pt x="10649" y="11204"/>
                  <a:pt x="10666" y="11212"/>
                </a:cubicBezTo>
              </a:path>
              <a:path w="274" h="349">
                <a:moveTo>
                  <a:pt x="10641" y="10988"/>
                </a:moveTo>
                <a:cubicBezTo>
                  <a:pt x="10542" y="11162"/>
                  <a:pt x="10509" y="11220"/>
                  <a:pt x="10443" y="113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21040" y="3340080"/>
            <a:ext cx="73080" cy="54000"/>
          </a:xfrm>
          <a:custGeom>
            <a:avLst/>
            <a:gdLst/>
            <a:ahLst/>
            <a:rect l="l" t="t" r="r" b="b"/>
            <a:pathLst>
              <a:path w="200" h="150">
                <a:moveTo>
                  <a:pt x="10765" y="9376"/>
                </a:moveTo>
                <a:cubicBezTo>
                  <a:pt x="10765" y="9393"/>
                  <a:pt x="10765" y="9409"/>
                  <a:pt x="10765" y="9426"/>
                </a:cubicBezTo>
              </a:path>
              <a:path w="200" h="150">
                <a:moveTo>
                  <a:pt x="10616" y="9351"/>
                </a:moveTo>
                <a:cubicBezTo>
                  <a:pt x="10708" y="9321"/>
                  <a:pt x="10750" y="9307"/>
                  <a:pt x="10815" y="9277"/>
                </a:cubicBezTo>
              </a:path>
              <a:path w="200" h="150">
                <a:moveTo>
                  <a:pt x="10815" y="9277"/>
                </a:moveTo>
                <a:lnTo>
                  <a:pt x="10815" y="927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91200" y="3830760"/>
            <a:ext cx="268560" cy="260280"/>
          </a:xfrm>
          <a:custGeom>
            <a:avLst/>
            <a:gdLst/>
            <a:ahLst/>
            <a:rect l="l" t="t" r="r" b="b"/>
            <a:pathLst>
              <a:path w="745" h="721">
                <a:moveTo>
                  <a:pt x="19422" y="10740"/>
                </a:moveTo>
                <a:cubicBezTo>
                  <a:pt x="19662" y="10694"/>
                  <a:pt x="19938" y="10628"/>
                  <a:pt x="20166" y="10666"/>
                </a:cubicBezTo>
              </a:path>
              <a:path w="745" h="721">
                <a:moveTo>
                  <a:pt x="19769" y="10864"/>
                </a:moveTo>
                <a:cubicBezTo>
                  <a:pt x="19808" y="11029"/>
                  <a:pt x="19825" y="11197"/>
                  <a:pt x="19869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83280" y="4562640"/>
            <a:ext cx="428760" cy="607680"/>
          </a:xfrm>
          <a:custGeom>
            <a:avLst/>
            <a:gdLst/>
            <a:ahLst/>
            <a:rect l="l" t="t" r="r" b="b"/>
            <a:pathLst>
              <a:path w="1192" h="1688">
                <a:moveTo>
                  <a:pt x="19869" y="12700"/>
                </a:moveTo>
                <a:cubicBezTo>
                  <a:pt x="19689" y="12664"/>
                  <a:pt x="19558" y="12732"/>
                  <a:pt x="19422" y="12849"/>
                </a:cubicBezTo>
                <a:cubicBezTo>
                  <a:pt x="19524" y="12903"/>
                  <a:pt x="20085" y="13090"/>
                  <a:pt x="19794" y="13221"/>
                </a:cubicBezTo>
                <a:cubicBezTo>
                  <a:pt x="19761" y="13221"/>
                  <a:pt x="19728" y="13221"/>
                  <a:pt x="19695" y="13221"/>
                </a:cubicBezTo>
                <a:cubicBezTo>
                  <a:pt x="19707" y="13040"/>
                  <a:pt x="19849" y="12967"/>
                  <a:pt x="19918" y="12799"/>
                </a:cubicBezTo>
                <a:cubicBezTo>
                  <a:pt x="19910" y="12799"/>
                  <a:pt x="19901" y="12799"/>
                  <a:pt x="19893" y="12799"/>
                </a:cubicBezTo>
              </a:path>
              <a:path w="1192" h="1688">
                <a:moveTo>
                  <a:pt x="19397" y="13568"/>
                </a:moveTo>
                <a:cubicBezTo>
                  <a:pt x="19637" y="13581"/>
                  <a:pt x="19854" y="13563"/>
                  <a:pt x="20092" y="13543"/>
                </a:cubicBezTo>
              </a:path>
              <a:path w="1192" h="1688">
                <a:moveTo>
                  <a:pt x="19794" y="13841"/>
                </a:moveTo>
                <a:cubicBezTo>
                  <a:pt x="19856" y="13995"/>
                  <a:pt x="19864" y="14147"/>
                  <a:pt x="19869" y="14312"/>
                </a:cubicBezTo>
                <a:cubicBezTo>
                  <a:pt x="19869" y="14329"/>
                  <a:pt x="19869" y="14345"/>
                  <a:pt x="19869" y="14362"/>
                </a:cubicBezTo>
              </a:path>
              <a:path w="1192" h="1688">
                <a:moveTo>
                  <a:pt x="20290" y="13444"/>
                </a:moveTo>
                <a:cubicBezTo>
                  <a:pt x="20397" y="13562"/>
                  <a:pt x="20495" y="13686"/>
                  <a:pt x="20588" y="13816"/>
                </a:cubicBezTo>
              </a:path>
              <a:path w="1192" h="1688">
                <a:moveTo>
                  <a:pt x="20563" y="13395"/>
                </a:moveTo>
                <a:cubicBezTo>
                  <a:pt x="20506" y="13544"/>
                  <a:pt x="20460" y="13688"/>
                  <a:pt x="20414" y="138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88160" y="3867120"/>
            <a:ext cx="81000" cy="88920"/>
          </a:xfrm>
          <a:custGeom>
            <a:avLst/>
            <a:gdLst/>
            <a:ahLst/>
            <a:rect l="l" t="t" r="r" b="b"/>
            <a:pathLst>
              <a:path w="224" h="249">
                <a:moveTo>
                  <a:pt x="21357" y="10740"/>
                </a:moveTo>
                <a:cubicBezTo>
                  <a:pt x="21434" y="10824"/>
                  <a:pt x="21487" y="10884"/>
                  <a:pt x="21580" y="10939"/>
                </a:cubicBezTo>
              </a:path>
              <a:path w="224" h="249">
                <a:moveTo>
                  <a:pt x="21555" y="10740"/>
                </a:moveTo>
                <a:cubicBezTo>
                  <a:pt x="21489" y="10872"/>
                  <a:pt x="21473" y="10906"/>
                  <a:pt x="21431" y="109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51200" y="4286160"/>
            <a:ext cx="2535480" cy="938160"/>
          </a:xfrm>
          <a:custGeom>
            <a:avLst/>
            <a:gdLst/>
            <a:ahLst/>
            <a:rect l="l" t="t" r="r" b="b"/>
            <a:pathLst>
              <a:path w="7045" h="2606">
                <a:moveTo>
                  <a:pt x="10716" y="12700"/>
                </a:moveTo>
                <a:cubicBezTo>
                  <a:pt x="10758" y="12674"/>
                  <a:pt x="11051" y="12517"/>
                  <a:pt x="10988" y="12700"/>
                </a:cubicBezTo>
                <a:cubicBezTo>
                  <a:pt x="10957" y="12789"/>
                  <a:pt x="10856" y="12842"/>
                  <a:pt x="10790" y="12898"/>
                </a:cubicBezTo>
                <a:cubicBezTo>
                  <a:pt x="10896" y="12819"/>
                  <a:pt x="10937" y="12794"/>
                  <a:pt x="11038" y="12824"/>
                </a:cubicBezTo>
                <a:cubicBezTo>
                  <a:pt x="11058" y="12937"/>
                  <a:pt x="10957" y="13291"/>
                  <a:pt x="10740" y="13146"/>
                </a:cubicBezTo>
                <a:cubicBezTo>
                  <a:pt x="10711" y="13026"/>
                  <a:pt x="10712" y="12974"/>
                  <a:pt x="10790" y="12898"/>
                </a:cubicBezTo>
              </a:path>
              <a:path w="7045" h="2606">
                <a:moveTo>
                  <a:pt x="11261" y="12402"/>
                </a:moveTo>
                <a:cubicBezTo>
                  <a:pt x="11358" y="12602"/>
                  <a:pt x="11460" y="12775"/>
                  <a:pt x="11485" y="12998"/>
                </a:cubicBezTo>
              </a:path>
              <a:path w="7045" h="2606">
                <a:moveTo>
                  <a:pt x="10864" y="13295"/>
                </a:moveTo>
                <a:cubicBezTo>
                  <a:pt x="11084" y="13257"/>
                  <a:pt x="11287" y="13229"/>
                  <a:pt x="11509" y="13221"/>
                </a:cubicBezTo>
              </a:path>
              <a:path w="7045" h="2606">
                <a:moveTo>
                  <a:pt x="11237" y="13419"/>
                </a:moveTo>
                <a:cubicBezTo>
                  <a:pt x="11176" y="13472"/>
                  <a:pt x="11107" y="13541"/>
                  <a:pt x="11038" y="13568"/>
                </a:cubicBezTo>
                <a:cubicBezTo>
                  <a:pt x="11060" y="13739"/>
                  <a:pt x="11154" y="13658"/>
                  <a:pt x="11286" y="13667"/>
                </a:cubicBezTo>
                <a:cubicBezTo>
                  <a:pt x="11398" y="13690"/>
                  <a:pt x="11433" y="13688"/>
                  <a:pt x="11460" y="13767"/>
                </a:cubicBezTo>
                <a:cubicBezTo>
                  <a:pt x="11370" y="13864"/>
                  <a:pt x="11101" y="14042"/>
                  <a:pt x="10964" y="13891"/>
                </a:cubicBezTo>
                <a:cubicBezTo>
                  <a:pt x="10956" y="13841"/>
                  <a:pt x="10947" y="13792"/>
                  <a:pt x="10939" y="13742"/>
                </a:cubicBezTo>
              </a:path>
              <a:path w="7045" h="2606">
                <a:moveTo>
                  <a:pt x="11931" y="13122"/>
                </a:moveTo>
                <a:cubicBezTo>
                  <a:pt x="12110" y="13182"/>
                  <a:pt x="12258" y="13323"/>
                  <a:pt x="12378" y="13494"/>
                </a:cubicBezTo>
                <a:cubicBezTo>
                  <a:pt x="12378" y="13502"/>
                  <a:pt x="12378" y="13511"/>
                  <a:pt x="12378" y="13519"/>
                </a:cubicBezTo>
              </a:path>
              <a:path w="7045" h="2606">
                <a:moveTo>
                  <a:pt x="12328" y="12998"/>
                </a:moveTo>
                <a:cubicBezTo>
                  <a:pt x="12250" y="13174"/>
                  <a:pt x="12175" y="13734"/>
                  <a:pt x="12154" y="13543"/>
                </a:cubicBezTo>
                <a:cubicBezTo>
                  <a:pt x="12154" y="13510"/>
                  <a:pt x="12154" y="13477"/>
                  <a:pt x="12154" y="13444"/>
                </a:cubicBezTo>
              </a:path>
              <a:path w="7045" h="2606">
                <a:moveTo>
                  <a:pt x="12700" y="13345"/>
                </a:moveTo>
                <a:cubicBezTo>
                  <a:pt x="12730" y="13340"/>
                  <a:pt x="13005" y="13316"/>
                  <a:pt x="12998" y="13370"/>
                </a:cubicBezTo>
                <a:cubicBezTo>
                  <a:pt x="12985" y="13469"/>
                  <a:pt x="12895" y="13520"/>
                  <a:pt x="12824" y="13568"/>
                </a:cubicBezTo>
                <a:cubicBezTo>
                  <a:pt x="12967" y="13568"/>
                  <a:pt x="13104" y="13584"/>
                  <a:pt x="12998" y="13767"/>
                </a:cubicBezTo>
                <a:cubicBezTo>
                  <a:pt x="12865" y="13996"/>
                  <a:pt x="12716" y="13893"/>
                  <a:pt x="12750" y="13692"/>
                </a:cubicBezTo>
              </a:path>
              <a:path w="7045" h="2606">
                <a:moveTo>
                  <a:pt x="13320" y="13370"/>
                </a:moveTo>
                <a:cubicBezTo>
                  <a:pt x="13353" y="13481"/>
                  <a:pt x="13394" y="13605"/>
                  <a:pt x="13419" y="13717"/>
                </a:cubicBezTo>
              </a:path>
              <a:path w="7045" h="2606">
                <a:moveTo>
                  <a:pt x="12700" y="13122"/>
                </a:moveTo>
                <a:cubicBezTo>
                  <a:pt x="12884" y="13057"/>
                  <a:pt x="13078" y="13024"/>
                  <a:pt x="13271" y="12973"/>
                </a:cubicBezTo>
              </a:path>
              <a:path w="7045" h="2606">
                <a:moveTo>
                  <a:pt x="13022" y="12278"/>
                </a:moveTo>
                <a:cubicBezTo>
                  <a:pt x="12892" y="12269"/>
                  <a:pt x="12774" y="12307"/>
                  <a:pt x="12774" y="12477"/>
                </a:cubicBezTo>
                <a:cubicBezTo>
                  <a:pt x="12782" y="12493"/>
                  <a:pt x="12791" y="12510"/>
                  <a:pt x="12799" y="12526"/>
                </a:cubicBezTo>
                <a:cubicBezTo>
                  <a:pt x="12922" y="12480"/>
                  <a:pt x="12963" y="12454"/>
                  <a:pt x="13047" y="12353"/>
                </a:cubicBezTo>
                <a:cubicBezTo>
                  <a:pt x="13047" y="12511"/>
                  <a:pt x="13065" y="12666"/>
                  <a:pt x="13072" y="12824"/>
                </a:cubicBezTo>
              </a:path>
              <a:path w="7045" h="2606">
                <a:moveTo>
                  <a:pt x="12675" y="13543"/>
                </a:moveTo>
                <a:cubicBezTo>
                  <a:pt x="12967" y="13553"/>
                  <a:pt x="13256" y="13583"/>
                  <a:pt x="13543" y="13643"/>
                </a:cubicBezTo>
                <a:cubicBezTo>
                  <a:pt x="13568" y="13651"/>
                  <a:pt x="13593" y="13659"/>
                  <a:pt x="13618" y="13667"/>
                </a:cubicBezTo>
              </a:path>
              <a:path w="7045" h="2606">
                <a:moveTo>
                  <a:pt x="13370" y="14362"/>
                </a:moveTo>
                <a:cubicBezTo>
                  <a:pt x="13388" y="14453"/>
                  <a:pt x="13397" y="14460"/>
                  <a:pt x="13395" y="14511"/>
                </a:cubicBezTo>
              </a:path>
              <a:path w="7045" h="2606">
                <a:moveTo>
                  <a:pt x="10418" y="12551"/>
                </a:moveTo>
                <a:cubicBezTo>
                  <a:pt x="10731" y="12514"/>
                  <a:pt x="11014" y="12650"/>
                  <a:pt x="11311" y="12750"/>
                </a:cubicBezTo>
                <a:cubicBezTo>
                  <a:pt x="11396" y="12779"/>
                  <a:pt x="11470" y="12829"/>
                  <a:pt x="11485" y="12799"/>
                </a:cubicBezTo>
              </a:path>
              <a:path w="7045" h="2606">
                <a:moveTo>
                  <a:pt x="10616" y="11906"/>
                </a:moveTo>
                <a:cubicBezTo>
                  <a:pt x="10652" y="12105"/>
                  <a:pt x="10683" y="12303"/>
                  <a:pt x="10716" y="12502"/>
                </a:cubicBezTo>
              </a:path>
              <a:path w="7045" h="2606">
                <a:moveTo>
                  <a:pt x="13866" y="12998"/>
                </a:moveTo>
                <a:cubicBezTo>
                  <a:pt x="13975" y="12986"/>
                  <a:pt x="14095" y="12950"/>
                  <a:pt x="14188" y="12973"/>
                </a:cubicBezTo>
              </a:path>
              <a:path w="7045" h="2606">
                <a:moveTo>
                  <a:pt x="13965" y="13171"/>
                </a:moveTo>
                <a:cubicBezTo>
                  <a:pt x="14015" y="13163"/>
                  <a:pt x="14064" y="13154"/>
                  <a:pt x="14114" y="13146"/>
                </a:cubicBezTo>
              </a:path>
              <a:path w="7045" h="2606">
                <a:moveTo>
                  <a:pt x="14114" y="13146"/>
                </a:moveTo>
                <a:lnTo>
                  <a:pt x="14114" y="13146"/>
                </a:lnTo>
              </a:path>
              <a:path w="7045" h="2606">
                <a:moveTo>
                  <a:pt x="14709" y="12526"/>
                </a:moveTo>
                <a:cubicBezTo>
                  <a:pt x="14502" y="12462"/>
                  <a:pt x="14474" y="12514"/>
                  <a:pt x="14436" y="12725"/>
                </a:cubicBezTo>
                <a:cubicBezTo>
                  <a:pt x="14607" y="12734"/>
                  <a:pt x="14623" y="12732"/>
                  <a:pt x="14759" y="12626"/>
                </a:cubicBezTo>
                <a:cubicBezTo>
                  <a:pt x="14774" y="12815"/>
                  <a:pt x="14800" y="12983"/>
                  <a:pt x="14784" y="13171"/>
                </a:cubicBezTo>
              </a:path>
              <a:path w="7045" h="2606">
                <a:moveTo>
                  <a:pt x="14734" y="13246"/>
                </a:moveTo>
                <a:cubicBezTo>
                  <a:pt x="14895" y="13205"/>
                  <a:pt x="14929" y="13210"/>
                  <a:pt x="15007" y="13146"/>
                </a:cubicBezTo>
              </a:path>
              <a:path w="7045" h="2606">
                <a:moveTo>
                  <a:pt x="14709" y="13543"/>
                </a:moveTo>
                <a:cubicBezTo>
                  <a:pt x="14615" y="13535"/>
                  <a:pt x="14546" y="13548"/>
                  <a:pt x="14536" y="13667"/>
                </a:cubicBezTo>
                <a:cubicBezTo>
                  <a:pt x="14531" y="13723"/>
                  <a:pt x="14547" y="13785"/>
                  <a:pt x="14610" y="13791"/>
                </a:cubicBezTo>
                <a:cubicBezTo>
                  <a:pt x="14796" y="13810"/>
                  <a:pt x="14820" y="13796"/>
                  <a:pt x="14957" y="13915"/>
                </a:cubicBezTo>
                <a:cubicBezTo>
                  <a:pt x="14823" y="14116"/>
                  <a:pt x="14719" y="14075"/>
                  <a:pt x="14511" y="13990"/>
                </a:cubicBezTo>
              </a:path>
              <a:path w="7045" h="2606">
                <a:moveTo>
                  <a:pt x="14759" y="13494"/>
                </a:moveTo>
                <a:cubicBezTo>
                  <a:pt x="14844" y="13430"/>
                  <a:pt x="14864" y="13418"/>
                  <a:pt x="14908" y="13370"/>
                </a:cubicBezTo>
              </a:path>
              <a:path w="7045" h="2606">
                <a:moveTo>
                  <a:pt x="14238" y="13320"/>
                </a:moveTo>
                <a:cubicBezTo>
                  <a:pt x="14457" y="13271"/>
                  <a:pt x="14727" y="13328"/>
                  <a:pt x="14932" y="13246"/>
                </a:cubicBezTo>
                <a:cubicBezTo>
                  <a:pt x="14940" y="13229"/>
                  <a:pt x="14949" y="13213"/>
                  <a:pt x="14957" y="13196"/>
                </a:cubicBezTo>
              </a:path>
              <a:path w="7045" h="2606">
                <a:moveTo>
                  <a:pt x="15404" y="13444"/>
                </a:moveTo>
                <a:cubicBezTo>
                  <a:pt x="15502" y="13421"/>
                  <a:pt x="15551" y="13419"/>
                  <a:pt x="15652" y="13419"/>
                </a:cubicBezTo>
              </a:path>
              <a:path w="7045" h="2606">
                <a:moveTo>
                  <a:pt x="15354" y="13643"/>
                </a:moveTo>
                <a:cubicBezTo>
                  <a:pt x="15498" y="13643"/>
                  <a:pt x="15543" y="13645"/>
                  <a:pt x="15627" y="13593"/>
                </a:cubicBezTo>
              </a:path>
              <a:path w="7045" h="2606">
                <a:moveTo>
                  <a:pt x="15627" y="13593"/>
                </a:moveTo>
                <a:lnTo>
                  <a:pt x="15627" y="13593"/>
                </a:lnTo>
              </a:path>
              <a:path w="7045" h="2606">
                <a:moveTo>
                  <a:pt x="15875" y="13047"/>
                </a:moveTo>
                <a:cubicBezTo>
                  <a:pt x="15934" y="13304"/>
                  <a:pt x="16014" y="13552"/>
                  <a:pt x="16049" y="13816"/>
                </a:cubicBezTo>
                <a:cubicBezTo>
                  <a:pt x="16049" y="13833"/>
                  <a:pt x="16049" y="13849"/>
                  <a:pt x="16049" y="13866"/>
                </a:cubicBezTo>
              </a:path>
              <a:path w="7045" h="2606">
                <a:moveTo>
                  <a:pt x="16272" y="12725"/>
                </a:moveTo>
                <a:cubicBezTo>
                  <a:pt x="16272" y="12799"/>
                  <a:pt x="16276" y="12855"/>
                  <a:pt x="16297" y="12923"/>
                </a:cubicBezTo>
                <a:cubicBezTo>
                  <a:pt x="16459" y="12923"/>
                  <a:pt x="16461" y="12905"/>
                  <a:pt x="16545" y="12774"/>
                </a:cubicBezTo>
              </a:path>
              <a:path w="7045" h="2606">
                <a:moveTo>
                  <a:pt x="16446" y="12601"/>
                </a:moveTo>
                <a:cubicBezTo>
                  <a:pt x="16493" y="12828"/>
                  <a:pt x="16514" y="13043"/>
                  <a:pt x="16495" y="13271"/>
                </a:cubicBezTo>
              </a:path>
              <a:path w="7045" h="2606">
                <a:moveTo>
                  <a:pt x="16371" y="13419"/>
                </a:moveTo>
                <a:cubicBezTo>
                  <a:pt x="16514" y="13391"/>
                  <a:pt x="16652" y="13357"/>
                  <a:pt x="16793" y="13320"/>
                </a:cubicBezTo>
              </a:path>
              <a:path w="7045" h="2606">
                <a:moveTo>
                  <a:pt x="16694" y="13543"/>
                </a:moveTo>
                <a:cubicBezTo>
                  <a:pt x="16607" y="13563"/>
                  <a:pt x="16511" y="13588"/>
                  <a:pt x="16470" y="13667"/>
                </a:cubicBezTo>
                <a:cubicBezTo>
                  <a:pt x="16564" y="13796"/>
                  <a:pt x="16546" y="13774"/>
                  <a:pt x="16694" y="13791"/>
                </a:cubicBezTo>
                <a:cubicBezTo>
                  <a:pt x="16932" y="13819"/>
                  <a:pt x="17007" y="14054"/>
                  <a:pt x="16718" y="14089"/>
                </a:cubicBezTo>
                <a:cubicBezTo>
                  <a:pt x="16556" y="14062"/>
                  <a:pt x="16497" y="14042"/>
                  <a:pt x="16446" y="13915"/>
                </a:cubicBezTo>
              </a:path>
              <a:path w="7045" h="2606">
                <a:moveTo>
                  <a:pt x="15453" y="13816"/>
                </a:moveTo>
                <a:cubicBezTo>
                  <a:pt x="15651" y="14039"/>
                  <a:pt x="15860" y="14252"/>
                  <a:pt x="16148" y="14412"/>
                </a:cubicBezTo>
                <a:cubicBezTo>
                  <a:pt x="16565" y="14644"/>
                  <a:pt x="16897" y="14470"/>
                  <a:pt x="17165" y="14114"/>
                </a:cubicBezTo>
                <a:cubicBezTo>
                  <a:pt x="17572" y="13572"/>
                  <a:pt x="17608" y="12766"/>
                  <a:pt x="16942" y="12402"/>
                </a:cubicBezTo>
                <a:cubicBezTo>
                  <a:pt x="16533" y="12179"/>
                  <a:pt x="15565" y="12076"/>
                  <a:pt x="15255" y="12526"/>
                </a:cubicBezTo>
                <a:cubicBezTo>
                  <a:pt x="14726" y="13294"/>
                  <a:pt x="15234" y="13815"/>
                  <a:pt x="15776" y="142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19920" y="4411800"/>
            <a:ext cx="1957320" cy="963360"/>
          </a:xfrm>
          <a:custGeom>
            <a:avLst/>
            <a:gdLst/>
            <a:ahLst/>
            <a:rect l="l" t="t" r="r" b="b"/>
            <a:pathLst>
              <a:path w="5433" h="2679">
                <a:moveTo>
                  <a:pt x="21307" y="13395"/>
                </a:moveTo>
                <a:cubicBezTo>
                  <a:pt x="21205" y="13462"/>
                  <a:pt x="21128" y="13515"/>
                  <a:pt x="21034" y="13593"/>
                </a:cubicBezTo>
                <a:cubicBezTo>
                  <a:pt x="21098" y="13713"/>
                  <a:pt x="21341" y="13844"/>
                  <a:pt x="21307" y="14015"/>
                </a:cubicBezTo>
                <a:cubicBezTo>
                  <a:pt x="21236" y="14110"/>
                  <a:pt x="21215" y="14142"/>
                  <a:pt x="21134" y="14163"/>
                </a:cubicBezTo>
                <a:cubicBezTo>
                  <a:pt x="21119" y="13954"/>
                  <a:pt x="21272" y="13830"/>
                  <a:pt x="21282" y="13618"/>
                </a:cubicBezTo>
                <a:cubicBezTo>
                  <a:pt x="21260" y="13526"/>
                  <a:pt x="21254" y="13501"/>
                  <a:pt x="21233" y="13444"/>
                </a:cubicBezTo>
              </a:path>
              <a:path w="5433" h="2679">
                <a:moveTo>
                  <a:pt x="20886" y="13271"/>
                </a:moveTo>
                <a:cubicBezTo>
                  <a:pt x="21033" y="13244"/>
                  <a:pt x="21261" y="13156"/>
                  <a:pt x="21382" y="13171"/>
                </a:cubicBezTo>
              </a:path>
              <a:path w="5433" h="2679">
                <a:moveTo>
                  <a:pt x="20786" y="12700"/>
                </a:moveTo>
                <a:cubicBezTo>
                  <a:pt x="20860" y="12681"/>
                  <a:pt x="21094" y="12568"/>
                  <a:pt x="21059" y="12750"/>
                </a:cubicBezTo>
                <a:cubicBezTo>
                  <a:pt x="21013" y="12819"/>
                  <a:pt x="21001" y="12839"/>
                  <a:pt x="20960" y="12874"/>
                </a:cubicBezTo>
                <a:cubicBezTo>
                  <a:pt x="21073" y="12874"/>
                  <a:pt x="21245" y="12884"/>
                  <a:pt x="21233" y="13047"/>
                </a:cubicBezTo>
                <a:cubicBezTo>
                  <a:pt x="21214" y="13311"/>
                  <a:pt x="20927" y="13173"/>
                  <a:pt x="20811" y="13146"/>
                </a:cubicBezTo>
              </a:path>
              <a:path w="5433" h="2679">
                <a:moveTo>
                  <a:pt x="19645" y="12923"/>
                </a:moveTo>
                <a:cubicBezTo>
                  <a:pt x="19857" y="13012"/>
                  <a:pt x="20044" y="13086"/>
                  <a:pt x="20265" y="13146"/>
                </a:cubicBezTo>
              </a:path>
              <a:path w="5433" h="2679">
                <a:moveTo>
                  <a:pt x="19224" y="12254"/>
                </a:moveTo>
                <a:cubicBezTo>
                  <a:pt x="19236" y="12486"/>
                  <a:pt x="19247" y="12718"/>
                  <a:pt x="19273" y="12948"/>
                </a:cubicBezTo>
              </a:path>
              <a:path w="5433" h="2679">
                <a:moveTo>
                  <a:pt x="20960" y="13791"/>
                </a:moveTo>
                <a:cubicBezTo>
                  <a:pt x="21157" y="13850"/>
                  <a:pt x="21354" y="13953"/>
                  <a:pt x="21530" y="14064"/>
                </a:cubicBezTo>
                <a:cubicBezTo>
                  <a:pt x="21616" y="14129"/>
                  <a:pt x="21650" y="14137"/>
                  <a:pt x="21630" y="14213"/>
                </a:cubicBezTo>
              </a:path>
              <a:path w="5433" h="2679">
                <a:moveTo>
                  <a:pt x="21506" y="14511"/>
                </a:moveTo>
                <a:cubicBezTo>
                  <a:pt x="21506" y="14651"/>
                  <a:pt x="21506" y="14792"/>
                  <a:pt x="21506" y="14932"/>
                </a:cubicBezTo>
              </a:path>
              <a:path w="5433" h="2679">
                <a:moveTo>
                  <a:pt x="21704" y="13246"/>
                </a:moveTo>
                <a:cubicBezTo>
                  <a:pt x="21819" y="13207"/>
                  <a:pt x="21867" y="13183"/>
                  <a:pt x="21977" y="13246"/>
                </a:cubicBezTo>
              </a:path>
              <a:path w="5433" h="2679">
                <a:moveTo>
                  <a:pt x="21878" y="13370"/>
                </a:moveTo>
                <a:cubicBezTo>
                  <a:pt x="21936" y="13345"/>
                  <a:pt x="21993" y="13320"/>
                  <a:pt x="22051" y="13295"/>
                </a:cubicBezTo>
              </a:path>
              <a:path w="5433" h="2679">
                <a:moveTo>
                  <a:pt x="22051" y="13295"/>
                </a:moveTo>
                <a:lnTo>
                  <a:pt x="22051" y="13295"/>
                </a:lnTo>
              </a:path>
              <a:path w="5433" h="2679">
                <a:moveTo>
                  <a:pt x="22399" y="12799"/>
                </a:moveTo>
                <a:cubicBezTo>
                  <a:pt x="22478" y="12799"/>
                  <a:pt x="22627" y="12799"/>
                  <a:pt x="22547" y="12923"/>
                </a:cubicBezTo>
                <a:cubicBezTo>
                  <a:pt x="22460" y="13010"/>
                  <a:pt x="22441" y="13034"/>
                  <a:pt x="22374" y="13072"/>
                </a:cubicBezTo>
                <a:cubicBezTo>
                  <a:pt x="22556" y="13072"/>
                  <a:pt x="22484" y="13073"/>
                  <a:pt x="22647" y="13171"/>
                </a:cubicBezTo>
                <a:cubicBezTo>
                  <a:pt x="22574" y="13405"/>
                  <a:pt x="22465" y="13411"/>
                  <a:pt x="22250" y="13320"/>
                </a:cubicBezTo>
              </a:path>
              <a:path w="5433" h="2679">
                <a:moveTo>
                  <a:pt x="22324" y="13568"/>
                </a:moveTo>
                <a:cubicBezTo>
                  <a:pt x="22484" y="13536"/>
                  <a:pt x="22610" y="13509"/>
                  <a:pt x="22771" y="13494"/>
                </a:cubicBezTo>
              </a:path>
              <a:path w="5433" h="2679">
                <a:moveTo>
                  <a:pt x="22498" y="13791"/>
                </a:moveTo>
                <a:cubicBezTo>
                  <a:pt x="22498" y="13992"/>
                  <a:pt x="22510" y="14187"/>
                  <a:pt x="22523" y="14387"/>
                </a:cubicBezTo>
              </a:path>
              <a:path w="5433" h="2679">
                <a:moveTo>
                  <a:pt x="23118" y="13395"/>
                </a:moveTo>
                <a:cubicBezTo>
                  <a:pt x="23205" y="13378"/>
                  <a:pt x="23267" y="13336"/>
                  <a:pt x="23267" y="13395"/>
                </a:cubicBezTo>
              </a:path>
              <a:path w="5433" h="2679">
                <a:moveTo>
                  <a:pt x="23068" y="13593"/>
                </a:moveTo>
                <a:cubicBezTo>
                  <a:pt x="23248" y="13563"/>
                  <a:pt x="23326" y="13542"/>
                  <a:pt x="23440" y="13469"/>
                </a:cubicBezTo>
              </a:path>
              <a:path w="5433" h="2679">
                <a:moveTo>
                  <a:pt x="23440" y="13469"/>
                </a:moveTo>
                <a:lnTo>
                  <a:pt x="23440" y="13469"/>
                </a:lnTo>
              </a:path>
              <a:path w="5433" h="2679">
                <a:moveTo>
                  <a:pt x="23837" y="13171"/>
                </a:moveTo>
                <a:cubicBezTo>
                  <a:pt x="23944" y="13181"/>
                  <a:pt x="24318" y="13214"/>
                  <a:pt x="24085" y="13395"/>
                </a:cubicBezTo>
                <a:cubicBezTo>
                  <a:pt x="24044" y="13411"/>
                  <a:pt x="24002" y="13428"/>
                  <a:pt x="23961" y="13444"/>
                </a:cubicBezTo>
                <a:cubicBezTo>
                  <a:pt x="23953" y="13452"/>
                  <a:pt x="23945" y="13461"/>
                  <a:pt x="23937" y="13469"/>
                </a:cubicBezTo>
                <a:cubicBezTo>
                  <a:pt x="24083" y="13448"/>
                  <a:pt x="24324" y="13512"/>
                  <a:pt x="24160" y="13717"/>
                </a:cubicBezTo>
                <a:cubicBezTo>
                  <a:pt x="24041" y="13866"/>
                  <a:pt x="23922" y="13782"/>
                  <a:pt x="23812" y="13717"/>
                </a:cubicBezTo>
              </a:path>
              <a:path w="5433" h="2679">
                <a:moveTo>
                  <a:pt x="23639" y="14163"/>
                </a:moveTo>
                <a:cubicBezTo>
                  <a:pt x="24028" y="14291"/>
                  <a:pt x="24258" y="14370"/>
                  <a:pt x="24507" y="13965"/>
                </a:cubicBezTo>
                <a:cubicBezTo>
                  <a:pt x="24816" y="13463"/>
                  <a:pt x="24620" y="13001"/>
                  <a:pt x="24061" y="12799"/>
                </a:cubicBezTo>
                <a:cubicBezTo>
                  <a:pt x="23050" y="12433"/>
                  <a:pt x="23188" y="13348"/>
                  <a:pt x="23490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37080" y="3902040"/>
            <a:ext cx="61920" cy="135000"/>
          </a:xfrm>
          <a:custGeom>
            <a:avLst/>
            <a:gdLst/>
            <a:ahLst/>
            <a:rect l="l" t="t" r="r" b="b"/>
            <a:pathLst>
              <a:path w="174" h="373">
                <a:moveTo>
                  <a:pt x="12601" y="10840"/>
                </a:moveTo>
                <a:cubicBezTo>
                  <a:pt x="12675" y="10912"/>
                  <a:pt x="12765" y="11002"/>
                  <a:pt x="12774" y="11112"/>
                </a:cubicBezTo>
                <a:cubicBezTo>
                  <a:pt x="12766" y="11112"/>
                  <a:pt x="12758" y="11112"/>
                  <a:pt x="12750" y="11112"/>
                </a:cubicBezTo>
              </a:path>
              <a:path w="174" h="373">
                <a:moveTo>
                  <a:pt x="12725" y="10840"/>
                </a:moveTo>
                <a:cubicBezTo>
                  <a:pt x="12673" y="10970"/>
                  <a:pt x="12641" y="11080"/>
                  <a:pt x="12601" y="112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3259080"/>
            <a:ext cx="54000" cy="108000"/>
          </a:xfrm>
          <a:custGeom>
            <a:avLst/>
            <a:gdLst/>
            <a:ahLst/>
            <a:rect l="l" t="t" r="r" b="b"/>
            <a:pathLst>
              <a:path w="150" h="298">
                <a:moveTo>
                  <a:pt x="12750" y="9079"/>
                </a:moveTo>
                <a:cubicBezTo>
                  <a:pt x="12750" y="9001"/>
                  <a:pt x="12795" y="9261"/>
                  <a:pt x="12799" y="9277"/>
                </a:cubicBezTo>
                <a:cubicBezTo>
                  <a:pt x="12819" y="9317"/>
                  <a:pt x="12828" y="9324"/>
                  <a:pt x="12824" y="9351"/>
                </a:cubicBezTo>
              </a:path>
              <a:path w="150" h="298">
                <a:moveTo>
                  <a:pt x="12700" y="9302"/>
                </a:moveTo>
                <a:cubicBezTo>
                  <a:pt x="12770" y="9255"/>
                  <a:pt x="12790" y="9238"/>
                  <a:pt x="12849" y="92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97880" y="3232080"/>
            <a:ext cx="125280" cy="108000"/>
          </a:xfrm>
          <a:custGeom>
            <a:avLst/>
            <a:gdLst/>
            <a:ahLst/>
            <a:rect l="l" t="t" r="r" b="b"/>
            <a:pathLst>
              <a:path w="348" h="299">
                <a:moveTo>
                  <a:pt x="21530" y="8979"/>
                </a:moveTo>
                <a:cubicBezTo>
                  <a:pt x="21530" y="9082"/>
                  <a:pt x="21528" y="9180"/>
                  <a:pt x="21506" y="9277"/>
                </a:cubicBezTo>
              </a:path>
              <a:path w="348" h="299">
                <a:moveTo>
                  <a:pt x="21382" y="9227"/>
                </a:moveTo>
                <a:cubicBezTo>
                  <a:pt x="21558" y="9227"/>
                  <a:pt x="21618" y="9226"/>
                  <a:pt x="21729" y="91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0:59:01Z</dcterms:created>
  <dc:creator>ccps</dc:creator>
  <dc:description/>
  <dc:language>en-US</dc:language>
  <cp:lastModifiedBy>deanne elizabeth mcgrath</cp:lastModifiedBy>
  <dcterms:modified xsi:type="dcterms:W3CDTF">2011-03-11T18:21:53Z</dcterms:modified>
  <cp:revision>12</cp:revision>
  <dc:subject/>
  <dc:title>Obj 5.4:  To divide fractions &amp; mixed numbers.</dc:title>
</cp:coreProperties>
</file>